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2AD-3D4B-4DDF-B520-E95D34D107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C516-33F5-4FAF-BC1F-616F958BE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51F-13EE-434F-AA13-BA8A4185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ABC-7BDC-437B-BD58-8F5C3034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C16-CBDF-4E0E-949D-F1CD4712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7C3-AC63-41BF-8116-08302CF0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397-36D2-4144-8334-C825866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891-65EE-47E2-B1D2-0B76B6EC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1F8-49C7-47E1-ACD6-23810EE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2DA-5725-4672-894F-4D6A2950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0A5-702B-47CD-9AC5-4A38155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1E6-1289-445B-8D31-43BEA5B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5A2-AFFE-4050-B023-29623F6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663-B10E-4F81-9534-252F6178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625D-5A78-4988-BB11-26ECFA4808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614E-A7C9-498E-8F42-9948239BB9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D9F-F3D7-4D69-A606-29BB838BFE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各班導師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22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920" y="1052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349"/>
              </a:spcBef>
              <a:buClr>
                <a:srgbClr val="c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2/16-2/19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 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大學校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     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返校座談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(</a:t>
            </a:r>
            <a:r>
              <a:rPr b="0" lang="zh-TW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高三學程班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2/16</a:t>
            </a:r>
            <a:r>
              <a:rPr b="0" lang="zh-TW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 </a:t>
            </a:r>
            <a:r>
              <a:rPr b="0" lang="zh-TW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學習中心開始上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3.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2/18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 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國三技藝開始上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32CD-1FE2-48C1-850A-673C4C135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圖片 4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61" name="圖片 5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BA5-C8C1-43D4-AB47-275D0C1FA8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2276640" y="2637000"/>
            <a:ext cx="4276440" cy="3501720"/>
          </a:xfrm>
          <a:prstGeom prst="rect">
            <a:avLst/>
          </a:prstGeom>
          <a:ln w="0">
            <a:noFill/>
          </a:ln>
        </p:spPr>
      </p:pic>
      <p:pic>
        <p:nvPicPr>
          <p:cNvPr id="64" name="矩形 6" descr=""/>
          <p:cNvPicPr/>
          <p:nvPr/>
        </p:nvPicPr>
        <p:blipFill>
          <a:blip r:embed="rId2"/>
          <a:stretch/>
        </p:blipFill>
        <p:spPr>
          <a:xfrm>
            <a:off x="1200240" y="1090440"/>
            <a:ext cx="64198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1-15T07:35:58Z</dcterms:modified>
  <cp:revision>516</cp:revision>
  <dc:subject/>
  <dc:title>初級資訊種子學校 第三次執行情形研討會</dc:title>
</cp:coreProperties>
</file>