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67E-0AB1-4445-9466-EFDD104E5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91F-0876-4245-8F0E-29794DC46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584-D4CF-4D28-A7D4-CC109DB5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B7B-4C1B-4902-9391-0C32FD1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2BC-DC84-4D2D-81CF-3476738A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6D6-BDF2-48C4-9111-9088A983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286-CFB5-4623-938D-29EC75A7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818-1302-47DF-AA0C-88EC8C7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68B-4672-4DD2-8AB5-9546F3DB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C2B-6244-4B15-9451-DA9CDF27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C3D-3665-44AE-AD63-C43DB9C7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A10-0C35-4992-8CDB-DA7AF7A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121-14BE-401E-9672-8568493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2B5-7C53-4C8A-80D6-31ADEFF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30E-9D4D-4511-8D78-8655078662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492-47E2-431C-A50E-C0FAF1F918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49320" y="184464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3200" spc="-1" strike="noStrike">
                <a:solidFill>
                  <a:srgbClr val="c00000"/>
                </a:solidFill>
                <a:latin typeface="Times New Roman"/>
              </a:rPr>
              <a:t>學年度第一學期末暨第二學期期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林美真 校長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0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748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第一學期校務工作檢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2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二、第二學期校務工作重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A97-1A3F-44BD-BE06-6686A8851D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6769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258920" y="9018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一學期校務工作檢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07880" y="1773360"/>
            <a:ext cx="847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部優質化計畫第三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局旗艦計畫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十二年國民基本教育實施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有效教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雲端學習平台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補救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適性輔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涯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創課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                                           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服務學習探索課程發展：關懷服務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多元學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閱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健康促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活教育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園空間改善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30EE-0307-4801-B90F-FA5C054A0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755640" y="8254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二學期校務發展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136520" y="1473120"/>
            <a:ext cx="703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推動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—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科技創新應用教育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備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育推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社群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準備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校務評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師教學檔案、領域教學研究會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行政法規、計畫、成果資料彙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籌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學年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70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周年校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籌備委員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校友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進行募款與活動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 ●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規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07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課程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219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祝福大家</a:t>
            </a:r>
            <a:r>
              <a:rPr b="0" lang="en-US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猴年猴賽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新年平安吉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743-2695-42B9-9BEF-23F40B977A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5" descr=""/>
          <p:cNvPicPr/>
          <p:nvPr/>
        </p:nvPicPr>
        <p:blipFill>
          <a:blip r:embed="rId1"/>
          <a:stretch/>
        </p:blipFill>
        <p:spPr>
          <a:xfrm>
            <a:off x="3908520" y="981000"/>
            <a:ext cx="47988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89A-CA4C-4ACA-B863-89FFD1AF54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8T08:18:37Z</dcterms:modified>
  <cp:revision>564</cp:revision>
  <dc:subject/>
  <dc:title>初級資訊種子學校 第三次執行情形研討會</dc:title>
</cp:coreProperties>
</file>