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2447-E41B-4084-A829-89E4EF3C03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7F5C-2252-4C86-85B4-F80603F325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CDC4-00DB-4FD2-9E37-77809223C2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0DC-C109-463F-9397-97198E5A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967-0C9B-49B9-8E77-A96F8E10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20E-6F1D-46D3-9A79-2CCA0CBE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3CB-3501-4043-AEFC-BB9BC59C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263-D715-4A8B-8DE5-F30F0161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E6A-E8A7-4244-BE37-CE6FF2AF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768-E6A4-4346-B2BB-8523720B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235-DCC4-4519-988A-3522D648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0BB-B987-46B7-A450-2B7CF8D8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506-4805-4021-B425-5684202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A0B-47A6-4847-BC81-9F244DF6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DCF-6C28-457A-8064-E4925DA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DC8D-039F-4BF9-998C-CD4DB4191A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3EE7-23F7-480B-AAFF-7DEB5CABCF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5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1198-E064-4001-B606-AC7A2C438A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新細明體"/>
              </a:rPr>
              <a:t>各班導師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/31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新細明體"/>
              </a:rPr>
              <a:t>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2DF9-85DE-4981-A226-A5AC16CF67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圖片 2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圖片 3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331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7-01-18T03:02:08Z</dcterms:modified>
  <cp:revision>518</cp:revision>
  <dc:subject/>
  <dc:title>初級資訊種子學校 第三次執行情形研討會</dc:title>
</cp:coreProperties>
</file>