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9E3-4C6D-4B50-86B3-79B2BF343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EE62-2185-4332-91F9-1DC4A0D99E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056-EA37-4898-8CAF-71A594EFA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F66-CC53-4909-A974-C40B1C9F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3A3-996A-41D7-BC9F-8471235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CEA-AAB5-4897-969E-4FF17CE9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7D9-4BF1-4ADA-8B58-3067B4A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4F4-302F-431F-803C-0EEC9A9D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204-EA11-4397-83A4-924EDAD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F2B-B009-4713-831F-D194011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4F0-5881-4070-9C52-7C18AD3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C9B-B6C8-4615-8390-8F830C97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0F1-169A-4B1C-89E1-EC40AA9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6D9-C2C1-4123-99BE-0E71274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F55-37ED-4653-8F91-207A7E4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6567-6116-441A-AE86-C58C37F8B5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C71-F7CC-45C9-9C4D-0D46669FF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4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FE51-8AFE-4BF0-88C6-502065E553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各班導師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6/3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1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632720" cy="4105080"/>
          </a:xfrm>
          <a:prstGeom prst="rect">
            <a:avLst/>
          </a:prstGeom>
          <a:ln w="0">
            <a:noFill/>
          </a:ln>
        </p:spPr>
      </p:pic>
      <p:sp>
        <p:nvSpPr>
          <p:cNvPr id="5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172-FC7A-478B-B1E0-50A5D607E8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圖片 2" descr=""/>
          <p:cNvPicPr/>
          <p:nvPr/>
        </p:nvPicPr>
        <p:blipFill>
          <a:blip r:embed="rId2"/>
          <a:stretch/>
        </p:blipFill>
        <p:spPr>
          <a:xfrm>
            <a:off x="5016600" y="4797360"/>
            <a:ext cx="2143080" cy="1656000"/>
          </a:xfrm>
          <a:prstGeom prst="rect">
            <a:avLst/>
          </a:prstGeom>
          <a:ln w="0">
            <a:noFill/>
          </a:ln>
        </p:spPr>
      </p:pic>
      <p:pic>
        <p:nvPicPr>
          <p:cNvPr id="61" name="圖片 3" descr=""/>
          <p:cNvPicPr/>
          <p:nvPr/>
        </p:nvPicPr>
        <p:blipFill>
          <a:blip r:embed="rId3"/>
          <a:stretch/>
        </p:blipFill>
        <p:spPr>
          <a:xfrm>
            <a:off x="1692360" y="4797360"/>
            <a:ext cx="3319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6-06-27T07:29:07Z</dcterms:modified>
  <cp:revision>517</cp:revision>
  <dc:subject/>
  <dc:title>初級資訊種子學校 第三次執行情形研討會</dc:title>
</cp:coreProperties>
</file>