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58E-85A7-495D-A69B-564D022B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84D-DC64-48EB-A9BE-91F16FF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9B4C6-1445-4930-ABAC-E6E1631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0CF91-E54D-48B1-BA70-20FB3D27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295E-9AC5-4690-90CF-AB121D4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C8D61-CED1-4AE2-AB8B-1F8EB52F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17059-04FB-4C97-A07D-9024DC9C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D9443-1378-41A2-BA4D-8484C8A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BB11-07A4-4930-B174-286BBAD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76F20-3EAD-4204-A823-C5D39290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C14F9-FD1E-4C8C-86D2-2EBED110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2ED26-011A-4080-8ED9-B410AE3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69E-A1B1-4966-8092-4AF0128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16750-52C1-4049-9E44-99FCCCB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2B53D-276C-4665-803A-5D1DC055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1B738-36FB-4CA0-8F9B-0CAC0065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93E75-A59B-4CC2-B244-985417E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4F712-4903-4C8C-9A20-BCFEFAAB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1DAAB-CEAF-4D2B-8867-FA679958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B3713-DDDB-4335-8D0B-884242C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33458-5D46-4268-A7DC-F97FC93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2006-C8AE-4B9E-A5F2-ECA1A54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A6AE9-BA4D-4644-A2A1-E831F1C9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D25-1C2B-4E72-93B4-A8E6AF3B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2761-4AC9-4874-95FC-A927AEAE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E2BFA-0E6D-4841-9789-A6883AD3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9EA6D-853F-4325-99E7-43BCFEE9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72A5C-3744-4E71-9900-A38A6FBD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55F71-DA74-4A13-B311-0319407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62CB9-5F21-4187-B0A3-E512F769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69DF1-D0EB-40A9-9A67-54BB390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8B82F-E04F-46BD-A12F-A8B105E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713AD-D986-49B4-9F51-CA4E73FD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0FCD4-D8C7-40CE-B9DE-C743C4B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525-D2D9-489D-ABC9-561C15EF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E996-5281-4FCE-A44D-3915246C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D3D4F-8DDD-49AC-9A3A-13B83F9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5130-CEAA-465E-B759-E1BB860F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F08FA-7B0C-4A38-9F6C-C1BBDB1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C5676-AE5C-4DAA-ADE1-FA75D7F5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E12C7-E1F1-4B71-A3F7-404CF66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F9F1A-4743-47DF-90B7-6C1D11CC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BC8FD-E465-4CC1-9526-1ACE1F08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AF532-8246-4F33-B47E-09EB43B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C87B0-A999-435D-8174-89F6C50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12F4-3EC6-46A8-A8F5-5D974B5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AFEB7-4A09-4C6D-999D-8F6143F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45A2A-FA7E-44C7-887D-325C4F3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44955-47D6-4B6C-B3B1-E92BB81E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0E3AC-5FEA-432F-B39A-309286C2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7665F-589E-4822-BB12-A29F4FD0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E8BC5-4F3B-4342-A7B1-D2A2356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361EE-0EBA-4B53-8143-7F9FAF5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8DFC8-F5AA-4E53-A5E2-19D6A2D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97ABF-4E4A-4B73-96EE-7D7D7BD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7E133-9697-4811-AB5E-67B6790F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761-CD56-47BB-BF7C-553FCE95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C2940-1A67-423E-99C4-96D063E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A9739-19CB-4A8B-BA6F-0086BEE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EECD2-D1B8-4E5B-9681-5DD49D3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4E9C7-5980-422E-85AC-F09BC02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8EBEE-93DB-49DD-9325-45BD2A3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65ED2-93A2-4870-8DB6-455462A5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45B1F-3622-4FCF-BB33-D9319283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C93BA-F4B6-46CE-BAAD-DB833038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3A8A7-2396-4380-BAB7-192BB0F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2E1BE-4AFF-45F4-9B47-7ABD170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6F5-7165-473A-9A6D-05A5B08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61E25-0A5B-463E-A93A-7EADBC70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C0789-D22C-4879-BEA5-103CBE4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F8033-58D5-4026-8CAA-1E30DF5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CE0D-BC55-4570-B174-90206C3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415AA-0EB4-4607-8B77-E0F5D37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A601F-0BEC-43F1-832A-BFAC4E8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52912-4CFC-4227-A897-CD0B6791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5DBA7-5FD9-48CA-9904-B44EDCC3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FD0D4-F4C6-4430-9FC6-9CB8BDD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5A173-F2EC-4ECB-BC81-C3620D79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929C-5935-453D-8A3D-F773A5D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074BD-1490-49BE-9328-53967F4C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D01C0-218D-441F-B27F-161AB8F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19EE3-D82D-4446-8D20-C9E2555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D145C-6180-4181-92CF-F235862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748DA-C097-4DBE-9086-23653C9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FD5AB-D900-4F41-87B0-43EF647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8BC29-958D-4A56-AA7D-ABF18C8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3E90D-0F65-4105-B475-6F19910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BBC44-5053-4B42-868D-809F9AAA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305A0-112B-451A-9D77-E918D02A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918-F902-4C6F-94E8-9CF3F1D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12B8D-FF6C-4481-8DBC-C342CCE9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C97EF-5BFE-4BCA-BFAC-7FACE59F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95A62-FBEF-4995-AA4D-7289DC6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9C8CE-7769-4002-9C2B-152A04C4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88C9C-2A62-460C-A73F-F881A13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6FB67-F7C7-4642-B305-E884659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CDA56-41BE-4226-9EEE-72800A0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E4BD2-B6DF-4296-A9E9-A87B0C1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00561-D76E-4AD7-8AF5-BC3A22A8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38C59-CCAC-475D-8A87-8505F8C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549E-6DE9-4142-8B4C-6528A00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F46FA-31BE-401E-8D7B-6C42504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9C5ED-A6F1-4E31-8FDF-C474A0E8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EBE05-38DF-426C-8A91-88B349EF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76F24-BC27-4270-9A48-C402338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EE3BA-DE65-41AF-B415-26096CDE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B9F53-281E-4723-8CC4-7F73544C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ED4B0-4761-4311-AD06-55FEF80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0B575-0EF8-4F33-B66A-BAAA7FEE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80973-94AA-41D7-A984-2AE26192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A54B8-6DA8-47C3-8B25-9C46159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56C-0398-4A4C-AC4C-E7E41A71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CC94-5BDC-4268-B06E-47378AF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163E3-E963-4F30-9C7B-1686F13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0F984-CB38-4C37-AC95-C72B037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CF10A-4966-4C15-AC90-708F618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741BE-8AE5-456B-B341-FAB21B8F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2C1C0-A944-44B5-ACFC-02B5C959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32F80-D959-47FB-AA54-B178F970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D9413-ED7F-439C-913A-E2E19BDA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F4D14-A63C-41E8-80E8-63E6B150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45750-BF1F-4E5F-B664-C7280A3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47F18-9942-4135-8C8E-995DB63E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6CD-7993-453A-A715-ECD967F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F4219-0570-4377-B629-651EE99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BAF2B-35A0-4E4A-9691-1D24AFF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5C25D-1834-441A-9DE2-927F7D3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7BCA1-EC79-4A6D-9215-FB0268D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E6FD1-BEBD-41B2-9A93-EE0F3EB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F9204-6AAA-4A16-8E13-6FB0AD8B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7AAC5-0368-4CDE-B56F-F7F07757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BA343-FDE0-4041-A8DF-5FFDA12E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4D852-717A-4A48-B239-4D797BE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A58FE-3404-42EC-BB58-C0C462D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5C9-2D20-4EC3-9664-3ABBE4F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6ABEC-DFD7-4070-AA08-CDB1FC3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BEA8A-A9EC-4B0A-BE3D-1C2CDE7E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D1544-C8A1-4119-BC26-F6DCC1C2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50360-CE92-40A6-BE00-765BADB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BE78C-31E4-4D72-A443-72C8C90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06E46-8FF9-4D41-BFB1-76F8128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6CF5C-283F-4739-ADA0-303BBFF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41B7E-29AA-48B9-A879-7D08C523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DC534-3E17-43E2-A846-3FB08B41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3ABC6-5E33-485C-A66B-D4D07B4D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C443-3A3A-4196-9C5F-1A189358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69C4C-4184-4219-B637-BFEE133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019DA-21B9-49C4-BD01-CD5FBEC7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F5A97-D3D2-4DCE-9DAC-DA2D421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72FEC-2B0C-4A59-BA0A-579FAD83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88578-4B9B-4C62-A86F-6B399F4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98D2A-376E-468E-B94F-E98C7EC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A150A-98B5-4204-9C65-23E1BD24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24256-CCBB-4139-B36C-416BA53E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8A342-5437-4E4F-807E-A4291079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EE779-1BA4-4967-A31B-313864BA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F93-407A-4EAC-8BC1-4B3723C7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16214-D8A3-4A2F-9662-3CA354D6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48B75-F716-4EA6-AE2B-A6489BC3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9125B-3EA8-4E64-B83D-9358B642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D6A99-E60B-4F26-9762-96632FD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9D9A9-1E83-44DB-ACDB-AE9139D2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C1BB8-DBFE-4E37-BBC4-B2B43C7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ED4B1-8EF6-481D-B8B1-8FD102C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68D47-9C35-4DA9-AD98-5DA9782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CB333-4872-4817-A61F-13493DB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DFDA2-ACC4-4F1D-AD77-E67C3F1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0946-892F-4C0C-A5AF-C8E83DD6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4FBC0-A626-4A4B-8036-47631F1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681AB-C806-4B0E-A405-0EB56DE4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C54B9-5D25-4DB8-BF5D-0508A3E2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064B48-6894-42EF-B24A-808FDD3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0944DC-A7F3-4755-A0BC-0498D0E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5F045-7796-4865-A984-5DCD35A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FE809-FC54-4B90-B460-2DB6E85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7E64D-D83C-4693-971B-B582976B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617E12-1496-4251-B540-08BC7FC2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EFDDF-8877-40DD-8720-3A0AB07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2B45-FFCD-4BCB-9DBB-A23805D4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EFE54D-9C01-489A-9C1E-DC53CCA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D33E8-A190-4870-99A7-2B1862E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C6672-FD5B-4F6B-AE5A-0C74EBF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77BD8-6D58-411F-A99C-8450F866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B459D-4812-43D2-800B-D64202F9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223914-E51E-48C5-B8DE-C595D2CC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8A930-8635-4A61-9796-B5761E80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F59D16-AA50-4FFB-A259-4F6748E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565C7A-1741-4E7B-B75E-8CFF923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E64561-517E-41CD-B51B-366D751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678-7810-4482-AC44-CD730B6B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6C7A6-D42A-4545-AE5C-9F1B15F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62B1CB-045B-4546-9423-10AD6C7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D5E64-A138-4A07-A51E-43BEC84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D81E83-FB88-4EF3-935B-3E90123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65B5FF-DA17-4671-95D7-2B9D8B8B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789F7D-9A43-4577-BFEE-0B08E018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2714A-A3E3-4D4B-9B16-276E1A64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CDE92-578A-41F7-88EB-E1211E9B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4D25EE-F221-40DB-8A8B-CEB5592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6E1F3-3E2D-4993-BF57-DF18979E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C94C-F26E-412F-9325-48C2E449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886A9-7F5D-48FE-9B47-138283AA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36ED19-A813-44D1-B298-36CB143F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55C1B4-CEA3-4914-933F-E922517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E851F-BE7E-45BA-9663-A344F7C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51383-7A78-4DE1-945C-8B75FB00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61B07-568A-4E66-929E-B857671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6055FD-7A10-4A2D-B169-4E226115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EDAC4C-DD3B-4E8A-936C-554DAF6C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1FCAD5-08CE-4A0B-AD1A-36AFD787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A77DCD-BA40-41D8-8725-FC67AFDC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0159-ACEB-4F1D-B626-60FD3511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B665E1-99A6-4FC4-93F5-29803958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9B546C-6882-4598-91E1-0379BBD2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F5015-38CC-4729-83AA-148EC52D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0255B8-9165-4175-854D-6D33614F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478823-C1FA-440D-90E2-2735758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304D22-37CD-4E9E-9753-7FA7F4B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1B7653-CD34-41F0-9367-4D28C4C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DE2B3A-0DB3-46EA-A4D0-55FD218F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2FC245-6BCA-4AE7-8A26-FD3834C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1B480F-EFF0-49A8-965A-002AC980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041-C368-46F8-9874-EC833F3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B6C7-2026-4562-92FC-411DF04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B31B46-41B1-4250-8B33-B402A1A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195AD-0841-4CBB-82C0-CB84792E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A523D-8A3E-47E8-9E5B-FC12098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DDB836-9A87-407A-A3F0-E6350612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FD28CE-26D1-4C53-8502-5195EE4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06D0B8-2C3D-4320-B0A0-6F08292F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A56C8A-7812-4ED7-86BE-4CDB048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6759E4-839E-44A1-8241-BE3FC75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DB988B-01DC-4C50-A3E6-391E84E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CFA96-3D57-4D34-B556-C24F586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E0BE-5FE0-4D36-9688-5B318325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739727-F241-49E7-82A2-72388F6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061C8D-EA3E-4F68-B596-656F7E6A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D77014-9929-46CD-AE43-5E90F070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54D9C-B784-49ED-B4DD-A3E182D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9D824-6640-4435-9348-3B23424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FA9CC1-F748-4A18-A357-64BC7D81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856C6D-E92A-4819-88EB-B38A0BF7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94E0C3-D9FD-4483-90BB-EBC8C50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B6DE3-49BA-479C-97C3-37F4555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E92E51-A2E9-4F7A-9E11-747C121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E0EB-A0A2-40DD-B037-67C19AA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A9E295-EB01-4E34-AD45-798106A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51BDBF-E5F0-4037-AF34-74B97F8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221628-8182-480C-A92B-D9BAC9E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9D619-1517-432F-B480-0FCA5407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4117AA-F283-4232-AA0B-F295C4CB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06CEC1-F0AD-40D1-AF43-E80C3A20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F8C2F-06EC-4B2B-B3F4-537D78F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23E82B-0BFC-4A97-9F95-C3F96FA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E8A42B-4CD3-4D18-848E-DCA2E8BB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4CA912-B586-4DC9-A852-C5CAC4C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03B5-07CF-43BE-8EB9-043C82A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41D646-EE54-485B-824B-B3603E6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BD0751-5A49-4A70-86AD-1C3B70E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F8B4F1-DA09-4722-82B0-F5AC7D10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0E0C7D-3B14-46E9-A94B-C0965E9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270E6F-9BD9-404C-92A4-F89AD98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EAB625-938F-4234-881E-C06A6200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B2649A-E18E-4475-BE20-1083B356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6CB0B7-DF71-4445-A2B7-FEEE38E5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2530A8-4730-4DE1-880A-F90FCBC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5214A5-86C5-4343-ADA3-94D2072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3447-66AA-4278-91D7-003914BA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09552D-B723-4F1F-936F-B86BDAE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441DE1-995D-4E42-B04E-F8E5202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40851E-BFCD-4340-9099-9D25648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B9B8FE-8C58-4403-A7CA-3989573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3607FF-177A-4ACD-B8B7-02133FE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5C27D2-F658-4679-A466-02AD39D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AAF3BA-C666-47DD-BE75-D1173B4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33557-44C3-47DC-9E2D-3449136E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98D744-3D18-4FD6-BDB1-8FD282AF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B13F30-DD82-4608-A47C-83F9DF15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8E00-293E-41E7-9715-2CC202C1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C23A10-A705-4F9B-BF85-62ADA86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CDACFE-7BD1-4F8F-97FB-6DE8128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9E245A-D3B7-4280-8024-345F8AF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01D48B-2C7C-4B7C-9C5D-B701854F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507528-DA65-4C94-88BC-C081D68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D8CF93-FFC1-42A8-87EF-73EC9CF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5A7BFE-44A5-4055-A85D-BA396F9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70A1DD-61F7-4486-BB6F-3C2EEAE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40AD07-397A-4F3F-830A-663F361D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94122-AFB4-43A0-B614-CB267DC1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63C2-BC3F-49F4-9856-A0A37098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028978-D85F-4814-A4C9-A73B6D1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DF438-DD8B-4F11-9A5C-CA6D7DDE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53492F-E200-43E4-AA6F-6BC7B59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130826-A776-4680-AFCA-6FCD96B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3D761-23E1-4E88-8FEB-E869C11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BD9C38-5342-402D-8F6E-F9F175FE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396284-3F56-4B80-B430-538539C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605A49-7833-4B42-8D2D-41E163D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FA58B6-2FD2-4C87-A79D-3BFA6E5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CCA611-42ED-4B99-94F7-7D3757B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4634-453E-42B3-A177-5705158E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B1D667-1947-45FF-8772-EA53335E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23249E-EBCF-4F7D-BAFF-CFE0FF15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C6B543-9D1B-4A08-A71A-006C45B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96E3FF-9157-4DF0-BE5E-BE915D51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33868D-E078-4989-98AC-6305C44A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FA8F1F-8D66-4BA1-B9FF-08A6307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D8BF61-5DF5-4231-911E-3C3D6FC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799F9C-B557-4D75-9302-86D0102A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F71CEE-89D8-453F-89EB-E91F850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8D796F-43D1-4FF1-9526-5D8A33F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FC32-DE76-469A-AE3F-298612F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353A7E-D09C-4628-AE8E-FBDBBAC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2FF4E5-57BA-42CC-99CD-22C7F96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CF9596-417E-4261-9B09-FD4D701D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F5E24C-F2E5-4BC1-98ED-559D0995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3F989A-2D9B-48D3-B25B-6052181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250C35-88C2-4EDD-AF6B-D3BD4645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C57F48-885B-4899-A26B-C888340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B35692-6BD4-483C-8764-54DA707D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9322E2-E407-49B1-9B92-9B07C649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C7D5C1-B39A-4928-9718-B40727C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63C3-8A0B-41C9-B515-1BA73400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58DBDF-C373-4A59-9108-F007A50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BB80A7-ECD0-418A-8A74-BD5AC20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B5E1EF-08F4-4D64-802D-E923AF9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2D4041-D1C5-4937-9ABB-E5543C1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43B803-E58D-4E63-A498-157B396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C668D6-6D43-43E2-9154-F07DFCF9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69AD4F-70AC-4CDB-A31E-8B0E2E47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5FFBA0-0CEA-4F1E-BEE8-40B0DDB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702FAD-2545-48DE-AE65-0F3E5CD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58F0AE-9648-45A7-8DED-3D45FFD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633-F19C-49BD-8D02-CA6ACE4D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EEAF-86F1-4EBF-B5C6-DBEEAE7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9FAA63-F73E-4600-8CE2-391A550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7DE24A-43D4-4EF2-91E1-A437C58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D5AE5C-8AFA-4EDC-B843-55A9B92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6258D6-17C4-4110-BFA2-9E266E4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FC4867-80A4-4FB2-AA87-F634C23C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179783-BEF5-4BA0-9B93-4FA48AC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380508-DC0D-4D3C-B8EF-79C8A24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7B3749-ABB2-46B1-8F88-09C51080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20B24C-E523-48BB-BB4F-30774B5A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0D403B-2943-41A9-A6FD-1669949E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7401-47C3-4DAD-91B5-E7D336C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C039DF-CB03-470E-8DB4-B0DC4EB6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5FA9E3-1E1B-4D3C-848E-61E3707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5F9ED1-E652-4A4A-859E-141405AB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0AAE71-5B7D-4715-8F31-A77D31D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89880C-92FC-41C6-B9EE-A7F7E96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436BF4-2B1D-45B4-8AAE-5B14C6E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4D1CDB-42CF-42D8-AAB8-A6170E9A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41981A-4E60-41BF-AD76-DD8B8EE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63DD09-85AF-40C7-B175-8F877E35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9BE922-712D-4339-824D-E84E9B8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3F28-E489-41CD-8E83-EBA65DBD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2C9FD5-81DA-47A5-A444-7E35A57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B6011A-5169-443A-ABCC-3969C73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88FDB9-06D8-47F5-A3CF-07446A9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DAC559-5147-4190-943B-73240C0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695E66-320D-4A1C-8993-0C008DC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E5F661-15B2-4E4D-B7CA-21CC17C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4605C4-E6BF-4D23-B3E1-3E6067F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85ECA9-5BCE-4D5A-BDD7-F701D6B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7B4575-D839-401C-ACE1-6A89987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D6EAF9-EDA4-493F-B60E-1516F682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A905-0AD9-4BDF-A443-5BD841C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42554F-3C27-416F-ADA8-7029494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38FA64-128A-4272-9B5B-196D755D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7D2B73-95ED-4BA8-8D49-DF20214C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358A-9D04-4328-9C2D-23E7A1D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80DD-B49B-49A5-9777-B264924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8B2E-70AD-4B78-A7BA-6428BB7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CAA8-9AC7-45FA-A0E7-23E07113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0CCB-8F25-4411-8C31-813AC61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E3D9-2628-4144-9A0C-F37AD065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6B4-6660-47E8-B568-49CBF11C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D5B4-1DB5-48C3-9BDC-E29122D0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CDA5-5F63-4AEA-8D9E-656D007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6451-B3D5-4150-94DB-2A1371E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3044-0808-468B-A195-4FA98F9D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9EF8-4A4B-4269-9A2B-AA7F862C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84A8-7337-4C7A-AB70-6EE42B65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36F6-0717-4A1F-B9A1-5F1D05D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CCB8-91F3-49CE-849D-02DD911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C02C-4C2E-4F0C-80B3-7475FF6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2442-FB1C-4F8D-A279-A482282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2A9-6B77-4246-AB9D-F1A358A6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1F77E-ED54-4A29-86F5-96B01DB1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7E65-B904-4260-A8B5-EDF4C45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BC23-0C50-4965-89F9-5DF29922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F584-746F-4899-9595-41AAEA2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3CD8-A851-442E-8E16-62536D9F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D47C-2507-48D4-B4FD-F2F592E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8341-AAB7-4DEE-B4C7-06864973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3CA7-3B22-49E5-9B18-ADF664E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205B8-881E-4C9C-B988-E6B1B33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0D52-EAB5-4D0D-B713-9955F8F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293-3B1A-47A0-AE15-4E49D45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8DF6-44BF-436B-8219-9A65DC6F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F95F-0C3A-46BD-BF3A-11290C8E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2C7F-759C-4111-9A2D-448EF2DF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303B-F510-406B-8C2F-4E54D7CA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7D708-BEAC-4352-AEA8-93B9D12E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D569-33B9-434F-AC6A-2771C8D1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B499-E471-416F-A5FA-F94AAC5D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AC79-BABC-4E83-B6AE-9B574CB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4BEE2-D7C4-468F-BBD6-9FC03B1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A955-CBCC-4769-ACAB-9087425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81C-E2C3-4B12-AA50-76031D5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F3A5-6ED2-4EF2-B41F-A4542F7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B71F-E6FB-48C1-8DC4-99676E0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0F55-8D46-480A-90EF-48FFA11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CEB0-1207-4FDD-B92B-8CF44D5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95FF4-D7D7-4687-A1CD-22C191DD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01107-297F-4AD9-B18F-6E113F78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5EBDD-DAB4-4935-B9B8-B388C992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44868-47F6-4F51-BA49-CC26E035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0E87E-8B86-4E2D-98E6-59F9C61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4E52-8B4E-4851-AF82-025F6EE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E42-483B-4005-8822-8DF1537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636EE-7CBF-48AB-A818-0E501DA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5721-6969-4F46-BF6A-9E6B6A0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69CD-FFBD-4C89-8FB1-01F85BF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296B-4542-42A5-BC8F-7384200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101A0-062C-4B4D-90EB-8CF2028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73E9-B653-4618-B930-5541BE76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E142A-B98A-41AE-9A8E-632230E8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15028-E4C5-4EB5-A671-7E12016B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20D53-1E11-4460-AFCD-1ACB039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8B4C6-7B73-46A0-8E03-D01C379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8145-9279-4C45-A579-2C4AE480D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703-74B8-46E1-A6AE-F8FD5B24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B9E-66A0-4FA3-AD4F-A3BC2E00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AFD-A578-4CCC-954F-5A18E5A2B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9BE-2444-4ABC-9979-AA7D0E03D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1AC0-2555-43B6-814D-30AD1A06D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C2D4-F3C9-4379-A458-AB4B16B5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97CE-B9FE-4004-9AD7-0163203C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209-C524-4E72-A9FC-8E82F7F35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3B4-18B6-42DD-A7DF-DA252E7F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551A-DD06-4A3C-9757-ECFBA06E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0BE2-2222-4427-B33A-33F15420F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E58E-1DFE-4F12-ABDA-2EDCC662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9574-2D3B-4C2A-892F-A015BAB1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F69-299B-4040-8192-F9BCB87D5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6AD1-642B-4346-9DB2-C50EF169E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426-9356-4FCB-8BBD-0784889A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A0EF-B552-4099-B6D8-A2841AB8F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FE6-F83F-4F59-BAD9-861D68590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6615-486D-4E5B-BFC1-0808039D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BD2-807B-4F7F-B2DF-F6FF5F09B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45F-C29B-4356-B631-C7622A53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CB84-B192-41E6-860C-8C5E9D65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E5F-61EC-4B1A-AEA9-38A42D8BB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0EE4-2C6C-4108-BCEF-FF05EC46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58EE-F044-4400-B176-65103C749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ECE-AA4D-423D-9D43-85280457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6B4-73DC-4991-9B50-E88DA6CB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401C-9CEA-4A18-A91F-6D8A786C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F8F-F45D-457C-A86B-CD0CC7B58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E3DD-54F0-45FD-AA1A-11DEB823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1CE-CF51-47D0-AD42-499720E2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10E1-03B4-4D8E-963B-CEC881283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E91-74FB-4DE2-8D6A-87475A43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CD6-7C22-4EF7-AE29-5A36F94A4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D8C0-EEF4-406D-A96D-841D9FBF5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Picture 6" descr="http://163.20.181.11/Picture/%2F%BE%5C%C5%AA%AC%A1%B0%CA%2F01020201%A8%AB%A7%DA%AD%CC%AC%DD%AE%D1%A5h--%B0%D1%C6%5B2013%B0%EA%BB%DA%AE%D1%AEi/images/fullsize/IMAG102020102.JPG"/>
          <p:cNvPicPr/>
          <p:nvPr/>
        </p:nvPicPr>
        <p:blipFill>
          <a:blip r:embed="rId1"/>
          <a:srcRect l="0" t="0" r="9547" b="15586"/>
          <a:stretch/>
        </p:blipFill>
        <p:spPr>
          <a:xfrm>
            <a:off x="9360" y="1751040"/>
            <a:ext cx="9144000" cy="5106960"/>
          </a:xfrm>
          <a:prstGeom prst="rect">
            <a:avLst/>
          </a:prstGeom>
          <a:ln w="0">
            <a:noFill/>
          </a:ln>
        </p:spPr>
      </p:pic>
      <p:sp>
        <p:nvSpPr>
          <p:cNvPr id="1477" name="文字方塊 2"/>
          <p:cNvSpPr/>
          <p:nvPr/>
        </p:nvSpPr>
        <p:spPr>
          <a:xfrm>
            <a:off x="1895040" y="457200"/>
            <a:ext cx="55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圖書館報告 </a:t>
            </a:r>
            <a:r>
              <a:rPr b="0" lang="en-US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2013/2/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字方塊 3"/>
          <p:cNvSpPr/>
          <p:nvPr/>
        </p:nvSpPr>
        <p:spPr>
          <a:xfrm>
            <a:off x="4768200" y="1936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參觀台北國際書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1" descr="遺體：日本311海嘯倖存者化悲慟為力量，安置熟人遺體、重建家園紀實"/>
          <p:cNvPicPr/>
          <p:nvPr/>
        </p:nvPicPr>
        <p:blipFill>
          <a:blip r:embed="rId1"/>
          <a:stretch/>
        </p:blipFill>
        <p:spPr>
          <a:xfrm>
            <a:off x="2781360" y="137160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3" descr="http://addons.books.com.tw/G/001/bc/5/0010564485_bc_01.jpg"/>
          <p:cNvPicPr/>
          <p:nvPr/>
        </p:nvPicPr>
        <p:blipFill>
          <a:blip r:embed="rId2"/>
          <a:stretch/>
        </p:blipFill>
        <p:spPr>
          <a:xfrm>
            <a:off x="4633920" y="3870360"/>
            <a:ext cx="1768320" cy="25462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5" descr="http://pic.eslite.com/Upload/Product/201301/m/634934898856847500.jpg"/>
          <p:cNvPicPr/>
          <p:nvPr/>
        </p:nvPicPr>
        <p:blipFill>
          <a:blip r:embed="rId3"/>
          <a:stretch/>
        </p:blipFill>
        <p:spPr>
          <a:xfrm>
            <a:off x="4613400" y="1325520"/>
            <a:ext cx="1778040" cy="252432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7" descr="反對完美：科技與人性的正義之戰"/>
          <p:cNvPicPr/>
          <p:nvPr/>
        </p:nvPicPr>
        <p:blipFill>
          <a:blip r:embed="rId4"/>
          <a:stretch/>
        </p:blipFill>
        <p:spPr>
          <a:xfrm>
            <a:off x="1009800" y="134784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9" descr="美援年代的鳥事並不如煙"/>
          <p:cNvPicPr/>
          <p:nvPr/>
        </p:nvPicPr>
        <p:blipFill>
          <a:blip r:embed="rId5"/>
          <a:stretch/>
        </p:blipFill>
        <p:spPr>
          <a:xfrm>
            <a:off x="6411960" y="1330200"/>
            <a:ext cx="1795320" cy="251316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1" descr="流麻溝十五號：綠島女生分隊及其他"/>
          <p:cNvPicPr/>
          <p:nvPr/>
        </p:nvPicPr>
        <p:blipFill>
          <a:blip r:embed="rId6"/>
          <a:stretch/>
        </p:blipFill>
        <p:spPr>
          <a:xfrm>
            <a:off x="1009800" y="389412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2" descr=""/>
          <p:cNvPicPr/>
          <p:nvPr/>
        </p:nvPicPr>
        <p:blipFill>
          <a:blip r:embed="rId7"/>
          <a:stretch/>
        </p:blipFill>
        <p:spPr>
          <a:xfrm>
            <a:off x="6405480" y="382572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4" descr="OK正傳"/>
          <p:cNvPicPr/>
          <p:nvPr/>
        </p:nvPicPr>
        <p:blipFill>
          <a:blip r:embed="rId8"/>
          <a:stretch/>
        </p:blipFill>
        <p:spPr>
          <a:xfrm>
            <a:off x="2811600" y="3894120"/>
            <a:ext cx="1801800" cy="25225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"/>
          <p:cNvSpPr/>
          <p:nvPr/>
        </p:nvSpPr>
        <p:spPr>
          <a:xfrm>
            <a:off x="144792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標楷體"/>
                <a:ea typeface="標楷體"/>
              </a:rPr>
              <a:t>春季新書好書推薦 </a:t>
            </a:r>
            <a:r>
              <a:rPr b="0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2013/1/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教師資訊研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資訊融入教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期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013/2/20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時間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6:1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室內設計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MS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Visio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期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013/3/6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時間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7:1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文字方塊 3"/>
          <p:cNvSpPr/>
          <p:nvPr/>
        </p:nvSpPr>
        <p:spPr>
          <a:xfrm>
            <a:off x="1143000" y="762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原住民文化講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  <p:sp>
        <p:nvSpPr>
          <p:cNvPr id="1493" name="文字方塊 1"/>
          <p:cNvSpPr/>
          <p:nvPr/>
        </p:nvSpPr>
        <p:spPr>
          <a:xfrm>
            <a:off x="3636360" y="2122560"/>
            <a:ext cx="46173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日  期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013/2/21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四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40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主  題：尋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布拉瑞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高中部視聽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2" descr="http://twimg.edgesuite.net/images/ReNews/20121017/420_d617f8f47a57197257590e37f93f57ee.jpg"/>
          <p:cNvPicPr/>
          <p:nvPr/>
        </p:nvPicPr>
        <p:blipFill>
          <a:blip r:embed="rId2"/>
          <a:stretch/>
        </p:blipFill>
        <p:spPr>
          <a:xfrm>
            <a:off x="673200" y="2077920"/>
            <a:ext cx="2728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主題書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鳥類觀察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2/2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4/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金山賞鳥地圖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光電影院：返家八千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3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親子賞鳥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現代詩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4/22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6/28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文字方塊 3"/>
          <p:cNvSpPr/>
          <p:nvPr/>
        </p:nvSpPr>
        <p:spPr>
          <a:xfrm>
            <a:off x="1143000" y="762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教師人文讀書會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01-2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0" descr="學習的革命：從教室出發的改革"/>
          <p:cNvPicPr/>
          <p:nvPr/>
        </p:nvPicPr>
        <p:blipFill>
          <a:blip r:embed="rId2"/>
          <a:stretch/>
        </p:blipFill>
        <p:spPr>
          <a:xfrm>
            <a:off x="717480" y="2146320"/>
            <a:ext cx="2635200" cy="3689280"/>
          </a:xfrm>
          <a:prstGeom prst="rect">
            <a:avLst/>
          </a:prstGeom>
          <a:ln w="0">
            <a:noFill/>
          </a:ln>
        </p:spPr>
      </p:pic>
      <p:sp>
        <p:nvSpPr>
          <p:cNvPr id="1501" name="文字方塊 1"/>
          <p:cNvSpPr/>
          <p:nvPr/>
        </p:nvSpPr>
        <p:spPr>
          <a:xfrm>
            <a:off x="3896280" y="2503440"/>
            <a:ext cx="437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日  期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013/3/5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7:1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林美真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原住民資源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閱讀教學觀摩與工作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教學觀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玥林老師與餐服學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/13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50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教學工作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/19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17:1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原住民資源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文字方塊 2"/>
          <p:cNvSpPr/>
          <p:nvPr/>
        </p:nvSpPr>
        <p:spPr>
          <a:xfrm>
            <a:off x="2286000" y="1523880"/>
            <a:ext cx="4419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好好休息 再出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4" descr="D:\圖檔\蘭嶼營飛躍20080702.JPG"/>
          <p:cNvPicPr/>
          <p:nvPr/>
        </p:nvPicPr>
        <p:blipFill>
          <a:blip r:embed="rId1"/>
          <a:stretch/>
        </p:blipFill>
        <p:spPr>
          <a:xfrm>
            <a:off x="4680" y="4680"/>
            <a:ext cx="9132840" cy="6848640"/>
          </a:xfrm>
          <a:prstGeom prst="rect">
            <a:avLst/>
          </a:prstGeom>
          <a:ln w="0">
            <a:noFill/>
          </a:ln>
        </p:spPr>
      </p:pic>
      <p:sp>
        <p:nvSpPr>
          <p:cNvPr id="1507" name="文字方塊 1"/>
          <p:cNvSpPr/>
          <p:nvPr/>
        </p:nvSpPr>
        <p:spPr>
          <a:xfrm>
            <a:off x="3544200" y="1143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開學快樂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圖書館主任</cp:lastModifiedBy>
  <cp:lastPrinted>2013-01-16T08:26:41Z</cp:lastPrinted>
  <dcterms:modified xsi:type="dcterms:W3CDTF">2013-02-04T10:17:56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