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F23-7DAA-4E5A-A9D8-C6732B2F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C12-007F-4008-88FD-A738C9B7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DA4-A2D3-47AE-8C67-4108C6C8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7E6-C231-4C01-BE27-C54DBC68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D7F-9C5E-4C5D-85E5-0FAB48B5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42E-84C3-45F2-93DF-FF9F22C0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72D-EC05-45A3-85D4-9AEED917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B32-8756-4503-BBEE-8603EE93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930-C307-4A8A-A18C-E27FB47B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54A-E4CE-4089-98CE-F3DBBB6A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42D-F222-4795-BE9D-869DF7F2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0812-F7BF-4C67-A3ED-C61A5016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D6D0-715A-4E2F-9E5B-095F40D75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000000"/>
                </a:solidFill>
                <a:latin typeface="Arial"/>
                <a:ea typeface="標楷體"/>
              </a:rPr>
              <a:t>教 師 會 報 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9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Arial"/>
                <a:ea typeface="標楷體"/>
              </a:rPr>
              <a:t>報告人：王怡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標楷體"/>
              </a:rPr>
              <a:t>101/08/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-360" y="206064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導：   方淑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導：   方淑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三導：   李清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國中部專任：陳建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國中部行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體育辦公室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楊美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06440" y="1988640"/>
            <a:ext cx="3816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中部辦公室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林文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中部辦公室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謝依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中部行政      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王怡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468360" y="189000"/>
            <a:ext cx="8280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101</a:t>
            </a:r>
            <a:r>
              <a:rPr b="1" lang="zh-TW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學年上學期</a:t>
            </a:r>
            <a:br>
              <a:rPr sz="3600"/>
            </a:br>
            <a:r>
              <a:rPr b="1" lang="zh-TW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第</a:t>
            </a:r>
            <a:r>
              <a:rPr b="1" lang="en-US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12</a:t>
            </a:r>
            <a:r>
              <a:rPr b="1" lang="zh-TW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屆教師會各辦公室代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76000" y="1288800"/>
            <a:ext cx="806436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理 事 長：王怡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常務理事：李清波老師、林文杰老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理    事：方淑貞老師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活動組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陳建國老師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研究組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楊美惠老師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總務組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黃文財老師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公關組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謝依萍老師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行政組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陳靜誼老師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文書組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常務監事：江櫻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監事：吳銘川、高建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468360" y="189000"/>
            <a:ext cx="8280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101</a:t>
            </a:r>
            <a:r>
              <a:rPr b="1" lang="zh-TW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學年上學期</a:t>
            </a:r>
            <a:br>
              <a:rPr sz="3600"/>
            </a:br>
            <a:r>
              <a:rPr b="1" lang="zh-TW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第</a:t>
            </a:r>
            <a:r>
              <a:rPr b="1" lang="en-US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12</a:t>
            </a:r>
            <a:r>
              <a:rPr b="1" lang="zh-TW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屆教師會理監事成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年會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5899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章程規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舊會員：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0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元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贊助會員：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50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新會員入會費：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工會年費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60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50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元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------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60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本校教師會年費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0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50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元→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0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收費方式：會員簽名授權後，從薪資扣取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左大括弧 1"/>
          <p:cNvSpPr/>
          <p:nvPr/>
        </p:nvSpPr>
        <p:spPr>
          <a:xfrm>
            <a:off x="1258920" y="4149720"/>
            <a:ext cx="216000" cy="7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720720"/>
              <a:gd name="textAreaBottom" fmla="*/ 7153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39"/>
                </a:cubicBezTo>
                <a:lnTo>
                  <a:pt x="10800" y="10261"/>
                </a:lnTo>
                <a:cubicBezTo>
                  <a:pt x="10800" y="10531"/>
                  <a:pt x="5400" y="10800"/>
                  <a:pt x="0" y="10800"/>
                </a:cubicBezTo>
                <a:cubicBezTo>
                  <a:pt x="5400" y="10800"/>
                  <a:pt x="10800" y="11070"/>
                  <a:pt x="10800" y="11339"/>
                </a:cubicBezTo>
                <a:lnTo>
                  <a:pt x="10800" y="21061"/>
                </a:lnTo>
                <a:cubicBezTo>
                  <a:pt x="10800" y="2133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9"/>
          <p:cNvSpPr/>
          <p:nvPr/>
        </p:nvSpPr>
        <p:spPr>
          <a:xfrm>
            <a:off x="5448240" y="4076640"/>
            <a:ext cx="1295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訴訟基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05:46:18Z</dcterms:created>
  <dc:creator>User</dc:creator>
  <dc:description/>
  <dc:language>en-US</dc:language>
  <cp:lastModifiedBy>aa8832</cp:lastModifiedBy>
  <dcterms:modified xsi:type="dcterms:W3CDTF">2012-08-31T03:33:37Z</dcterms:modified>
  <cp:revision>33</cp:revision>
  <dc:subject/>
  <dc:title>投影片 1</dc:title>
</cp:coreProperties>
</file>