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B8E-8745-43B4-8AC3-00C949293E6D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24C-5CD3-4CEF-ACE9-12848536996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0EB9-F7EE-422D-9B37-AB6992073CE8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530-1ABD-4BDD-B214-DCAD0CF37F95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09F-96A4-412D-A886-88FFE8D27F18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9921-E673-4529-A53F-ED5F72B6BF37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9546-9923-4266-BEFC-92203AE126CB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BEA-ED23-40F7-A4DB-450AFAF91B2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16B2-8F5D-4962-B427-94DDF76B339B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8773-6055-4896-8192-0122182AF6F7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299-93CD-4826-A6CB-847AB75ACFAC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6053-A4F9-4D98-B5EA-C09A500EADED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060-5AD1-4008-AD7B-438233C0ABF7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F5D5-CF93-4E9B-8BB4-5E8FD468ED58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3862-DB6B-4B36-B800-D532D83A4C80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22D-E070-4D47-9C59-530EE2EAFB76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AF2-7200-493E-AA71-14D3BF5CF595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7831-7455-40C3-8C5F-D8A8726A1EAC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0F0-620C-4D0D-9C01-6A674243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83B-4265-4918-9388-FE8F3DF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F25-2C3A-457B-82B4-BD3E1008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BAA-4CC2-4FEA-9E42-A0487856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FC7-3CD4-4B0A-85DB-BF18E533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67DA-0246-4512-8BE5-E88E660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9F14-B81D-4554-A6D2-076CFF5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E755-CAFB-4F6E-B023-2A8AD9C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8AC7-9D34-4494-87C5-DA11290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CFC7-E6A8-4E8E-B6D2-64D247B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0DC-5616-4E5C-B713-725549F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0EC-0172-46DF-BD3D-031600F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A9D-7C3B-41E0-8F6F-133B34B4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498-3AF6-46EC-A353-091FF9F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C217-DF80-4BE0-80D6-B68579C0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A11-1B74-460D-B42B-31DAFDB2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C07-7C13-4757-9553-789FF28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F28-DCBD-4634-8C48-806775D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4C4-22D0-4BDB-86E7-E3FDDAE4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FED-0FA0-4930-83CA-3B9D987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3FD-3F75-4D92-A358-EF453721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1F6-96D2-4F32-85F6-5B11E6C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BDD-5827-4265-A945-1717E9E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9B9-6259-4859-831E-BB05964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771-C836-48F5-BE1D-8C7EBE46CF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10B-8C50-45AE-B8D8-E1B181EEF3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01&#23416;&#24180;&#24230;&#26032;&#21271;&#24066;&#25919;&#24220;&#25945;&#32946;&#23616;&#23565;&#21508;&#32026;&#23416;&#26657;&#37325;&#40670;&#35222;.doc" TargetMode="External"/><Relationship Id="rId2" Type="http://schemas.openxmlformats.org/officeDocument/2006/relationships/hyperlink" Target="file:///101&#23416;&#24180;&#24230;&#26032;&#21271;&#24066;&#25919;&#24220;&#25945;&#32946;&#23616;&#23565;&#21508;&#32026;&#23416;&#26657;&#37325;&#40670;&#35222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01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第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學期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期初校務會議 教務處報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學年度新北市政府教育局對各級學校</a:t>
            </a:r>
            <a:r>
              <a:rPr b="0" lang="zh-TW" sz="40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  <a:hlinkClick r:id="rId1"/>
              </a:rPr>
              <a:t>重點視導項目</a:t>
            </a:r>
            <a:r>
              <a:rPr b="0" lang="zh-TW" sz="40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  <a:hlinkClick r:id="rId2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詳細內容已寄給大家，詳如說明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全體夥伴配合辦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學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節課輔於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及高一、二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攜手計畫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學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部攜手計劃持續進行，請導師協助推薦同學參加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自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開始，參加攜手計劃同學需參加電腦線上施測，以了解學生起點能力和學習成長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註冊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1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註冊單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/3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（二）開學日發放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經濟有困難的同學可至註冊組說明，可以分期繳或延後繳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獎學金：開學後陸續有各項獎助學金可申請，部分獎項需導師協助，屆時請導師協助篩選與推薦。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實研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加退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5-9/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前共同選修課依原選課結果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修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申請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自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 9/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申請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含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三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試務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科複習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6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只考國英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術學程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次模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6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~9/7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專門學程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次模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~9/11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1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高中模考範圍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&amp;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期：已公告於學校網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設備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--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科書換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高中教師用書已請業務發送完，國中教師用書於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8/29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發送，有任何問題請與設備組連絡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學生教科書如有缺損等問題，請務必於開學當日提出，設備組將盡可能於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個工作天內將書補齊，以方便學生使用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學生教科書請盡量於領取當日內完成發放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  <a:ea typeface="標楷體"/>
              </a:rPr>
              <a:t>謝謝聆聽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  <a:ea typeface="標楷體"/>
              </a:rPr>
              <a:t>敬請指教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務處活動行事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參閱學校首頁教學組網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參閱學校行事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務處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標楷體"/>
              </a:rPr>
              <a:t>101</a:t>
            </a: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學年度工作重點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執行高中優質化輔助計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執行高中旗鑑計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教師專業發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課程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特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發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提升學生學習成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發展高中學程特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國教推動準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通過</a:t>
            </a:r>
            <a:r>
              <a:rPr b="1" lang="en-US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學年度高中優質輔助方案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補助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5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萬元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點仍聚焦在「提升學生學習成效」、「教師專業成長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學後即開始執行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，請老師配合執行計畫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教師專業社群持續推動，歡迎老師自主提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計畫將掛於學校首頁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通過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年度旗艦計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補助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505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萬元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點聚焦在「提升學生學習成效」、「教師專業成長」、「建立學校特色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學後即開始執行，請老師配合執行計畫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計畫將掛於學校首頁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標楷體"/>
              </a:rPr>
              <a:t>12</a:t>
            </a: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年國教國中發展願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生適性發展、五育均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校特色發展、品質提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教師專業教學、多元評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家長多元參與、優質親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優質高中認證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今年可認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認證一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等及二等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特優及優等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才可認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評鑑一次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資料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請全體同仁隨時準備好資料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資料夾已分給大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學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-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高中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99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課綱全面上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中依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課綱開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學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—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97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課綱微調持續上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部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7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課綱微調在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上路，請各教師務必持續配合課綱調整部份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詳見學校首頁教學組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ad7374</cp:lastModifiedBy>
  <dcterms:modified xsi:type="dcterms:W3CDTF">2012-08-29T05:10:06Z</dcterms:modified>
  <cp:revision>106</cp:revision>
  <dc:subject/>
  <dc:title>96學年度第1學期期末教務會議</dc:title>
</cp:coreProperties>
</file>