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C5F-74B5-46AD-B2C0-C43BC6E9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590-63D4-424B-8156-D3D076FF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C57-129D-40B9-88B4-8E2A3C03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492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0FA-0433-4B38-A48B-692EAE04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98E3-C495-40C7-B83E-C296B78C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F187-1DB9-4400-9C0A-F11C6505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37F2-DBC5-4A1D-ABF3-DEF74782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7FD3-2279-4DD0-814F-53049B11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C1AA-64D2-44D9-BFD4-AE4AAFB9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FAA6-E0BE-4A45-8525-E5BA02C8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FE4F-9372-45B1-9312-BC83DC16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E8F-9E76-46E6-9B41-8CE528A7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A3F9-21D5-4F6B-81CE-0C365F27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DFE7-5664-4B10-BA5B-BA7EB84E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8BC8-AD24-4578-8B2B-8708D454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DD18-3B7F-4C08-9786-3339B2D1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492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76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48DB-1640-4A39-973A-06B59547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0B3CC-5102-4E24-A3DD-A2836E8E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44953-7B21-44B8-9CC2-C8245268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007E-3E91-465A-A888-ECCC8F3E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B6425-8133-4C75-A805-CDD2CD2B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1551B-E584-4A25-A8F5-237593FA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6E0-0808-478C-9A6B-7C269D42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99BA8-BFC3-4656-8247-E79909B2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8E772-EDE7-4624-AF12-13AC64BE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226A7-1201-4656-B4FA-5C92438A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7430-9CBC-4057-BC2E-F041902C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C951-D08D-4300-8258-87F07C8F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5EE7-AF53-4E3E-B2D4-A0668AA0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6492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4476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398E-F990-49AE-8AD8-E883AF72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56B-D963-4F2E-B01C-DDC7CE0E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0D3F-0AFC-4CBC-8134-C418A45F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CF7-E64B-4F69-BC19-65D4E924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096-169A-48FD-8315-050FFA4F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4F4-30F6-4D35-9830-C6179127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9CF-FC78-43F5-B068-5B6BAD0D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others 3-2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Constantia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1896-DF00-474C-9ECE-5F7D709B89D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other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EXPHORSA"/>
          <p:cNvPicPr/>
          <p:nvPr/>
        </p:nvPicPr>
        <p:blipFill>
          <a:blip r:embed="rId3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Constantia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101.08.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總務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2211-BDB6-4B21-B03B-DA6A5ED56A8E}" type="slidenum">
              <a:rPr b="0" lang="en-US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others 3-2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Constantia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101.08.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總務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285E-3CA3-4319-98DE-BA2827129D7D}" type="slidenum">
              <a:rPr b="0" lang="en-US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101</a:t>
            </a: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學年度 期初校務會議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總務處  許錦芳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1.08.29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2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營繕工作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國中部教學區黑板將另外安排假日時間養護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行文申請學生宿舍修繕補助中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18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機械更新與養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18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常用設備更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行文申請教師宿舍屋頂防水、壁癌阻隔修繕補助，持續追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會計室搬家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響應綠色採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本年度須達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0%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的綠色採購比率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3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響應環境教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參與臺灣綠色夥伴學校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提報資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進修交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水電節能持續行動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不使用一次性物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學支援服務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發放每位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新進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同仁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個電梯卡，離校時繳回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請妥善保管，避免遺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已更新頻率，如有需要校正，請逕洽事務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4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學支援服務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發放每位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新進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同仁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張影印卡，離校時繳回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請妥善保管，避免遺失；可直接書寫名字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每次加值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0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張，每學期限定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影印機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租賃影印機放置於教處、學務、總務、輔導四處室，皆有提供簡便的掃描功能；每月契約量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萬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請使用合併、環保方式影印，減少支出、節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每份樣稿限定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張以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逾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張需求者，請送印刷室為您服務；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個工作天即可取回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5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學支援服務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報修管道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至總務處填寫修繕單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至學校首頁填寫校園修繕系統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&gt;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記得覆核喔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電話連繫事務組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請協助提供完整的修繕通報資訊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地點、位置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外型、數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故障情形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與我們聯繫追蹤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6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門禁安全管制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請同仁多留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分鐘，原地確認安全關閉車庫鐵捲門、教宿與學宿電動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校門進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非行政辦公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鑰匙交給級導師或代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下班後關鎖門窗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非上班時間需要進入時，請先聯繫警衛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教室：勸導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次後懲處相關人員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下課後關鎖門窗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中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樓以上以鐵捲門加強防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7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勿在辦公室、教室、宿舍自行使用高耗電量的電器，以免跳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辦公室、教室通風與照明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儘量開啟窗戶促進對流、採光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冷氣的使用原則建議為室溫逾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度時開啟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三班級冷氣的使用仍將依現行費率收費每度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Picture 4" descr="C:\Users\Shie\AppData\Local\Microsoft\Windows\Temporary Internet Files\Content.IE5\8A09H1NT\MC900382593[1].jpg"/>
          <p:cNvPicPr/>
          <p:nvPr/>
        </p:nvPicPr>
        <p:blipFill>
          <a:blip r:embed="rId6"/>
          <a:stretch/>
        </p:blipFill>
        <p:spPr>
          <a:xfrm>
            <a:off x="7740720" y="522936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文書工作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行政同仁須掌握公文簽辦、報表時間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會簽同仁亦請配合注意時效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行事曆如有需要請即時更正，並告知相關人員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" name="Picture 4" descr="C:\Users\Shie\AppData\Local\Microsoft\Windows\Temporary Internet Files\Content.IE5\8A09H1NT\MC900382593[1].jpg"/>
          <p:cNvPicPr/>
          <p:nvPr/>
        </p:nvPicPr>
        <p:blipFill>
          <a:blip r:embed="rId4"/>
          <a:stretch/>
        </p:blipFill>
        <p:spPr>
          <a:xfrm>
            <a:off x="7740720" y="522936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自立廚房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1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440" y="1341000"/>
            <a:ext cx="7924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午、晚餐菜單依往例公告於學校首頁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午餐收費：基本費每學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76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；餐費每餐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，每月至多收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70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晚餐收費：基本費每學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76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；餐費每餐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，週一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~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供餐，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以餐計費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導師協助指導班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弱勢學生早餐券、午餐補助申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補助僅限於午餐餐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幹部訓練時發放申請表樣本；如有需要可自行影印，或再洽營養師領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學生需以正楷詳實填寫各項資料，附上證件後送請導師簽章，於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9/14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前交回營養師彙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自立廚房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2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440" y="1341360"/>
            <a:ext cx="79246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導師協助指導班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衛生安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抬餐：務必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人成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放餐：排放於餐桌、課桌椅上；不可放置地面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打餐：避免交談、逗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餐後分類，送回餐桶、熟廚餘並掌握時效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用餐具清洗前後均要留意洗手台清潔、不堵塞排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自立廚房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3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導師協助指導班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中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餐後餐盤稍做擦拭清理、交叉疊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要讓學生自己留下學校餐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午餐的餐桶仍將於餐後集放至地下車庫，由輪值班級派公差整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各班需分區集放 餐桶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公差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人到車庫，另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人到廚房前走廊待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差學生表現認真者，將於期末簽請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次嘉獎鼓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業務報告大綱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本次會議注意事項共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993300"/>
                </a:solidFill>
                <a:uFillTx/>
                <a:latin typeface="標楷體"/>
                <a:ea typeface="標楷體"/>
                <a:hlinkClick r:id="rId3" action="ppaction://hlinksldjump"/>
              </a:rPr>
              <a:t>總務處組織成員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執掌與聯絡方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事務工作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文書工作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自立廚房工作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自立廚房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4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導師協助指導班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國中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需自備餐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餐後稍做擦拭清理、帶回家清洗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要讓學生將餐具放在教室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用餐具限定於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樓洗手台清洗，同樣要留意洗手台清潔、不堵塞排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有學生須借用餐具，須帶學生證至總務處登記借用，限量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套，借完為止；累計借滿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次者將以警告壹次懲處，後續每次借用均記警告壹次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" name="Picture 4" descr="C:\Users\Shie\AppData\Local\Microsoft\Windows\Temporary Internet Files\Content.IE5\8A09H1NT\MC900382593[1].jpg"/>
          <p:cNvPicPr/>
          <p:nvPr/>
        </p:nvPicPr>
        <p:blipFill>
          <a:blip r:embed="rId4"/>
          <a:stretch/>
        </p:blipFill>
        <p:spPr>
          <a:xfrm>
            <a:off x="7812000" y="5589720"/>
            <a:ext cx="1112760" cy="1110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本次校務會議注意事項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請同仁配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車籍資料更新、確認登錄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具體操作：印製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份基本資料，依會議室直排座位為單位傳閱，如有新增、更正，逕填於頁面上，閱畢交給總務處事務組，預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9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完成製發停車證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學校車庫汽車格共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個、機車與腳踏車格共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個。目前沒有收費，採先到者先停的方式，如有登錄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部以上汽車車籍，限停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部。晚到同仁請到校外停車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汽車停車時須在擋風玻璃明顯處放置停車證，未放證件勸導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次仍未改善，停放非車格位置，均將嚴格處置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本次校務會議注意事項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請同仁配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參閱、熟知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下半年學校消防防護計畫，預防災害機動應變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配合分組簽到參與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/21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演練研習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本次校務會議注意事項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請同仁配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午餐供應委員會依教育局規範，簽請校長核可後成立，成員將另行通知開會研討。委員會下另設工作小組，請配合各項業務執行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本學期營養午餐搭餐調查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意願、葷素別、葷食取餐地點等可以電子郵件回覆營養師，或以電話聯繫確認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導師同仁無論搭餐與否，午餐時間請於教室指導學生用餐、環境衛生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晚餐係為住宿學生設立，除管理人員配合學生搭餐外，不開放個別搭餐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本次校務會議注意事項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請同仁配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有意願申請住宿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已住宿同仁請參閱、熟知學校教師宿舍管理辦法、教師宿舍公約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已住宿同仁請於本次校務會議休息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分鐘後，原地參加「全體住戶會議」，選舉出管理委員會成員後，由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位委員繼續參加「管理委員會會議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0" name="Picture 4" descr="C:\Users\Shie\AppData\Local\Microsoft\Windows\Temporary Internet Files\Content.IE5\8A09H1NT\MC900382593[1].jpg"/>
          <p:cNvPicPr/>
          <p:nvPr/>
        </p:nvPicPr>
        <p:blipFill>
          <a:blip r:embed="rId4"/>
          <a:stretch/>
        </p:blipFill>
        <p:spPr>
          <a:xfrm>
            <a:off x="7740720" y="522936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總務處組織成員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pic>
        <p:nvPicPr>
          <p:cNvPr id="142" name="內容版面配置區 3" descr=""/>
          <p:cNvPicPr/>
          <p:nvPr/>
        </p:nvPicPr>
        <p:blipFill>
          <a:blip r:embed="rId1"/>
          <a:stretch/>
        </p:blipFill>
        <p:spPr>
          <a:xfrm>
            <a:off x="590400" y="1511280"/>
            <a:ext cx="8023320" cy="451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Users\Shie\AppData\Local\Microsoft\Windows\Temporary Internet Files\Content.IE5\8A09H1NT\MC900382593[1].jpg"/>
          <p:cNvPicPr/>
          <p:nvPr/>
        </p:nvPicPr>
        <p:blipFill>
          <a:blip r:embed="rId2"/>
          <a:stretch/>
        </p:blipFill>
        <p:spPr>
          <a:xfrm>
            <a:off x="7740720" y="551664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總務處執掌與聯絡方式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參閱學校首頁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/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各單位網頁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/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總務處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內有全體成員基本資訊、聯絡分機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各組執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相關資料提供下載使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4" descr="C:\Users\Shie\AppData\Local\Microsoft\Windows\Temporary Internet Files\Content.IE5\8A09H1NT\MC900382593[1].jpg"/>
          <p:cNvPicPr/>
          <p:nvPr/>
        </p:nvPicPr>
        <p:blipFill>
          <a:blip r:embed="rId5"/>
          <a:stretch/>
        </p:blipFill>
        <p:spPr>
          <a:xfrm>
            <a:off x="7740720" y="522936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1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營繕工作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國中部教學區水泥塊剝落修復工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施工目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A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修復本校國中部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01-304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教室、校史室天花板水泥塊剝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B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整治校史室屋頂防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整理國中部各教室、辦公室輕鋼架並換置節能燈具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進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專科教室區最後處置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童軍場機具暫放，管制進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驗收無誤後，廠商全部撤離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2:01:17Z</dcterms:created>
  <dc:creator>Shie</dc:creator>
  <dc:description/>
  <dc:language>en-US</dc:language>
  <cp:lastModifiedBy>aa8832</cp:lastModifiedBy>
  <dcterms:modified xsi:type="dcterms:W3CDTF">2012-09-03T04:43:34Z</dcterms:modified>
  <cp:revision>37</cp:revision>
  <dc:subject/>
  <dc:title>101學年度 期初校務會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0849990</vt:lpwstr>
  </property>
</Properties>
</file>