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A257-F341-472A-96D8-4B66D6A36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028B-C058-47CD-BCAF-02356BC050E3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E78E-0E81-4EFF-AD09-FD00C6D52898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BBFE-290A-444D-8412-B5E7853FFE65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81E6-F6C5-4E76-846F-B8DAC79A424E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0179-4169-4C4E-A18F-1ADE6B15183A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FB94-9C65-4A25-9A15-45EF3375495A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E974-C656-4499-B143-809F07B67896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9C59-C3A2-45AC-84FF-D5807994F922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B56E-1B36-4EA2-B7F1-8E908AEF0221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8A8E-8DEF-4843-8191-EF94808D1FB4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5686-07D1-407B-B7B2-90F212C2CC98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C38B-0B86-4E06-AA08-19298569B9E5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7E6E-AFA1-41F5-8378-3B20DC568B22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E43B-EF5F-40BF-9342-0DFBC4E5810F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A825-4CEA-4DC3-814F-910D11490D58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C05A-5B27-4ED6-992A-66D908BE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AE66-088A-49E4-A6DC-CDD48DB7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1802-F9E5-4335-81B9-208A39BE0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0367-BBA8-4788-BE2E-F6192F5D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A8A6-84A6-4AA0-80BB-F4EBEA423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43AF-D834-42F8-B94F-C6FC6FD4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E92D-BFE8-4A24-B094-8AC5CD7A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9C8C-9F10-477B-999F-B69E6409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B096-32B0-4C6B-818B-11BE3F8C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9716-9282-49E1-9E93-A606FDA6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BFB8-C9AF-4815-A1A5-99555535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0AC4-11C2-42AF-B3C7-7EEFCADB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DF82-7F40-4EEE-A735-5738E855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2A37-654C-416B-995C-C60868FD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5901-84AB-400C-9B60-B532BC28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96A8-0CC3-4273-9DD8-7064E900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3402-B886-4BB8-9A7F-EB2C10BC5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6111-F565-4518-81DE-DFD34339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CC65-90E5-419D-A327-8491E6FA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A4FF-094C-4169-BD4F-CF24919E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9286-1291-4877-87B2-B7D2A25E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A9FF-7C66-46BA-9238-508DDF97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3D74-16BA-4037-B87F-DF7EAB4F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9CD3-BACB-4222-BF53-1ADD35B6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C9EF-86E4-4F6E-8C30-3A7B67210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3075-C73A-4DBA-80E8-B8EE9A47647F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dusave.edu.tw/care.aspx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6666"/>
                </a:solidFill>
                <a:latin typeface="文鼎粗圓"/>
                <a:ea typeface="文鼎粗圓"/>
              </a:rPr>
              <a:t>輔導處報告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生涯發展組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99"/>
              </a:buClr>
              <a:buFont typeface="文鼎粗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國三技藝學程 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(9/20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開始上課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)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  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A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班（協和）、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B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班（光隆）於週四上課，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99"/>
                </a:solidFill>
                <a:latin typeface="超研澤特圓"/>
                <a:ea typeface="超研澤特圓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特教組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6699"/>
              </a:buClr>
              <a:buFont typeface="文鼎粗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身心障礙生 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IEP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，特教師將與導師聯絡。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6699"/>
              </a:buClr>
              <a:buFont typeface="文鼎粗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高中特教老師：林佳慧 老師。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6699"/>
              </a:buClr>
              <a:buFont typeface="文鼎粗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第一週 入班觀察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6699"/>
              </a:buClr>
              <a:buFont typeface="文鼎粗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第二週 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IEP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規劃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特教組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006699"/>
              </a:buClr>
              <a:buFont typeface="文鼎粗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006699"/>
                </a:solidFill>
                <a:latin typeface="文鼎粗圓"/>
                <a:ea typeface="文鼎粗圓"/>
              </a:rPr>
              <a:t>安置普通班身心障礙學生，開學後將陸續召開</a:t>
            </a:r>
            <a:r>
              <a:rPr b="0" lang="en-US" sz="6600" spc="-1" strike="noStrike">
                <a:solidFill>
                  <a:srgbClr val="006699"/>
                </a:solidFill>
                <a:latin typeface="文鼎粗圓"/>
                <a:ea typeface="文鼎粗圓"/>
              </a:rPr>
              <a:t>IEP</a:t>
            </a:r>
            <a:r>
              <a:rPr b="0" lang="zh-TW" sz="6600" spc="-1" strike="noStrike">
                <a:solidFill>
                  <a:srgbClr val="006699"/>
                </a:solidFill>
                <a:latin typeface="文鼎粗圓"/>
                <a:ea typeface="文鼎粗圓"/>
              </a:rPr>
              <a:t>會議</a:t>
            </a:r>
            <a:endParaRPr b="0" lang="en-US" sz="6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高輔中心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006699"/>
                </a:solidFill>
                <a:latin typeface="文鼎粗圓"/>
                <a:ea typeface="文鼎粗圓"/>
              </a:rPr>
              <a:t>「乘著學習的翅膀」學習輔導計畫：將舉辦講座、學習小團體、班級座談、手冊彙編</a:t>
            </a:r>
            <a:endParaRPr b="0" lang="en-US" sz="6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006699"/>
              </a:buClr>
              <a:buFont typeface="文鼎粗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家長日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006699"/>
              </a:buClr>
              <a:buFont typeface="文鼎粗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   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國中部：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9/19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（三）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006699"/>
              </a:buClr>
              <a:buFont typeface="文鼎粗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             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18:30-21:00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006699"/>
              </a:buClr>
              <a:buFont typeface="文鼎粗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   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高中部：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9/16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（日）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006699"/>
              </a:buClr>
              <a:buFont typeface="文鼎粗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             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13:50-17:00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重要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6699"/>
              </a:buClr>
              <a:buFont typeface="文鼎粗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6699"/>
                </a:solidFill>
                <a:latin typeface="文鼎粗圓"/>
                <a:ea typeface="文鼎粗圓"/>
              </a:rPr>
              <a:t>發現疑似家暴、性侵、性騷擾、受虐、自我傷害等個案，依法須在知悉後</a:t>
            </a:r>
            <a:r>
              <a:rPr b="0" lang="en-US" sz="6000" spc="-1" strike="noStrike">
                <a:solidFill>
                  <a:srgbClr val="006699"/>
                </a:solidFill>
                <a:latin typeface="文鼎粗圓"/>
                <a:ea typeface="文鼎粗圓"/>
              </a:rPr>
              <a:t>24</a:t>
            </a:r>
            <a:r>
              <a:rPr b="0" lang="zh-TW" sz="6000" spc="-1" strike="noStrike">
                <a:solidFill>
                  <a:srgbClr val="006699"/>
                </a:solidFill>
                <a:latin typeface="文鼎粗圓"/>
                <a:ea typeface="文鼎粗圓"/>
              </a:rPr>
              <a:t>小時內通報。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輔導處團隊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99"/>
                </a:solidFill>
                <a:latin typeface="Verdana"/>
              </a:rPr>
              <a:t>主任：晉強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99"/>
                </a:solidFill>
                <a:latin typeface="Verdana"/>
              </a:rPr>
              <a:t>輔導組長：書萱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99"/>
                </a:solidFill>
                <a:latin typeface="Verdana"/>
              </a:rPr>
              <a:t>生涯組長：惠明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99"/>
                </a:solidFill>
                <a:latin typeface="Verdana"/>
              </a:rPr>
              <a:t>特教組長：</a:t>
            </a:r>
            <a:r>
              <a:rPr b="0" lang="zh-TW" sz="3200" spc="-1" strike="noStrike">
                <a:solidFill>
                  <a:srgbClr val="ff0000"/>
                </a:solidFill>
                <a:latin typeface="Verdana"/>
              </a:rPr>
              <a:t>芳瑜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99"/>
                </a:solidFill>
                <a:latin typeface="Verdana"/>
              </a:rPr>
              <a:t>高中專輔：淑萍     國中專輔：</a:t>
            </a:r>
            <a:r>
              <a:rPr b="0" lang="zh-TW" sz="3200" spc="-1" strike="noStrike">
                <a:solidFill>
                  <a:srgbClr val="ff0000"/>
                </a:solidFill>
                <a:latin typeface="Verdana"/>
              </a:rPr>
              <a:t>怡蒨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99"/>
                </a:solidFill>
                <a:latin typeface="Verdana"/>
              </a:rPr>
              <a:t>高中特教老師：佳慧  高中協助行政：慧芳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99"/>
                </a:solidFill>
                <a:latin typeface="Verdana"/>
              </a:rPr>
              <a:t>駐區學校社工：筱楓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99"/>
                </a:solidFill>
                <a:latin typeface="Verdana"/>
              </a:rPr>
              <a:t>國小巡迴特教老師：逸瑩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輔導處團隊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99"/>
                </a:solidFill>
                <a:latin typeface="Verdana"/>
              </a:rPr>
              <a:t>特教班導師：</a:t>
            </a:r>
            <a:r>
              <a:rPr b="0" lang="zh-TW" sz="3200" spc="-1" strike="noStrike">
                <a:solidFill>
                  <a:srgbClr val="ff0000"/>
                </a:solidFill>
                <a:latin typeface="Verdana"/>
              </a:rPr>
              <a:t>書沛</a:t>
            </a:r>
            <a:r>
              <a:rPr b="0" lang="zh-TW" sz="3200" spc="-1" strike="noStrike">
                <a:solidFill>
                  <a:srgbClr val="006699"/>
                </a:solidFill>
                <a:latin typeface="Verdana"/>
              </a:rPr>
              <a:t>、</a:t>
            </a:r>
            <a:r>
              <a:rPr b="0" lang="zh-TW" sz="3200" spc="-1" strike="noStrike">
                <a:solidFill>
                  <a:srgbClr val="ff0000"/>
                </a:solidFill>
                <a:latin typeface="Verdana"/>
              </a:rPr>
              <a:t>瀚華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99"/>
                </a:solidFill>
                <a:latin typeface="Verdana"/>
              </a:rPr>
              <a:t>國中資源班召集人：鈺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99"/>
                </a:solidFill>
                <a:latin typeface="Verdana"/>
              </a:rPr>
              <a:t>國中特教老師：</a:t>
            </a:r>
            <a:r>
              <a:rPr b="0" lang="zh-TW" sz="3200" spc="-1" strike="noStrike">
                <a:solidFill>
                  <a:srgbClr val="ff0000"/>
                </a:solidFill>
                <a:latin typeface="Verdana"/>
              </a:rPr>
              <a:t>怡伶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99"/>
                </a:solidFill>
                <a:latin typeface="Verdana"/>
              </a:rPr>
              <a:t>國中兼輔老師</a:t>
            </a:r>
            <a:r>
              <a:rPr b="0" lang="zh-TW" sz="3200" spc="-1" strike="noStrike">
                <a:solidFill>
                  <a:srgbClr val="ff0000"/>
                </a:solidFill>
                <a:latin typeface="Verdana"/>
              </a:rPr>
              <a:t>：缺員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輔導組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文鼎粗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6699"/>
                </a:solidFill>
                <a:latin typeface="文鼎粗圓"/>
                <a:ea typeface="文鼎粗圓"/>
              </a:rPr>
              <a:t>善用社會資源協助學生就學：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文鼎粗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6699"/>
                </a:solidFill>
                <a:latin typeface="文鼎粗圓"/>
                <a:ea typeface="文鼎粗圓"/>
              </a:rPr>
              <a:t>基隆地檢署投資教育創造未來</a:t>
            </a:r>
            <a:r>
              <a:rPr b="0" lang="zh-TW" sz="4000" spc="-1" strike="noStrike">
                <a:solidFill>
                  <a:srgbClr val="ff9933"/>
                </a:solidFill>
                <a:latin typeface="文鼎粗圓"/>
                <a:ea typeface="文鼎粗圓"/>
              </a:rPr>
              <a:t>扶貧計畫、</a:t>
            </a:r>
            <a:r>
              <a:rPr b="0" lang="zh-TW" sz="4000" spc="-1" strike="noStrike">
                <a:solidFill>
                  <a:srgbClr val="ff3300"/>
                </a:solidFill>
                <a:latin typeface="文鼎粗圓"/>
                <a:ea typeface="文鼎粗圓"/>
              </a:rPr>
              <a:t>教育儲蓄戶</a:t>
            </a:r>
            <a:r>
              <a:rPr b="0" lang="zh-TW" sz="4000" spc="-1" strike="noStrike">
                <a:solidFill>
                  <a:srgbClr val="006699"/>
                </a:solidFill>
                <a:latin typeface="文鼎粗圓"/>
                <a:ea typeface="文鼎粗圓"/>
              </a:rPr>
              <a:t>、福慧基金、教育基金及其他社福資源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Picture 5" descr="pho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211640"/>
            <a:ext cx="3276720" cy="2646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輔導組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文鼎粗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6699"/>
                </a:solidFill>
                <a:latin typeface="文鼎粗圓"/>
                <a:ea typeface="文鼎粗圓"/>
              </a:rPr>
              <a:t>特殊個案請利用</a:t>
            </a:r>
            <a:r>
              <a:rPr b="0" lang="zh-TW" sz="4000" spc="-1" strike="noStrike">
                <a:solidFill>
                  <a:srgbClr val="cc99ff"/>
                </a:solidFill>
                <a:latin typeface="文鼎粗圓"/>
                <a:ea typeface="文鼎粗圓"/>
              </a:rPr>
              <a:t>個案關懷卡</a:t>
            </a:r>
            <a:r>
              <a:rPr b="0" lang="en-US" sz="4000" spc="-1" strike="noStrike">
                <a:solidFill>
                  <a:srgbClr val="cc99ff"/>
                </a:solidFill>
                <a:latin typeface="文鼎粗圓"/>
                <a:ea typeface="文鼎粗圓"/>
              </a:rPr>
              <a:t>A</a:t>
            </a:r>
            <a:r>
              <a:rPr b="0" lang="zh-TW" sz="4000" spc="-1" strike="noStrike">
                <a:solidFill>
                  <a:srgbClr val="cc99ff"/>
                </a:solidFill>
                <a:latin typeface="文鼎粗圓"/>
                <a:ea typeface="文鼎粗圓"/>
              </a:rPr>
              <a:t>卡</a:t>
            </a:r>
            <a:r>
              <a:rPr b="0" lang="zh-TW" sz="4000" spc="-1" strike="noStrike">
                <a:solidFill>
                  <a:srgbClr val="006699"/>
                </a:solidFill>
                <a:latin typeface="文鼎粗圓"/>
                <a:ea typeface="文鼎粗圓"/>
              </a:rPr>
              <a:t>轉介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文鼎粗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6699"/>
                </a:solidFill>
                <a:latin typeface="文鼎粗圓"/>
                <a:ea typeface="文鼎粗圓"/>
              </a:rPr>
              <a:t>中輟學生通報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99"/>
                </a:solidFill>
                <a:latin typeface="文鼎粗圓"/>
                <a:ea typeface="文鼎粗圓"/>
              </a:rPr>
              <a:t>	</a:t>
            </a:r>
            <a:r>
              <a:rPr b="0" lang="zh-TW" sz="3200" spc="-1" strike="noStrike">
                <a:solidFill>
                  <a:srgbClr val="006699"/>
                </a:solidFill>
                <a:latin typeface="文鼎粗圓"/>
                <a:ea typeface="文鼎粗圓"/>
              </a:rPr>
              <a:t>	</a:t>
            </a:r>
            <a:r>
              <a:rPr b="0" lang="zh-TW" sz="3200" spc="-1" strike="noStrike">
                <a:solidFill>
                  <a:srgbClr val="006699"/>
                </a:solidFill>
                <a:latin typeface="文鼎粗圓"/>
                <a:ea typeface="文鼎粗圓"/>
              </a:rPr>
              <a:t>連續三天無故未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99"/>
                </a:solidFill>
                <a:latin typeface="文鼎粗圓"/>
                <a:ea typeface="文鼎粗圓"/>
              </a:rPr>
              <a:t>	</a:t>
            </a:r>
            <a:r>
              <a:rPr b="0" lang="zh-TW" sz="3200" spc="-1" strike="noStrike">
                <a:solidFill>
                  <a:srgbClr val="006699"/>
                </a:solidFill>
                <a:latin typeface="文鼎粗圓"/>
                <a:ea typeface="文鼎粗圓"/>
              </a:rPr>
              <a:t>	</a:t>
            </a:r>
            <a:r>
              <a:rPr b="0" lang="zh-TW" sz="3200" spc="-1" strike="noStrike">
                <a:solidFill>
                  <a:srgbClr val="006699"/>
                </a:solidFill>
                <a:latin typeface="文鼎粗圓"/>
                <a:ea typeface="文鼎粗圓"/>
              </a:rPr>
              <a:t>曠課累計</a:t>
            </a:r>
            <a:r>
              <a:rPr b="0" lang="en-US" sz="3200" spc="-1" strike="noStrike">
                <a:solidFill>
                  <a:srgbClr val="006699"/>
                </a:solidFill>
                <a:latin typeface="文鼎粗圓"/>
                <a:ea typeface="文鼎粗圓"/>
              </a:rPr>
              <a:t>49</a:t>
            </a:r>
            <a:r>
              <a:rPr b="0" lang="zh-TW" sz="3200" spc="-1" strike="noStrike">
                <a:solidFill>
                  <a:srgbClr val="006699"/>
                </a:solidFill>
                <a:latin typeface="文鼎粗圓"/>
                <a:ea typeface="文鼎粗圓"/>
              </a:rPr>
              <a:t>小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6699"/>
                </a:solidFill>
                <a:latin typeface="文鼎粗圓"/>
                <a:ea typeface="文鼎粗圓"/>
              </a:rPr>
              <a:t>	</a:t>
            </a:r>
            <a:r>
              <a:rPr b="0" lang="zh-TW" sz="4000" spc="-1" strike="noStrike">
                <a:solidFill>
                  <a:srgbClr val="006699"/>
                </a:solidFill>
                <a:latin typeface="文鼎粗圓"/>
                <a:ea typeface="文鼎粗圓"/>
              </a:rPr>
              <a:t>	</a:t>
            </a:r>
            <a:r>
              <a:rPr b="0" lang="zh-TW" sz="4000" spc="-1" strike="noStrike">
                <a:solidFill>
                  <a:srgbClr val="006699"/>
                </a:solidFill>
                <a:latin typeface="文鼎粗圓"/>
                <a:ea typeface="文鼎粗圓"/>
              </a:rPr>
              <a:t>即時聯絡家訪並記錄輔導</a:t>
            </a:r>
            <a:r>
              <a:rPr b="0" lang="en-US" sz="4000" spc="-1" strike="noStrike">
                <a:solidFill>
                  <a:srgbClr val="006699"/>
                </a:solidFill>
                <a:latin typeface="文鼎粗圓"/>
                <a:ea typeface="文鼎粗圓"/>
              </a:rPr>
              <a:t>B</a:t>
            </a:r>
            <a:r>
              <a:rPr b="0" lang="zh-TW" sz="4000" spc="-1" strike="noStrike">
                <a:solidFill>
                  <a:srgbClr val="006699"/>
                </a:solidFill>
                <a:latin typeface="文鼎粗圓"/>
                <a:ea typeface="文鼎粗圓"/>
              </a:rPr>
              <a:t>表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輔導組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6699"/>
              </a:buClr>
              <a:buFont typeface="文鼎粗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國中高關懷班推薦入班：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	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	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	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	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	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	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9/14(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五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)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前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6699"/>
              </a:buClr>
              <a:buFont typeface="文鼎粗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心理師諮詢服務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99"/>
                </a:solidFill>
                <a:latin typeface="超研澤特圓"/>
                <a:ea typeface="超研澤特圓"/>
              </a:rPr>
              <a:t>      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生涯發展組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99"/>
              </a:buClr>
              <a:buFont typeface="文鼎粗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99"/>
                </a:solidFill>
                <a:latin typeface="文鼎粗圓"/>
                <a:ea typeface="文鼎粗圓"/>
              </a:rPr>
              <a:t>學生輔導</a:t>
            </a:r>
            <a:r>
              <a:rPr b="0" lang="en-US" sz="4800" spc="-1" strike="noStrike">
                <a:solidFill>
                  <a:srgbClr val="006699"/>
                </a:solidFill>
                <a:latin typeface="文鼎粗圓"/>
                <a:ea typeface="文鼎粗圓"/>
              </a:rPr>
              <a:t>B</a:t>
            </a:r>
            <a:r>
              <a:rPr b="0" lang="zh-TW" sz="4800" spc="-1" strike="noStrike">
                <a:solidFill>
                  <a:srgbClr val="006699"/>
                </a:solidFill>
                <a:latin typeface="文鼎粗圓"/>
                <a:ea typeface="文鼎粗圓"/>
              </a:rPr>
              <a:t>表，請務必上網填寫。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99"/>
              </a:buClr>
              <a:buFont typeface="文鼎粗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99"/>
                </a:solidFill>
                <a:latin typeface="文鼎粗圓"/>
                <a:ea typeface="文鼎粗圓"/>
              </a:rPr>
              <a:t>每位學生每學期至少紀錄一次。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生涯發展組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99"/>
              </a:buClr>
              <a:buFont typeface="文鼎粗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99"/>
                </a:solidFill>
                <a:latin typeface="文鼎粗圓"/>
                <a:ea typeface="文鼎粗圓"/>
              </a:rPr>
              <a:t>國一綜合資料表</a:t>
            </a:r>
            <a:r>
              <a:rPr b="0" lang="en-US" sz="4800" spc="-1" strike="noStrike">
                <a:solidFill>
                  <a:srgbClr val="006699"/>
                </a:solidFill>
                <a:latin typeface="文鼎粗圓"/>
                <a:ea typeface="文鼎粗圓"/>
              </a:rPr>
              <a:t>&amp;</a:t>
            </a:r>
            <a:r>
              <a:rPr b="0" lang="zh-TW" sz="4800" spc="-1" strike="noStrike">
                <a:solidFill>
                  <a:srgbClr val="006699"/>
                </a:solidFill>
                <a:latin typeface="文鼎粗圓"/>
                <a:ea typeface="文鼎粗圓"/>
              </a:rPr>
              <a:t>相片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99"/>
                </a:solidFill>
                <a:latin typeface="文鼎粗圓"/>
                <a:ea typeface="文鼎粗圓"/>
              </a:rPr>
              <a:t> </a:t>
            </a:r>
            <a:r>
              <a:rPr b="0" lang="zh-TW" sz="4800" spc="-1" strike="noStrike">
                <a:solidFill>
                  <a:srgbClr val="006699"/>
                </a:solidFill>
                <a:latin typeface="文鼎粗圓"/>
                <a:ea typeface="文鼎粗圓"/>
              </a:rPr>
              <a:t>將彙整影印。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99"/>
                </a:solidFill>
                <a:latin typeface="文鼎粗圓"/>
                <a:ea typeface="文鼎粗圓"/>
              </a:rPr>
              <a:t> </a:t>
            </a:r>
            <a:r>
              <a:rPr b="0" lang="zh-TW" sz="4800" spc="-1" strike="noStrike">
                <a:solidFill>
                  <a:srgbClr val="006699"/>
                </a:solidFill>
                <a:latin typeface="文鼎粗圓"/>
                <a:ea typeface="文鼎粗圓"/>
              </a:rPr>
              <a:t>國小資料表，請注意資料保密及保管。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生涯發展組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6699"/>
              </a:buClr>
              <a:buFont typeface="文鼎粗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國三技藝專班，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	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每週二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(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協和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)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、四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(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培德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)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至高職上課。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	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	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8/30(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四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)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留校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	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	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9/4(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四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)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正式上課。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a8832</dc:creator>
  <dc:description/>
  <dc:language>en-US</dc:language>
  <cp:lastModifiedBy>aa8832</cp:lastModifiedBy>
  <dcterms:modified xsi:type="dcterms:W3CDTF">2012-09-06T08:00:34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