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62BA-DFB5-4729-B10A-7A9DC1F1DBD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6869-B5DB-4215-80E5-BD94F46A7F1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0E2-63E9-4394-8E97-A2BF7BAE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CDF-8319-4687-8E16-4483CDFD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D81-3018-4276-97A5-39DA5A79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E1D-9082-47A9-A94D-13114914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FBF3-B36F-4DE3-B752-ED3E9424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4DC3-FDBD-4121-BB1E-38819FCA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A3FD-BAAB-4BF8-860F-F6C8CC0E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F798-7EDF-4461-B650-63CC9245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B6F6-F26B-4D9B-8C80-44A30479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9256-1CE5-456F-86D7-7F6735B2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0135-CCE1-4AC7-815F-633565F7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70C-51EB-4ADC-9199-F92307B0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E783-2634-4C88-9854-5D232121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DD12-F6FB-4804-9FF4-FB452551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4867-1832-4815-A331-BD516819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758A-6CB0-49B5-B5F9-43E07B6D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399E-B0EA-409F-B8BE-679C0519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B141-6060-4FF1-A528-B1998557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13B6-0329-425E-8BD1-A6B295C8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B6E9-A06A-45D3-92CF-A357CD6B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26FC-45D7-4FB3-88E1-228715C5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F8D2-3BE6-48F2-83DF-A1039FD2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90C-A550-42B3-9301-6F8A9720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98E57-BCE5-40C7-AB9E-762F25C9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4C31A-8027-4105-B57C-B1034B88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3F6F-78C3-411F-BDD9-E37CEB61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9521-5D46-4A40-AE08-88B19A87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0A1D-E4FC-40E9-9F8F-6EE8AAC5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9AD9F-BCFC-4D35-B8CD-FDAF4E6B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C1C5-2A17-430B-B010-F046732E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ECE09-F2A8-4074-BE63-05A05A91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31F5A-A44D-417B-B376-603BABAE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50D62-8712-42C1-B7BC-24065252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D64-EAC1-4185-A487-E57EF895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E9974-375D-48D4-93D3-3E853B53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8E0CA-ABC1-43F2-97F3-42AF492B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4B166-25FC-4D9C-8342-73425442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6A53-4AAC-431B-B02E-265B875E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DD5B6-D55A-4C88-B352-05925E2D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8519E-C35E-4591-A43B-86F809E8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EF0F5-3DE4-4C17-8EFD-8ED04FAE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01EBF-D72D-4E56-907C-2C182425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50AE8-B49B-4997-8B35-8047D83E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71D77-EA59-4F1A-A4EC-A31757F3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F66-DCDD-4E1E-A005-0D330E86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46922-4E7A-4A36-A98D-96438DD8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A83D1-2051-4902-A286-62D85A6E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E9809-9067-438B-8577-2C902991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95099-2A62-4FE9-9419-73D34A5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C6743-B2DF-422D-8B09-8254A07D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ABB9D-1BE8-4C0F-B2EF-497132F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E8210-9628-4CF0-89F0-8CBC75BA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7F7C4-593D-4212-BE07-8A39716A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087A1-87B4-4D5B-AC1B-BA719E71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67A57-8FAB-4FBB-B19A-675F18F2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A08-DF00-444B-8E1D-DE0E85B3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9BCF2-2EE5-40EE-9A14-938D13D5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238-3306-44CE-AF47-7F203A1F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76C-9F49-4B64-824E-E214D82A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4C4-7058-4A3C-9ED7-7AFD38A9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5E87-F817-4E6B-ACE0-A441B98BEB23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FEDE-D217-42D3-AF5A-211EE07BAA1B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C7A5-0BA3-4249-ADE6-FE972E390732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D90F-B955-43E5-AC3F-56D85D71B19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E3E5-632D-4ECB-96EF-1BB445CAA050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Franklin Gothic Book"/>
              </a:rPr>
              <a:t>福慧基金會報告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文字方塊 2"/>
          <p:cNvSpPr/>
          <p:nvPr/>
        </p:nvSpPr>
        <p:spPr>
          <a:xfrm>
            <a:off x="4859280" y="328464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101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學年度上學期會務報告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96464"/>
                </a:solidFill>
                <a:latin typeface="Franklin Gothic Book"/>
              </a:rPr>
              <a:t>本學期委員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03280" y="1915920"/>
            <a:ext cx="633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總務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張耕翰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輔導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黃惠明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、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周桂英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文書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屈慧美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委員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林書萱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11" descr="http://www.my-hiend.com/vbb/images/smilies/5.png"/>
          <p:cNvPicPr/>
          <p:nvPr/>
        </p:nvPicPr>
        <p:blipFill>
          <a:blip r:embed="rId1"/>
          <a:stretch/>
        </p:blipFill>
        <p:spPr>
          <a:xfrm>
            <a:off x="6659640" y="4508640"/>
            <a:ext cx="18860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96464"/>
                </a:solidFill>
                <a:latin typeface="Franklin Gothic Book"/>
              </a:rPr>
              <a:t>活動：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209556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Perpetua"/>
              </a:rPr>
              <a:t>年度─營造永續優質環境衛生計畫─推動學生參與居家至學校</a:t>
            </a:r>
            <a:r>
              <a:rPr b="1" lang="zh-TW" sz="3000" spc="-1" strike="noStrike">
                <a:solidFill>
                  <a:srgbClr val="000000"/>
                </a:solidFill>
                <a:latin typeface="Perpetua"/>
              </a:rPr>
              <a:t>環境巡檢照顧計畫</a:t>
            </a:r>
            <a:r>
              <a:rPr b="0" lang="zh-TW" sz="2800" spc="-1" strike="noStrike">
                <a:solidFill>
                  <a:srgbClr val="000000"/>
                </a:solidFill>
                <a:latin typeface="Perpetua"/>
              </a:rPr>
              <a:t>」得獎禮券，捐至「金山高中福慧基金會」：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500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全家禮券，共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6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份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</a:rPr>
              <a:t>經由委員開會同意，將於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01</a:t>
            </a:r>
            <a:r>
              <a:rPr b="0" lang="zh-TW" sz="2800" spc="-1" strike="noStrike">
                <a:solidFill>
                  <a:srgbClr val="000000"/>
                </a:solidFill>
                <a:latin typeface="Perpetua"/>
              </a:rPr>
              <a:t>年度第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Perpetua"/>
              </a:rPr>
              <a:t>學期將禮券發放給：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Perpetua"/>
              </a:rPr>
              <a:t>國中部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13</a:t>
            </a:r>
            <a:r>
              <a:rPr b="0" lang="zh-TW" sz="3200" spc="-1" strike="noStrike">
                <a:solidFill>
                  <a:srgbClr val="000000"/>
                </a:solidFill>
                <a:latin typeface="Perpetua"/>
              </a:rPr>
              <a:t>位與高中部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Perpetua"/>
              </a:rPr>
              <a:t>位中低收入戶學生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圓角矩形 3"/>
          <p:cNvSpPr/>
          <p:nvPr/>
        </p:nvSpPr>
        <p:spPr>
          <a:xfrm>
            <a:off x="755640" y="3500280"/>
            <a:ext cx="5256360" cy="505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圓角矩形 4"/>
          <p:cNvSpPr/>
          <p:nvPr/>
        </p:nvSpPr>
        <p:spPr>
          <a:xfrm>
            <a:off x="771480" y="5697360"/>
            <a:ext cx="7416720" cy="503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http://www.my-hiend.com/vbb/images/smilies/159.png"/>
          <p:cNvPicPr/>
          <p:nvPr/>
        </p:nvPicPr>
        <p:blipFill>
          <a:blip r:embed="rId1"/>
          <a:stretch/>
        </p:blipFill>
        <p:spPr>
          <a:xfrm>
            <a:off x="5884920" y="0"/>
            <a:ext cx="2790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20640"/>
            <a:ext cx="6033960" cy="93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96464"/>
                </a:solidFill>
                <a:latin typeface="Franklin Gothic Book"/>
              </a:rPr>
              <a:t>福慧感謝您的聆聽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^^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標題 1"/>
          <p:cNvSpPr/>
          <p:nvPr/>
        </p:nvSpPr>
        <p:spPr>
          <a:xfrm>
            <a:off x="5076720" y="5373720"/>
            <a:ext cx="33116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96464"/>
                </a:solidFill>
                <a:latin typeface="Franklin Gothic Book"/>
                <a:ea typeface="微軟正黑體"/>
              </a:rPr>
              <a:t>…</a:t>
            </a:r>
            <a:r>
              <a:rPr b="0" lang="zh-TW" sz="3500" spc="-1" strike="noStrike">
                <a:solidFill>
                  <a:srgbClr val="696464"/>
                </a:solidFill>
                <a:latin typeface="Franklin Gothic Book"/>
                <a:ea typeface="微軟正黑體"/>
              </a:rPr>
              <a:t>請您捐款支持</a:t>
            </a:r>
            <a:r>
              <a:rPr b="0" lang="en-US" sz="3500" spc="-1" strike="noStrike">
                <a:solidFill>
                  <a:srgbClr val="696464"/>
                </a:solidFill>
                <a:latin typeface="Franklin Gothic Book"/>
                <a:ea typeface="微軟正黑體"/>
              </a:rPr>
              <a:t>!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9" descr="http://www.my-hiend.com/vbb/images/smilies/144.png"/>
          <p:cNvPicPr/>
          <p:nvPr/>
        </p:nvPicPr>
        <p:blipFill>
          <a:blip r:embed="rId1"/>
          <a:stretch/>
        </p:blipFill>
        <p:spPr>
          <a:xfrm>
            <a:off x="1120680" y="2133720"/>
            <a:ext cx="24577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06:05:30Z</dcterms:created>
  <dc:creator>讀者服務組</dc:creator>
  <dc:description/>
  <dc:language>en-US</dc:language>
  <cp:lastModifiedBy>讀者服務組</cp:lastModifiedBy>
  <dcterms:modified xsi:type="dcterms:W3CDTF">2012-08-24T09:05:04Z</dcterms:modified>
  <cp:revision>14</cp:revision>
  <dc:subject/>
  <dc:title>福慧基金會報告</dc:title>
</cp:coreProperties>
</file>