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BA5-E86F-4924-8546-418E7C6AC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1395-99B8-49CC-BA8D-603C4CD1B2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2A4-D5F7-4DC2-AD87-622B63D7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C1F-8947-4CCD-819C-1CE22DC0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841-26E4-4C46-9B20-7D1EB42D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9C1-A37F-443B-8B56-3C5987D4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2BF0-EBCE-423D-AC4F-5B58AD0E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D9DC-68B1-4DE8-9761-B02BC23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30F9-4A64-4506-9EF5-AA0504FD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6884-73DC-44FC-98A5-20792BF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F040-862F-4F97-B0CF-D1EA7D7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59A4-B585-4756-A8AF-40F4F88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CC88-51E8-4CA5-8683-4E279AD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FE8-DC53-4ADA-BBEA-1627B565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B7A-F893-43C9-BD66-5340789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72A-50D1-4667-9ADC-EA0D2FA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8B5C-1819-4ECB-82B5-56D91007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E28C-0342-4AAF-96B3-8D8ADC3E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E018-DC0C-4EEE-A1BE-BF8E9C1B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653-9FC9-4510-88BE-3702305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F34-6519-4739-BC1D-E64D698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B4E-375D-48C7-B580-491996E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CA8-8183-46A7-BC2A-09D6F131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03F-C72C-48E5-8535-CCFB14E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3E7-BF13-4419-9677-CEA71DA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CC2-B69A-4013-B957-0607640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6"/>
          <p:cNvSpPr/>
          <p:nvPr/>
        </p:nvSpPr>
        <p:spPr>
          <a:xfrm>
            <a:off x="1258920" y="1484280"/>
            <a:ext cx="6840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1</a:t>
            </a: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學年度金山高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第一學期期初校務會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林美真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10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學習共同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87420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行政運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292720" y="566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環境建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35280" y="112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專業教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58920" y="206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4184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社區資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187280" y="551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家長參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544920" y="288432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3656160" y="29941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6e6e8a"/>
              </a:gs>
              <a:gs pos="50000">
                <a:srgbClr val="ccccff"/>
              </a:gs>
              <a:gs pos="100000">
                <a:srgbClr val="6e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3652920" y="299736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282a2"/>
              </a:gs>
              <a:gs pos="100000">
                <a:srgbClr val="cc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3730680" y="30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3751200" y="3087720"/>
            <a:ext cx="1290600" cy="1278000"/>
            <a:chOff x="3751200" y="3087720"/>
            <a:chExt cx="1290600" cy="1278000"/>
          </a:xfrm>
        </p:grpSpPr>
        <p:sp>
          <p:nvSpPr>
            <p:cNvPr id="114" name="Oval 14"/>
            <p:cNvSpPr/>
            <p:nvPr/>
          </p:nvSpPr>
          <p:spPr>
            <a:xfrm>
              <a:off x="3751200" y="308772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3767400" y="309456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3781080" y="310716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3850920" y="313956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3635280" y="2852640"/>
            <a:ext cx="1703520" cy="1687680"/>
            <a:chOff x="3635280" y="2852640"/>
            <a:chExt cx="1703520" cy="1687680"/>
          </a:xfrm>
        </p:grpSpPr>
        <p:sp>
          <p:nvSpPr>
            <p:cNvPr id="119" name="Oval 19"/>
            <p:cNvSpPr/>
            <p:nvPr/>
          </p:nvSpPr>
          <p:spPr>
            <a:xfrm>
              <a:off x="3635280" y="285264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3681360" y="3327480"/>
              <a:ext cx="160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學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學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5"/>
          <p:cNvGrpSpPr/>
          <p:nvPr/>
        </p:nvGrpSpPr>
        <p:grpSpPr>
          <a:xfrm>
            <a:off x="2340000" y="1773360"/>
            <a:ext cx="4103640" cy="3960720"/>
            <a:chOff x="2340000" y="1773360"/>
            <a:chExt cx="4103640" cy="3960720"/>
          </a:xfrm>
        </p:grpSpPr>
        <p:sp>
          <p:nvSpPr>
            <p:cNvPr id="122" name="Oval 22"/>
            <p:cNvSpPr/>
            <p:nvPr/>
          </p:nvSpPr>
          <p:spPr>
            <a:xfrm>
              <a:off x="2700360" y="198900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3"/>
            <p:cNvGrpSpPr/>
            <p:nvPr/>
          </p:nvGrpSpPr>
          <p:grpSpPr>
            <a:xfrm>
              <a:off x="2340000" y="3756600"/>
              <a:ext cx="1246320" cy="555120"/>
              <a:chOff x="2340000" y="3756600"/>
              <a:chExt cx="1246320" cy="555120"/>
            </a:xfrm>
          </p:grpSpPr>
          <p:sp>
            <p:nvSpPr>
              <p:cNvPr id="124" name="AutoShape 24"/>
              <p:cNvSpPr/>
              <p:nvPr/>
            </p:nvSpPr>
            <p:spPr>
              <a:xfrm rot="9911400">
                <a:off x="2700000" y="3861720"/>
                <a:ext cx="863640" cy="289080"/>
              </a:xfrm>
              <a:prstGeom prst="rightArrow">
                <a:avLst>
                  <a:gd name="adj1" fmla="val 35167"/>
                  <a:gd name="adj2" fmla="val 12098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5"/>
              <p:cNvSpPr/>
              <p:nvPr/>
            </p:nvSpPr>
            <p:spPr>
              <a:xfrm>
                <a:off x="2340000" y="400680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6"/>
            <p:cNvGrpSpPr/>
            <p:nvPr/>
          </p:nvGrpSpPr>
          <p:grpSpPr>
            <a:xfrm>
              <a:off x="2771640" y="2422440"/>
              <a:ext cx="1094760" cy="912600"/>
              <a:chOff x="2771640" y="2422440"/>
              <a:chExt cx="1094760" cy="912600"/>
            </a:xfrm>
          </p:grpSpPr>
          <p:sp>
            <p:nvSpPr>
              <p:cNvPr id="127" name="AutoShape 27"/>
              <p:cNvSpPr/>
              <p:nvPr/>
            </p:nvSpPr>
            <p:spPr>
              <a:xfrm rot="12773400">
                <a:off x="3059280" y="285408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8"/>
              <p:cNvSpPr/>
              <p:nvPr/>
            </p:nvSpPr>
            <p:spPr>
              <a:xfrm>
                <a:off x="2771640" y="242244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29"/>
            <p:cNvGrpSpPr/>
            <p:nvPr/>
          </p:nvGrpSpPr>
          <p:grpSpPr>
            <a:xfrm>
              <a:off x="3200400" y="4425480"/>
              <a:ext cx="901800" cy="1134000"/>
              <a:chOff x="3200400" y="4425480"/>
              <a:chExt cx="901800" cy="1134000"/>
            </a:xfrm>
          </p:grpSpPr>
          <p:sp>
            <p:nvSpPr>
              <p:cNvPr id="130" name="AutoShape 30"/>
              <p:cNvSpPr/>
              <p:nvPr/>
            </p:nvSpPr>
            <p:spPr>
              <a:xfrm rot="7534800">
                <a:off x="3358080" y="468720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31"/>
              <p:cNvSpPr/>
              <p:nvPr/>
            </p:nvSpPr>
            <p:spPr>
              <a:xfrm>
                <a:off x="3200400" y="525456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32"/>
            <p:cNvGrpSpPr/>
            <p:nvPr/>
          </p:nvGrpSpPr>
          <p:grpSpPr>
            <a:xfrm>
              <a:off x="4725360" y="4413240"/>
              <a:ext cx="727560" cy="1122480"/>
              <a:chOff x="4725360" y="4413240"/>
              <a:chExt cx="727560" cy="1122480"/>
            </a:xfrm>
          </p:grpSpPr>
          <p:sp>
            <p:nvSpPr>
              <p:cNvPr id="133" name="AutoShape 33"/>
              <p:cNvSpPr/>
              <p:nvPr/>
            </p:nvSpPr>
            <p:spPr>
              <a:xfrm rot="4123800">
                <a:off x="4607280" y="4690080"/>
                <a:ext cx="792000" cy="289080"/>
              </a:xfrm>
              <a:prstGeom prst="rightArrow">
                <a:avLst>
                  <a:gd name="adj1" fmla="val 35167"/>
                  <a:gd name="adj2" fmla="val 110946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34"/>
              <p:cNvSpPr/>
              <p:nvPr/>
            </p:nvSpPr>
            <p:spPr>
              <a:xfrm>
                <a:off x="5148360" y="523080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35"/>
            <p:cNvSpPr/>
            <p:nvPr/>
          </p:nvSpPr>
          <p:spPr>
            <a:xfrm rot="301200">
              <a:off x="5219280" y="38620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08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36"/>
            <p:cNvGrpSpPr/>
            <p:nvPr/>
          </p:nvGrpSpPr>
          <p:grpSpPr>
            <a:xfrm>
              <a:off x="4939200" y="2422440"/>
              <a:ext cx="1017000" cy="950760"/>
              <a:chOff x="4939200" y="2422440"/>
              <a:chExt cx="1017000" cy="950760"/>
            </a:xfrm>
          </p:grpSpPr>
          <p:sp>
            <p:nvSpPr>
              <p:cNvPr id="137" name="AutoShape 37"/>
              <p:cNvSpPr/>
              <p:nvPr/>
            </p:nvSpPr>
            <p:spPr>
              <a:xfrm rot="19041000">
                <a:off x="4932000" y="285408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38"/>
              <p:cNvSpPr/>
              <p:nvPr/>
            </p:nvSpPr>
            <p:spPr>
              <a:xfrm>
                <a:off x="5651640" y="242244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Oval 39"/>
            <p:cNvSpPr/>
            <p:nvPr/>
          </p:nvSpPr>
          <p:spPr>
            <a:xfrm>
              <a:off x="6084720" y="4006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9ce6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Group 40"/>
            <p:cNvGrpSpPr/>
            <p:nvPr/>
          </p:nvGrpSpPr>
          <p:grpSpPr>
            <a:xfrm>
              <a:off x="4140360" y="1773360"/>
              <a:ext cx="393120" cy="1163160"/>
              <a:chOff x="4140360" y="1773360"/>
              <a:chExt cx="393120" cy="1163160"/>
            </a:xfrm>
          </p:grpSpPr>
          <p:sp>
            <p:nvSpPr>
              <p:cNvPr id="141" name="Oval 41"/>
              <p:cNvSpPr/>
              <p:nvPr/>
            </p:nvSpPr>
            <p:spPr>
              <a:xfrm>
                <a:off x="4140360" y="177336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42"/>
              <p:cNvSpPr/>
              <p:nvPr/>
            </p:nvSpPr>
            <p:spPr>
              <a:xfrm rot="15911400">
                <a:off x="3960000" y="2385000"/>
                <a:ext cx="792000" cy="289080"/>
              </a:xfrm>
              <a:prstGeom prst="rightArrow">
                <a:avLst>
                  <a:gd name="adj1" fmla="val 36833"/>
                  <a:gd name="adj2" fmla="val 10823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Text Box 43"/>
          <p:cNvSpPr/>
          <p:nvPr/>
        </p:nvSpPr>
        <p:spPr>
          <a:xfrm>
            <a:off x="6445080" y="1989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學習領導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63640" y="1052280"/>
            <a:ext cx="6696000" cy="2881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参部曲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大挑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劇情：金山高中</a:t>
            </a: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3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5076720" y="4149720"/>
            <a:ext cx="3743280" cy="1800360"/>
          </a:xfrm>
          <a:prstGeom prst="wedgeRoundRectCallout">
            <a:avLst>
              <a:gd name="adj1" fmla="val -6189"/>
              <a:gd name="adj2" fmla="val -10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0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線上生產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服務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.0 </a:t>
            </a:r>
            <a:r>
              <a:rPr b="1" lang="zh-TW" sz="3600" spc="-1" strike="noStrike">
                <a:solidFill>
                  <a:srgbClr val="cc0000"/>
                </a:solidFill>
                <a:latin typeface="Times New Roman"/>
              </a:rPr>
              <a:t>共創價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566928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挑戰</a:t>
            </a:r>
            <a:r>
              <a:rPr b="1" lang="en-US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35280" y="2205000"/>
            <a:ext cx="6767280" cy="3384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、落實教育局視導十大重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、執行重要專案計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擬定金山高中校務發展計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01</a:t>
            </a:r>
            <a:r>
              <a:rPr b="1" lang="zh-TW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年度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北市政府教育局</a:t>
            </a:r>
            <a:r>
              <a:rPr b="1" lang="zh-TW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十大重點視導項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2000" y="1125360"/>
          <a:ext cx="7561080" cy="5303880"/>
        </p:xfrm>
        <a:graphic>
          <a:graphicData uri="http://schemas.openxmlformats.org/drawingml/2006/table">
            <a:tbl>
              <a:tblPr/>
              <a:tblGrid>
                <a:gridCol w="1008000"/>
                <a:gridCol w="65530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一般教學情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常態編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校園巡堂紀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友善校園學生事務與輔導工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建物安全檢查與防災演練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午餐衛生與校園食品安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水域安全及防溺宣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攜手計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維護校園安全暨防制藥物濫用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學校特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150" name="plant"/>
          <p:cNvSpPr/>
          <p:nvPr/>
        </p:nvSpPr>
        <p:spPr>
          <a:xfrm>
            <a:off x="7740720" y="1052640"/>
            <a:ext cx="1008000" cy="688680"/>
          </a:xfrm>
          <a:custGeom>
            <a:avLst/>
            <a:gdLst>
              <a:gd name="textAreaLeft" fmla="*/ 331200 w 1008000"/>
              <a:gd name="textAreaRight" fmla="*/ 678960 w 1008000"/>
              <a:gd name="textAreaTop" fmla="*/ 321840 h 688680"/>
              <a:gd name="textAreaBottom" fmla="*/ 432720 h 6886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5"/>
          <p:cNvGrpSpPr/>
          <p:nvPr/>
        </p:nvGrpSpPr>
        <p:grpSpPr>
          <a:xfrm>
            <a:off x="1619280" y="1413000"/>
            <a:ext cx="6984720" cy="5444640"/>
            <a:chOff x="1619280" y="1413000"/>
            <a:chExt cx="6984720" cy="5444640"/>
          </a:xfrm>
        </p:grpSpPr>
        <p:sp>
          <p:nvSpPr>
            <p:cNvPr id="152" name="Puzzle3"/>
            <p:cNvSpPr/>
            <p:nvPr/>
          </p:nvSpPr>
          <p:spPr>
            <a:xfrm>
              <a:off x="5020560" y="1413000"/>
              <a:ext cx="2745360" cy="2893320"/>
            </a:xfrm>
            <a:custGeom>
              <a:avLst/>
              <a:gdLst>
                <a:gd name="textAreaLeft" fmla="*/ 288360 w 2745360"/>
                <a:gd name="textAreaRight" fmla="*/ 2435040 w 2745360"/>
                <a:gd name="textAreaTop" fmla="*/ 1033920 h 2893320"/>
                <a:gd name="textAreaBottom" fmla="*/ 2710080 h 28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Puzzle2"/>
            <p:cNvSpPr/>
            <p:nvPr/>
          </p:nvSpPr>
          <p:spPr>
            <a:xfrm>
              <a:off x="4222080" y="3520800"/>
              <a:ext cx="4381920" cy="2635200"/>
            </a:xfrm>
            <a:custGeom>
              <a:avLst/>
              <a:gdLst>
                <a:gd name="textAreaLeft" fmla="*/ 1094040 w 4381920"/>
                <a:gd name="textAreaRight" fmla="*/ 3282840 w 4381920"/>
                <a:gd name="textAreaTop" fmla="*/ 821520 h 2635200"/>
                <a:gd name="textAreaBottom" fmla="*/ 2494080 h 26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Puzzle4"/>
            <p:cNvSpPr/>
            <p:nvPr/>
          </p:nvSpPr>
          <p:spPr>
            <a:xfrm>
              <a:off x="2526120" y="3488400"/>
              <a:ext cx="2641680" cy="3369240"/>
            </a:xfrm>
            <a:custGeom>
              <a:avLst/>
              <a:gdLst>
                <a:gd name="textAreaLeft" fmla="*/ 253800 w 2641680"/>
                <a:gd name="textAreaRight" fmla="*/ 2471760 w 2641680"/>
                <a:gd name="textAreaTop" fmla="*/ 882720 h 3369240"/>
                <a:gd name="textAreaBottom" fmla="*/ 2491920 h 336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Puzzle1"/>
            <p:cNvSpPr/>
            <p:nvPr/>
          </p:nvSpPr>
          <p:spPr>
            <a:xfrm>
              <a:off x="1619280" y="2288160"/>
              <a:ext cx="4436640" cy="2008440"/>
            </a:xfrm>
            <a:custGeom>
              <a:avLst/>
              <a:gdLst>
                <a:gd name="textAreaLeft" fmla="*/ 1249560 w 4436640"/>
                <a:gd name="textAreaRight" fmla="*/ 3312720 w 4436640"/>
                <a:gd name="textAreaTop" fmla="*/ 238680 h 2008440"/>
                <a:gd name="textAreaBottom" fmla="*/ 1817640 h 200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十大重點視導項目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之落實推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1835280" y="4797360"/>
            <a:ext cx="237636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課程與教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580000" y="2421000"/>
            <a:ext cx="201636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擬定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5219640" y="4508640"/>
            <a:ext cx="208908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宣導、溝通與分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2556000" y="2852640"/>
            <a:ext cx="237636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檢討與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9280" y="1341360"/>
            <a:ext cx="6821280" cy="4114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、執行重要專案計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高中優質化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局高中職旗艦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技藝專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18920" y="907560"/>
            <a:ext cx="7056360" cy="5185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擬定校務發展計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期程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~10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組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成立委員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委員由校長邀請學校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區相關代表，執行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書為總務主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議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雙周二或三放學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完成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寒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組織之全員參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87420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環境建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292720" y="566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領域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635280" y="112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願景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258920" y="206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04184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社區資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547640" y="551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家長參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3544920" y="288432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656160" y="29941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6e6e8a"/>
              </a:gs>
              <a:gs pos="50000">
                <a:srgbClr val="ccccff"/>
              </a:gs>
              <a:gs pos="100000">
                <a:srgbClr val="6e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652920" y="299736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282a2"/>
              </a:gs>
              <a:gs pos="100000">
                <a:srgbClr val="cc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3730680" y="30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3751200" y="3087720"/>
            <a:ext cx="1290600" cy="1278000"/>
            <a:chOff x="3751200" y="3087720"/>
            <a:chExt cx="1290600" cy="1278000"/>
          </a:xfrm>
        </p:grpSpPr>
        <p:sp>
          <p:nvSpPr>
            <p:cNvPr id="175" name="Oval 14"/>
            <p:cNvSpPr/>
            <p:nvPr/>
          </p:nvSpPr>
          <p:spPr>
            <a:xfrm>
              <a:off x="3751200" y="308772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767400" y="309456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781080" y="310716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7"/>
            <p:cNvSpPr/>
            <p:nvPr/>
          </p:nvSpPr>
          <p:spPr>
            <a:xfrm>
              <a:off x="3850920" y="313956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3635280" y="2852640"/>
            <a:ext cx="1703520" cy="1687680"/>
            <a:chOff x="3635280" y="2852640"/>
            <a:chExt cx="1703520" cy="1687680"/>
          </a:xfrm>
        </p:grpSpPr>
        <p:sp>
          <p:nvSpPr>
            <p:cNvPr id="180" name="Oval 19"/>
            <p:cNvSpPr/>
            <p:nvPr/>
          </p:nvSpPr>
          <p:spPr>
            <a:xfrm>
              <a:off x="3635280" y="285264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681360" y="3327480"/>
              <a:ext cx="160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發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計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2340000" y="1844640"/>
            <a:ext cx="4103640" cy="3960720"/>
            <a:chOff x="2340000" y="1844640"/>
            <a:chExt cx="4103640" cy="3960720"/>
          </a:xfrm>
        </p:grpSpPr>
        <p:sp>
          <p:nvSpPr>
            <p:cNvPr id="183" name="Oval 22"/>
            <p:cNvSpPr/>
            <p:nvPr/>
          </p:nvSpPr>
          <p:spPr>
            <a:xfrm>
              <a:off x="2700360" y="206028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23"/>
            <p:cNvGrpSpPr/>
            <p:nvPr/>
          </p:nvGrpSpPr>
          <p:grpSpPr>
            <a:xfrm>
              <a:off x="2340000" y="3827880"/>
              <a:ext cx="1246320" cy="555120"/>
              <a:chOff x="2340000" y="3827880"/>
              <a:chExt cx="1246320" cy="555120"/>
            </a:xfrm>
          </p:grpSpPr>
          <p:sp>
            <p:nvSpPr>
              <p:cNvPr id="185" name="AutoShape 24"/>
              <p:cNvSpPr/>
              <p:nvPr/>
            </p:nvSpPr>
            <p:spPr>
              <a:xfrm rot="9911400">
                <a:off x="2700000" y="3933000"/>
                <a:ext cx="863640" cy="289080"/>
              </a:xfrm>
              <a:prstGeom prst="rightArrow">
                <a:avLst>
                  <a:gd name="adj1" fmla="val 35167"/>
                  <a:gd name="adj2" fmla="val 12098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25"/>
              <p:cNvSpPr/>
              <p:nvPr/>
            </p:nvSpPr>
            <p:spPr>
              <a:xfrm>
                <a:off x="2340000" y="40780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26"/>
            <p:cNvGrpSpPr/>
            <p:nvPr/>
          </p:nvGrpSpPr>
          <p:grpSpPr>
            <a:xfrm>
              <a:off x="2771640" y="2493720"/>
              <a:ext cx="1094760" cy="912600"/>
              <a:chOff x="2771640" y="2493720"/>
              <a:chExt cx="1094760" cy="912600"/>
            </a:xfrm>
          </p:grpSpPr>
          <p:sp>
            <p:nvSpPr>
              <p:cNvPr id="188" name="AutoShape 27"/>
              <p:cNvSpPr/>
              <p:nvPr/>
            </p:nvSpPr>
            <p:spPr>
              <a:xfrm rot="12773400">
                <a:off x="3059280" y="292536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28"/>
              <p:cNvSpPr/>
              <p:nvPr/>
            </p:nvSpPr>
            <p:spPr>
              <a:xfrm>
                <a:off x="2771640" y="249372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29"/>
            <p:cNvGrpSpPr/>
            <p:nvPr/>
          </p:nvGrpSpPr>
          <p:grpSpPr>
            <a:xfrm>
              <a:off x="3200400" y="4496760"/>
              <a:ext cx="901800" cy="1134000"/>
              <a:chOff x="3200400" y="4496760"/>
              <a:chExt cx="901800" cy="1134000"/>
            </a:xfrm>
          </p:grpSpPr>
          <p:sp>
            <p:nvSpPr>
              <p:cNvPr id="191" name="AutoShape 30"/>
              <p:cNvSpPr/>
              <p:nvPr/>
            </p:nvSpPr>
            <p:spPr>
              <a:xfrm rot="7534800">
                <a:off x="3358080" y="475848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1"/>
              <p:cNvSpPr/>
              <p:nvPr/>
            </p:nvSpPr>
            <p:spPr>
              <a:xfrm>
                <a:off x="3200400" y="532584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32"/>
            <p:cNvGrpSpPr/>
            <p:nvPr/>
          </p:nvGrpSpPr>
          <p:grpSpPr>
            <a:xfrm>
              <a:off x="4725360" y="4484520"/>
              <a:ext cx="727560" cy="1122480"/>
              <a:chOff x="4725360" y="4484520"/>
              <a:chExt cx="727560" cy="1122480"/>
            </a:xfrm>
          </p:grpSpPr>
          <p:sp>
            <p:nvSpPr>
              <p:cNvPr id="194" name="AutoShape 33"/>
              <p:cNvSpPr/>
              <p:nvPr/>
            </p:nvSpPr>
            <p:spPr>
              <a:xfrm rot="4123800">
                <a:off x="4607280" y="4761360"/>
                <a:ext cx="792000" cy="289080"/>
              </a:xfrm>
              <a:prstGeom prst="rightArrow">
                <a:avLst>
                  <a:gd name="adj1" fmla="val 35167"/>
                  <a:gd name="adj2" fmla="val 110946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34"/>
              <p:cNvSpPr/>
              <p:nvPr/>
            </p:nvSpPr>
            <p:spPr>
              <a:xfrm>
                <a:off x="5148360" y="53020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AutoShape 35"/>
            <p:cNvSpPr/>
            <p:nvPr/>
          </p:nvSpPr>
          <p:spPr>
            <a:xfrm rot="301200">
              <a:off x="5219280" y="39333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08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36"/>
            <p:cNvGrpSpPr/>
            <p:nvPr/>
          </p:nvGrpSpPr>
          <p:grpSpPr>
            <a:xfrm>
              <a:off x="4939200" y="2493720"/>
              <a:ext cx="1017000" cy="950760"/>
              <a:chOff x="4939200" y="2493720"/>
              <a:chExt cx="1017000" cy="950760"/>
            </a:xfrm>
          </p:grpSpPr>
          <p:sp>
            <p:nvSpPr>
              <p:cNvPr id="198" name="AutoShape 37"/>
              <p:cNvSpPr/>
              <p:nvPr/>
            </p:nvSpPr>
            <p:spPr>
              <a:xfrm rot="19041000">
                <a:off x="4932000" y="292536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38"/>
              <p:cNvSpPr/>
              <p:nvPr/>
            </p:nvSpPr>
            <p:spPr>
              <a:xfrm>
                <a:off x="5651640" y="249372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Oval 39"/>
            <p:cNvSpPr/>
            <p:nvPr/>
          </p:nvSpPr>
          <p:spPr>
            <a:xfrm>
              <a:off x="6084720" y="4078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9ce6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40"/>
            <p:cNvGrpSpPr/>
            <p:nvPr/>
          </p:nvGrpSpPr>
          <p:grpSpPr>
            <a:xfrm>
              <a:off x="4140360" y="1844640"/>
              <a:ext cx="393120" cy="1163160"/>
              <a:chOff x="4140360" y="1844640"/>
              <a:chExt cx="393120" cy="1163160"/>
            </a:xfrm>
          </p:grpSpPr>
          <p:sp>
            <p:nvSpPr>
              <p:cNvPr id="202" name="Oval 41"/>
              <p:cNvSpPr/>
              <p:nvPr/>
            </p:nvSpPr>
            <p:spPr>
              <a:xfrm>
                <a:off x="4140360" y="184464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42"/>
              <p:cNvSpPr/>
              <p:nvPr/>
            </p:nvSpPr>
            <p:spPr>
              <a:xfrm rot="15911400">
                <a:off x="3960000" y="2456280"/>
                <a:ext cx="792000" cy="289080"/>
              </a:xfrm>
              <a:prstGeom prst="rightArrow">
                <a:avLst>
                  <a:gd name="adj1" fmla="val 36833"/>
                  <a:gd name="adj2" fmla="val 10823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Text Box 43"/>
          <p:cNvSpPr/>
          <p:nvPr/>
        </p:nvSpPr>
        <p:spPr>
          <a:xfrm>
            <a:off x="6516360" y="1989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校務經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1196640"/>
            <a:ext cx="7886520" cy="4359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i="1" lang="zh-TW" sz="28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教育哲學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反璞歸真</a:t>
            </a:r>
            <a:br>
              <a:rPr sz="36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學生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為中心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著重培養學生「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如何學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」勝於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「習得內容」。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提供學生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自我探索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做選擇的能力</a:t>
            </a:r>
            <a:br>
              <a:rPr sz="54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00720" y="5950080"/>
            <a:ext cx="35272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學習的革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172360" cy="540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44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i="1" lang="zh-TW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提升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專業知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教育部規劃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5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堂、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8</a:t>
            </a:r>
            <a:r>
              <a:rPr b="1" lang="zh-TW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小時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的培訓課程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國教理念與實施策略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學群科領域有效教學策略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差異化教學策略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學群科領域多元評量理念與應用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適性輔導作法」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692000" y="980640"/>
            <a:ext cx="665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金</a:t>
            </a:r>
            <a:r>
              <a:rPr b="1" lang="zh-TW" sz="6000" spc="-1" strike="noStrike">
                <a:solidFill>
                  <a:srgbClr val="006600"/>
                </a:solidFill>
                <a:latin typeface="Times New Roman"/>
                <a:ea typeface="標楷體"/>
              </a:rPr>
              <a:t>風修德化</a:t>
            </a: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完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山</a:t>
            </a:r>
            <a:r>
              <a:rPr b="1" lang="zh-TW" sz="6000" spc="-1" strike="noStrike">
                <a:solidFill>
                  <a:srgbClr val="006600"/>
                </a:solidFill>
                <a:latin typeface="Times New Roman"/>
                <a:ea typeface="標楷體"/>
              </a:rPr>
              <a:t>水明心啟</a:t>
            </a: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全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錄自高中部會議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    </a:t>
            </a:r>
            <a:r>
              <a:rPr b="1" i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美真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        </a:t>
            </a:r>
            <a:r>
              <a:rPr b="1" i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美夢成真</a:t>
            </a:r>
            <a:r>
              <a:rPr b="1" i="1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参部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nt"/>
          <p:cNvSpPr/>
          <p:nvPr/>
        </p:nvSpPr>
        <p:spPr>
          <a:xfrm>
            <a:off x="4643280" y="4292640"/>
            <a:ext cx="1049400" cy="1049400"/>
          </a:xfrm>
          <a:custGeom>
            <a:avLst/>
            <a:gdLst>
              <a:gd name="textAreaLeft" fmla="*/ 344880 w 1049400"/>
              <a:gd name="textAreaRight" fmla="*/ 706680 w 1049400"/>
              <a:gd name="textAreaTop" fmla="*/ 490320 h 1049400"/>
              <a:gd name="textAreaBottom" fmla="*/ 659520 h 10494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63280" y="836640"/>
            <a:ext cx="8280360" cy="540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2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1" i="1" lang="zh-TW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進行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校務與教學變革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檢視獎懲辦法合理性與執行程序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排、授課正常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的成績評量準則及各領域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之多元評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補救教學的實施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扶弱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比拔尖更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PISA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數學素養、閱讀素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7772400" cy="482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36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i="1" lang="zh-TW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進行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校務與教學變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服務學習的規劃與認證機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7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社團的開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8.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生涯輔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記錄手冊的實施與運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9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校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特色課程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.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優質高中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認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58920" y="981000"/>
            <a:ext cx="7128000" cy="1657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</a:t>
            </a: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甘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BE THE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258920" y="2924280"/>
            <a:ext cx="7128000" cy="129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inspire   not  te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979640" y="4653000"/>
            <a:ext cx="3743280" cy="1512720"/>
          </a:xfrm>
          <a:prstGeom prst="wedgeRoundRectCallout">
            <a:avLst>
              <a:gd name="adj1" fmla="val -6189"/>
              <a:gd name="adj2" fmla="val -117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124000" y="4797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Times New Roman"/>
              </a:rPr>
              <a:t>倫敦奧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spire  a 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76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國教的洪流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確保金山</a:t>
            </a:r>
            <a:r>
              <a:rPr b="1" lang="zh-TW" sz="3600" spc="-1" strike="noStrike">
                <a:solidFill>
                  <a:srgbClr val="800000"/>
                </a:solidFill>
                <a:latin typeface="標楷體"/>
                <a:ea typeface="標楷體"/>
              </a:rPr>
              <a:t>每一個學子的學習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是我們共同的責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~~~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我們一起加油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               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感恩您！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772400" cy="4114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首部曲</a:t>
            </a: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4400" spc="-1" strike="noStrike">
                <a:solidFill>
                  <a:srgbClr val="000066"/>
                </a:solidFill>
                <a:latin typeface="標楷體"/>
                <a:ea typeface="標楷體"/>
              </a:rPr>
              <a:t>薪火相傳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4400" spc="-1" strike="noStrike">
                <a:solidFill>
                  <a:srgbClr val="008000"/>
                </a:solidFill>
                <a:latin typeface="標楷體"/>
                <a:ea typeface="標楷體"/>
              </a:rPr>
              <a:t>國泰民安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到</a:t>
            </a:r>
            <a:r>
              <a:rPr b="1" lang="zh-TW" sz="4400" spc="-1" strike="noStrike">
                <a:solidFill>
                  <a:srgbClr val="cc0000"/>
                </a:solidFill>
                <a:latin typeface="標楷體"/>
                <a:ea typeface="標楷體"/>
              </a:rPr>
              <a:t>美夢成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劇情：感恩與傳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86920" y="1197000"/>
            <a:ext cx="6193080" cy="100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Times New Roman"/>
                <a:ea typeface="標楷體"/>
              </a:rPr>
              <a:t>感恩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昨日輝映今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校長交接典禮274"/>
          <p:cNvPicPr/>
          <p:nvPr/>
        </p:nvPicPr>
        <p:blipFill>
          <a:blip r:embed="rId1"/>
          <a:stretch/>
        </p:blipFill>
        <p:spPr>
          <a:xfrm>
            <a:off x="1643040" y="21668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校長交接典禮322"/>
          <p:cNvPicPr/>
          <p:nvPr/>
        </p:nvPicPr>
        <p:blipFill>
          <a:blip r:embed="rId2"/>
          <a:stretch/>
        </p:blipFill>
        <p:spPr>
          <a:xfrm>
            <a:off x="5364000" y="414972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187280" y="1197000"/>
            <a:ext cx="6193080" cy="107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Times New Roman"/>
              </a:rPr>
              <a:t>傳承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今日締造明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校長交接典禮039"/>
          <p:cNvPicPr/>
          <p:nvPr/>
        </p:nvPicPr>
        <p:blipFill>
          <a:blip r:embed="rId1"/>
          <a:stretch/>
        </p:blipFill>
        <p:spPr>
          <a:xfrm>
            <a:off x="2843280" y="2349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6985080" cy="3394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貳部曲</a:t>
            </a: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4400" spc="-1" strike="noStrike">
                <a:solidFill>
                  <a:srgbClr val="cc0000"/>
                </a:solidFill>
                <a:latin typeface="標楷體"/>
                <a:ea typeface="標楷體"/>
              </a:rPr>
              <a:t>感恩共結善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r>
              <a:rPr b="1" lang="en-US" sz="4400" spc="-1" strike="noStrike">
                <a:solidFill>
                  <a:srgbClr val="cc0000"/>
                </a:solidFill>
                <a:latin typeface="標楷體"/>
                <a:ea typeface="標楷體"/>
              </a:rPr>
              <a:t>~~~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劇情：學習共同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7345440" cy="5013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因為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孩子們的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br>
              <a:rPr sz="4800"/>
            </a:b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讓我們共同在這裡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這些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學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3040" y="765000"/>
            <a:ext cx="8400960" cy="5229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專家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學校是一個學習的地方，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成人們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並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孩子學習。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7416720" cy="554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打造</a:t>
            </a:r>
            <a:r>
              <a:rPr b="1" lang="zh-TW" sz="4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習共同體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1.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凝聚團隊共識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發展共同理念與願景。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2.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整合師生社區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投入學生學習與建設。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3.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完善組織學習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展現學校特色與績效。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a8832</cp:lastModifiedBy>
  <dcterms:modified xsi:type="dcterms:W3CDTF">2012-08-27T01:22:50Z</dcterms:modified>
  <cp:revision>473</cp:revision>
  <dc:subject/>
  <dc:title>初級資訊種子學校 第三次執行情形研討會</dc:title>
</cp:coreProperties>
</file>