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AE03-0DA3-4E9D-A5EB-D1F140C058B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277-6963-49EB-9390-0E4B09D49FF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BE67-78E8-4CF5-A0EE-AE58EB12A7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08D0-0332-4946-8D75-114829AE604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F2A8-FDD6-453C-925D-4E574E8290F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4887-1226-4ED6-8648-4B8994E079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1F1B-4DE9-4567-BB27-535114F606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FFDD-C31F-41AE-88CD-BD689BE2BBE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79F3-61BB-44D6-8793-764D74BE160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1243-8965-413E-A4AB-4500B1A7979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313-33DF-4C45-BA8E-12D3646D9F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E583-C612-4656-8DA2-90B6506E54F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E418-8ECB-4CC9-B546-A7F7BA8BB9A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8186-95C3-4516-AAC9-9CA4F16619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A1A-940F-46A3-B787-C1966173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1DA-4B80-40B7-B841-D77F184E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B0D-5D03-4568-893C-671A11DB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2DE-6ACB-438B-96F5-FB1BFC51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047-BEB3-46BC-A387-BCDE3E1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5F1-81D5-455A-AD4E-3DF0E7E9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18A-9742-4FE0-B686-2D9F1B60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136-090C-42B2-A2D4-F3A841D2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33D-AD70-4F2C-9D53-A38703EF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DAD-6B0D-4E42-B5FE-A261259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3D9-B830-4118-A7B6-8DA3A4C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150-1A0A-41C8-9C82-2C118FE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AF13-8B20-4517-9A3F-272F934D6E3F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360" y="2488680"/>
            <a:ext cx="475272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學務處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8360" y="414936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bf2"/>
                </a:solidFill>
                <a:latin typeface="標楷體"/>
                <a:ea typeface="標楷體"/>
              </a:rPr>
              <a:t>陳季芬 主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訓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訓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學務處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學年工作計畫已寄至各位同仁信箱中（新進教師有紙本），請各位參閱。開學日幹部訓練請各位行政人員依指定地點就位進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本學期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上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點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分配合國家防災日，將進行防災演練，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/14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（五）、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/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（五）早自習兩次預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訓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依教育局規定，本學期國中部進行每月品德教育影片觀賞，請國一及國二導師在班會時安排學生一起觀賞討論。教育影片需列入財產保管，以傳承給下一屆導師（國三老師若有需要，圖書館有影片資料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高中部週記進行改版印刷，預定開學第二週才會完成，屆時再通知各班請各班統一購買，本學期期末亦會進行週記抽查，請老師參閱學務處工作計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生輔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生輔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8/30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至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/6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為每學期「友善校園週」當週學校將辦理相關宣導活動，請各位老師於課程中融入宣導，「友善校園週反黑、反毒、反霸凌」相關議題，以建立個溫馨校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為加強防制學生藥物濫用，本校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8/30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至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/6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辦理「特定人員」清 查，請各班導師協助清查班級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『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有事實足認為有藥物濫用嫌疑之學生。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』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，並請各班導師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 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7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將調查表繳回學務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生輔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依據校安事件通報規定凡是有下列情形請老師務必向學務處反映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.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校園霸凌事件  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.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青少年保護事件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3.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藥物濫用事件，請老師務必通知學務處處理，以免違反規定受行政處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5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下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3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時於國中部二樓視聽教室召開第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次導師會報，請各班導師準時與會，如有提案請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8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3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前送交學務處龔振溢教官會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生輔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依行政院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「國家防災日」推動「全國學生地震演習」，以「抗震保安， 感動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23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」（一分鐘內所有參與者完成地震避難掩護動作；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00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萬以上學生一起動員參與；蹲下、掩護、穩住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個要領）為主軸，本校分別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4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、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早自習實施預演，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上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點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配合實施全國性「地震防核演習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衛生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衛生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有鑑於上學年度發現學期結束後，有班級廚餘桶未處理導致長蛆情形發生，經過會議決定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學年度起，各班與各處室不使用廚餘桶處理廚餘，請於用餐後將廚餘倒入餐桶中，果皮則另外裝在塑膠袋中，請負責打掃班級將果皮倒入落葉回收桶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衛生組於開學前會發給各班班級標籤貼紙，請各班導師協助將標籤貼紙貼於各掃具上，以防各班同學搞混或任意破壞掃具造成不必要的浪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衛生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從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學年度起，資源回收室只於早上打掃、午休、下午打掃時間開放，每周回收類別仍維持上學年度的規定辦理（周一周四：塑膠類；）開放時間均會安排衛生公差於門口登記監督，如有分類不完全、亂丟亂倒等違規情形則予以整潔分數扣分，煩請各位老師配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有關積水容器造成登革熱孳生，請各位老師有看到或發現，隨時告知學務處以杜絕病蚊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成員介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560" y="2174760"/>
            <a:ext cx="7859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學務主任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陳季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訓育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鄭雅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生輔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龔振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衛生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劉康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體育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蕭朝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活動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曾國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體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體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辦理新進教職生體能增強活動活動，相關辦法公告在學校網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報告完畢</a:t>
            </a:r>
            <a:br>
              <a:rPr sz="4400"/>
            </a:b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　　　　敬請指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學務主任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訓育組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生輔組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衛生組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體育組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學務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為保持全校上課安寧，請任課老師準時進入教室上課，若有需要學生協助取用教具也請於下課時完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上課時間非萬不得已請勿讓學生進出教室取用茶水或上廁所，如果一個班</a:t>
            </a:r>
            <a:r>
              <a:rPr b="0" lang="en-US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5</a:t>
            </a: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人進出教室，全校將近百人上課時在教室外，非常凌亂，請老師們配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請任課老師每節課確實點名，以掌握學生出席人數，避免學生發生意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請各辦公室確實實施資源回收，並請導師們告知學生實施垃圾減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請騎乘機車的老師們戴上安全帽以維護自身安全，並做為學生的榜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請導師及代理導師多加注意學生午餐後的餐桶回收，以往偶爾都發現高中部餐桶於回收時間外仍然放置於地下室，不但造成出入不便，餐桶也會因此產生細菌危害衛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本學期資源回收室由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304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班清波老師帶領整理，感謝清波主動整理學校內最複雜困難的地方，也拜託各位老師按照每日回收項目指導學生，共同為學校減量垃圾及資源回收</a:t>
            </a: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感謝亮昇老師於最後關頭協助學擔任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40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班導師，感謝文財老師願意接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405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班導師。學校學制如此，如果大家都不想擔任導師甚至不擔任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405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班導師，學生知道的話情何以堪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感謝教師會理事長協助我推動人員擔任組長級導師，希望大家都能為學校力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要學校寧靜乾淨都有賴各位老師們，請隨時教導學生，學務處絕對竭盡所能，努力以赴，老師們如果發現任何學務處有不周延的地方請隨時來電，我們會立即處理並請委婉告知，請不要打擊行政團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學務處目前缺</a:t>
            </a:r>
            <a:r>
              <a:rPr b="0" lang="en-US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名幹事，生輔副組長也尚無著落，暑假中教務處努力找人，我也隨傳隨到擔任委員，奈何有人考上之後，報到之後隨即聯絡不上！有的無法勝任老師！因此請各位老師多諒解行政的難處，多一點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8:49:07Z</dcterms:created>
  <dc:creator>Jack Teng</dc:creator>
  <dc:description/>
  <dc:language>en-US</dc:language>
  <cp:lastModifiedBy>aa8832</cp:lastModifiedBy>
  <dcterms:modified xsi:type="dcterms:W3CDTF">2012-09-03T04:40:58Z</dcterms:modified>
  <cp:revision>24</cp:revision>
  <dc:subject/>
  <dc:title>改變生命的教學- 教師七大定律</dc:title>
</cp:coreProperties>
</file>