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D7F-A533-461F-B8A8-5A3D39BC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5A2-5406-495C-A53A-02A5BCD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1B7-6925-4608-AB30-DFB71B6D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9EC-A29D-4E3E-A049-B556E23C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12D-C039-499E-BD58-0DADEBF3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5FD-48F0-49E7-96F4-CF4DDC5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97A-ED0B-4CF2-A3EE-774FEB7C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124-4BDD-4FB3-8B5D-0FB071D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8F6-6FD0-44A1-8C04-176E491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3380-1426-4CFF-AAB9-23D2E49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63E-8C9D-4559-917D-A279301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581-1D3C-40B3-A5A9-49E2EFA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FE2-8B02-4E73-AFEC-AF6ECCA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A478-96C0-47D2-8DD1-3703A80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2190-9E68-43B2-8E06-B147D5E3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54B-683C-4A4F-BD19-D8766FD3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F165-7728-4CF8-948C-22300D63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EF7F-7F51-4FF0-9271-1414280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FD4F-62FB-49CF-B175-F114694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3253-58D1-4B83-91C3-A43D2BE5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4AEA-7B61-4627-AAFF-2C111321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080A-4BE9-48E0-A814-5B4B3689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86-F242-4BDF-AA85-27515B00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A8F3-F665-43B3-B811-F2C90DF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B036-4FF0-41FF-A6FB-C0CB49E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3367-6E87-4576-AF45-BD5BEC7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0735-AA8B-4752-9F17-FD139A0C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B038-0493-4BFE-8532-7A24CAD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3CE8-8793-4629-965E-1B5C5BFF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DCD3-2AD6-4AF1-BC00-BC4F1CD0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6497-F5BD-4FC2-84AA-221B666A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F57B-ADCB-4B9D-8857-2E027AB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7895-5B09-4B82-B1C1-D4B1585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B67-EFEE-465F-A7A0-3F4EAF8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FB10-B0D9-4FCF-835F-8A28045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9BAA-86B6-48E8-9AB3-1BC85FD7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817C-DE0E-47EC-A137-EBA95C4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9C12-9AFB-4DA8-ABE9-D4B2485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7553-CD6E-43E7-B325-FEEAFCD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7ED1-02A7-46B8-A4F0-B0FF151D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9051-B06E-45AE-A586-D74CE47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9ADE-26CD-45AA-BBE8-317BDCC4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42F7-D2A6-4E6B-BA94-21A1D0AB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D85-E7FF-449A-9DB1-CECE340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706-9C91-4C92-8419-4152C2F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76F-9990-4824-8774-78ACDC4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F10-8EB1-4682-A455-3B43DBE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CD6-9646-470D-A85E-859472DE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763-3CAC-4331-9729-D6589BE4CF60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993-BDF8-4ACC-916D-A35361E5EFF4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37BA-B3A8-4E81-A0E3-921207F7DA2A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B6FF-A51F-4F7F-ACAA-B7B6724F4B7A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3376;&#22899;&#25945;&#32946;&#35036;&#21161;&#36027;&#30003;&#35531;&#34920;&#12296;&#31532;1&#38913;&#20849;2&#38913;&#12297;.doc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7325;&#30003;&#26377;&#38364;&#35531;&#20551;&#31243;&#24207;&#21450;&#26989;&#21209;&#20195;&#29702;-1010829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5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新北市立金山高中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692000" y="3284640"/>
            <a:ext cx="574668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5e9c"/>
                </a:solidFill>
                <a:latin typeface="標楷體"/>
                <a:ea typeface="標楷體"/>
              </a:rPr>
              <a:t>第一學期期初校務會議人事室報告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一、本學期新進同仁名單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02920" y="1628280"/>
            <a:ext cx="66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校長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林校長美真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正式教師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─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游靜玟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正式教師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─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劉康君老師、王莉婷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　陳佳伶老師、洪婉郡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陳禹芳老師、陳怡蒨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吳芳瑜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代理教師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陳怡伶老師、龔偉遜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郭仲怡老師、邱園庭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謝淑萍老師、許雅玲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謝書沛老師、鄭潘育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張逸瑩老師、蔣翰華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矩形 4" descr=""/>
          <p:cNvPicPr/>
          <p:nvPr/>
        </p:nvPicPr>
        <p:blipFill>
          <a:blip r:embed="rId2"/>
          <a:stretch/>
        </p:blipFill>
        <p:spPr>
          <a:xfrm>
            <a:off x="285840" y="5748480"/>
            <a:ext cx="8589960" cy="160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二、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學年度第一學期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子女教育補助費開始申請了！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請依「</a:t>
            </a:r>
            <a:r>
              <a:rPr b="0" lang="en-US" sz="3600" spc="-1" strike="noStrike" u="sng">
                <a:solidFill>
                  <a:srgbClr val="d83e2c"/>
                </a:solidFill>
                <a:uFillTx/>
                <a:latin typeface="標楷體"/>
                <a:ea typeface="標楷體"/>
                <a:hlinkClick r:id="rId2"/>
              </a:rPr>
              <a:t>子女教育補助表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相關規定，符合請領之同仁，於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日前儘速檢證提出申請，申請表格可於學校網站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人事室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下載或至人事室索取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物件 6" descr=""/>
          <p:cNvPicPr/>
          <p:nvPr/>
        </p:nvPicPr>
        <p:blipFill>
          <a:blip r:embed="rId3"/>
          <a:stretch/>
        </p:blipFill>
        <p:spPr>
          <a:xfrm>
            <a:off x="6659640" y="21337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三、請假程序及業務代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新學年開始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人事室提醒同仁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有關</a:t>
            </a:r>
            <a:r>
              <a:rPr b="0" lang="en-US" sz="4000" spc="-1" strike="noStrike" u="sng">
                <a:solidFill>
                  <a:srgbClr val="d83e2c"/>
                </a:solidFill>
                <a:uFillTx/>
                <a:latin typeface="標楷體"/>
                <a:ea typeface="標楷體"/>
                <a:hlinkClick r:id="rId2"/>
              </a:rPr>
              <a:t>請假程序及業務代理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事宜，請同仁務必遵守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以維護個人權益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四、個人資料異動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同仁之地址、電話、個人資料如有異動時，請主動至人事室登記，以利聯繫及適時更新人事資訊系統；另國中部需辦理緩召資格之男性教師，地址有異動者，請記得檢附換發之身分證影本送人事室備查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五、</a:t>
            </a:r>
            <a:r>
              <a:rPr b="0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0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學年教師評審委員會及教師成績考核委員會選舉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教師評審委員會及教師成績考核委員會選舉事宜，人事室有提案研議，若決議通過請同仁再進行投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圈選時請注意選票下之說明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會後馬上開票，歡迎共襄盛舉並請教師會派代表協助開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內容版面配置區 2" descr=""/>
          <p:cNvPicPr/>
          <p:nvPr/>
        </p:nvPicPr>
        <p:blipFill>
          <a:blip r:embed="rId2"/>
          <a:stretch/>
        </p:blipFill>
        <p:spPr>
          <a:xfrm>
            <a:off x="1047600" y="981000"/>
            <a:ext cx="7115400" cy="504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3:50:59Z</dcterms:created>
  <dc:creator>WINXP HOME</dc:creator>
  <dc:description/>
  <dc:language>en-US</dc:language>
  <cp:lastModifiedBy>user</cp:lastModifiedBy>
  <dcterms:modified xsi:type="dcterms:W3CDTF">2012-08-28T10:25:25Z</dcterms:modified>
  <cp:revision>10</cp:revision>
  <dc:subject/>
  <dc:title>新北市立金山高中101學年度</dc:title>
</cp:coreProperties>
</file>