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314B-9394-4708-8368-3579569C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C44-D9C8-48EE-A42E-A4CD3336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C1B-607F-4279-A2D8-15C04ADD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46A-D3A0-415C-A32A-B576D6FB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934A-469A-45F4-A5B7-2ECEDE26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3D33-DCB8-4AAC-BA67-8F3CC86C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5CA-A8F8-49DD-81A5-57104A5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B6AF-F6DE-480A-A0C2-66CADC37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FAB2-D9EF-421C-8459-66659AC1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9A2-C1C8-46E1-9E94-0792D4A4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1AA-38B2-4E8A-87E7-9C4E495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458-6239-46EE-9351-7D010AE2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9E8B-00C0-4CD2-9A90-2967885F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6A2D-74A4-45F1-BB30-BF06F086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DF1-BD77-4106-B6FB-ED761BDA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E81F-473C-404B-9D0E-9D22F7C6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528-0F4B-4DAE-BA7E-3B56BBEC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5DF34-179D-4C6A-BDC1-C4E7BC2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6AFB-FB26-4A08-BD02-39519F5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AD86-E15B-4583-B651-F8460FFF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F78E-65BC-4FFE-A7E4-CC544F68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3985-77D8-412C-8CD2-960DBFDE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C93-7CDF-4D60-B3CC-8D7DE4D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9018-2CB2-42F9-8B11-EE6AE59C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549B-73F2-489A-B6B5-CA8B9722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C70AB-C26C-4661-A244-CA66F6B0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6D90E-91EE-44BB-9A7F-544D2CD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A4A2-6E8A-46A6-8AE3-B36BC46B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6129-3243-4618-9DC5-4C6F5F11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6134-CE24-4B2C-9DB5-4B2BAB8E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9E0FF-15AE-4E2F-A18A-D0610DED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FE8E-4A02-4299-B86B-F539B862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C8D7-FEBA-4D5B-B222-B45C4342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D715-1D4C-43FB-BB21-7E482DBB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D1DE6-9D45-4D2A-BE68-CE8DF8F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0886F-C770-4EED-A582-97C59A47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24888-72ED-40CC-BC67-9DB429E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FE290-2859-4EBE-9BC9-939FD2B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68EB-B420-49B4-8643-399138B6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FC12F-D466-4B9E-B2DA-43B89374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31725-34D5-43C6-860B-7AC917C3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BCD9-B969-44B6-A7DA-AB4FC8F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FC74-51FC-4FE8-8309-703D12C4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4FA-0C32-4BAD-8BAF-656CFE39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07C-49AF-4640-B33F-23CD4A4F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B1E-EFA3-49FD-89B6-B1A2FE8D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C2E-7988-42CD-918E-72CD8579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F95-4AC2-4AE9-99ED-63B62D3F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14CD-D3AE-4671-BC14-85FE25767C9A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042-87F2-4FAD-9E36-8B24E02F12F3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3935-A2A0-4F0C-A753-4F91087BC4D6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6481-11F6-4408-B45C-B086D1E4672A}" type="slidenum">
              <a:rPr b="0" lang="zh-TW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3376;&#22899;&#25945;&#32946;&#35036;&#21161;&#36027;&#30003;&#35531;&#34920;&#12296;&#31532;1&#38913;&#20849;2&#38913;&#12297;.doc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7325;&#30003;&#26377;&#38364;&#35531;&#20551;&#31243;&#24207;&#21450;&#26989;&#21209;&#20195;&#29702;-1010829.doc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795320"/>
            <a:ext cx="5722920" cy="156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新北市立金山高中</a:t>
            </a:r>
            <a:r>
              <a:rPr b="1" lang="en-US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學年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692000" y="3284640"/>
            <a:ext cx="5746680" cy="19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5e9c"/>
                </a:solidFill>
                <a:latin typeface="標楷體"/>
                <a:ea typeface="標楷體"/>
              </a:rPr>
              <a:t>第一學期期初校務會議人事室報告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一、本學期新進同仁名單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02920" y="1628280"/>
            <a:ext cx="66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校長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林校長美真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正式教師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─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游靜玟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正式教師</a:t>
            </a:r>
            <a:r>
              <a:rPr b="1" lang="en-US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─</a:t>
            </a: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劉康君老師、王莉婷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　陳佳伶老師、洪婉郡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陳禹芳老師、陳怡蒨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吳芳瑜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標楷體"/>
                <a:ea typeface="標楷體"/>
              </a:rPr>
              <a:t>代理教師：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陳怡伶老師、龔偉遜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郭仲怡老師、邱園庭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謝淑萍老師、許雅玲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謝書沛老師、鄭潘育老師、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2060"/>
                </a:solidFill>
                <a:latin typeface="Franklin Gothic Book"/>
              </a:rPr>
              <a:t>                        </a:t>
            </a:r>
            <a:r>
              <a:rPr b="1" lang="zh-TW" sz="2200" spc="-1" strike="noStrike">
                <a:solidFill>
                  <a:srgbClr val="002060"/>
                </a:solidFill>
                <a:latin typeface="標楷體"/>
                <a:ea typeface="標楷體"/>
              </a:rPr>
              <a:t>張逸瑩老師、蔣翰華老師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8" name="矩形 4" descr=""/>
          <p:cNvPicPr/>
          <p:nvPr/>
        </p:nvPicPr>
        <p:blipFill>
          <a:blip r:embed="rId2"/>
          <a:stretch/>
        </p:blipFill>
        <p:spPr>
          <a:xfrm>
            <a:off x="285840" y="5748480"/>
            <a:ext cx="8589960" cy="1603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二、</a:t>
            </a:r>
            <a:r>
              <a:rPr b="1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01</a:t>
            </a: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學年度第一學期</a:t>
            </a: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子女教育補助費開始申請了！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請依「</a:t>
            </a:r>
            <a:r>
              <a:rPr b="0" lang="en-US" sz="3600" spc="-1" strike="noStrike" u="sng">
                <a:solidFill>
                  <a:srgbClr val="d83e2c"/>
                </a:solidFill>
                <a:uFillTx/>
                <a:latin typeface="標楷體"/>
                <a:ea typeface="標楷體"/>
                <a:hlinkClick r:id="rId2"/>
              </a:rPr>
              <a:t>子女教育補助表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」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相關規定，符合請領之同仁，於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日前儘速檢證提出申請，申請表格可於學校網站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--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人事室</a:t>
            </a:r>
            <a:r>
              <a:rPr b="0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—</a:t>
            </a:r>
            <a:r>
              <a:rPr b="0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下載或至人事室索取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1" name="物件 6" descr=""/>
          <p:cNvPicPr/>
          <p:nvPr/>
        </p:nvPicPr>
        <p:blipFill>
          <a:blip r:embed="rId3"/>
          <a:stretch/>
        </p:blipFill>
        <p:spPr>
          <a:xfrm>
            <a:off x="6659640" y="2133720"/>
            <a:ext cx="914400" cy="71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三、請假程序及業務代理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新學年開始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人事室提醒同仁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有關</a:t>
            </a:r>
            <a:r>
              <a:rPr b="0" lang="en-US" sz="4000" spc="-1" strike="noStrike" u="sng">
                <a:solidFill>
                  <a:srgbClr val="d83e2c"/>
                </a:solidFill>
                <a:uFillTx/>
                <a:latin typeface="標楷體"/>
                <a:ea typeface="標楷體"/>
                <a:hlinkClick r:id="rId2"/>
              </a:rPr>
              <a:t>請假程序及業務代理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事宜，請同仁務必遵守，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以維護個人權益。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四、個人資料異動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同仁之地址、電話、個人資料如有異動時，請主動至人事室登記，以利聯繫及適時更新人事資訊系統；另國中部需辦理緩召資格之男性教師，地址有異動者，請記得檢附換發之身分證影本送人事室備查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五、</a:t>
            </a:r>
            <a:r>
              <a:rPr b="0" lang="en-US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101</a:t>
            </a:r>
            <a:r>
              <a:rPr b="0" lang="zh-TW" sz="4000" spc="-1" strike="noStrike">
                <a:solidFill>
                  <a:srgbClr val="ff0000"/>
                </a:solidFill>
                <a:latin typeface="標楷體"/>
                <a:ea typeface="標楷體"/>
              </a:rPr>
              <a:t>學年教師評審委員會及教師成績考核委員會選舉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學年教師評審委員會及教師成績考核委員會選舉事宜，人事室有提案研議，若決議通過請同仁再進行投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圈選時請注意選票下之說明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會後馬上開票，歡迎共襄盛舉並請教師會派代表協助開票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內容版面配置區 2" descr=""/>
          <p:cNvPicPr/>
          <p:nvPr/>
        </p:nvPicPr>
        <p:blipFill>
          <a:blip r:embed="rId2"/>
          <a:stretch/>
        </p:blipFill>
        <p:spPr>
          <a:xfrm>
            <a:off x="1047600" y="981000"/>
            <a:ext cx="7115400" cy="5041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13:50:59Z</dcterms:created>
  <dc:creator>WINXP HOME</dc:creator>
  <dc:description/>
  <dc:language>en-US</dc:language>
  <cp:lastModifiedBy>user</cp:lastModifiedBy>
  <dcterms:modified xsi:type="dcterms:W3CDTF">2012-08-28T10:25:25Z</dcterms:modified>
  <cp:revision>10</cp:revision>
  <dc:subject/>
  <dc:title>新北市立金山高中101學年度</dc:title>
</cp:coreProperties>
</file>