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43F-4337-4635-85BD-37B04747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79D-2BFD-48F7-828E-BA71C1B3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2B7-B6E7-4419-9558-2A5D0FE4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EE4-F41B-4EC6-8CB1-7D72141F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C6C-3A27-4788-A08C-BC5AE886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E995-5C92-4C8B-A32D-DDE8BF13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B539-9BAD-49A6-8909-F032923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D9F7-459A-4E4B-885E-C2D2E94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57FD-C366-49FA-AE3A-6CF035F4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4E3A-EF80-40BD-BF50-3D303717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395-20D5-43A6-998C-A744876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982-F696-4A3C-A1AF-42CE628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D7BB-4D52-4FA3-BA8B-C39268E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D57-A19E-45C5-8274-40C3740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8A00-1B9A-4BD7-A291-174E33BC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109-1E73-4D9C-B628-98F56E51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91E8-4307-49F5-A0DF-A52592C1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66C-0A7F-4477-B202-F196C868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EFB-2AA0-4B72-B7B1-2D685B7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7E5-8083-4290-880B-47FFA6A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CB3-2D88-4F79-8C40-F9E81636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ABC-D2AD-4378-A3F4-C28D1CC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9D5-0C1E-4809-82FE-3AED9FE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562-0A5A-4632-8462-11438F5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27920" indent="-280080"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3" marL="1568160" indent="-223920">
              <a:spcBef>
                <a:spcPts val="799"/>
              </a:spcBef>
              <a:buClr>
                <a:srgbClr val="3333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596-3A01-46FD-841F-E6BAE29BC6BC}" type="slidenum"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042400" y="5672880"/>
            <a:ext cx="862200" cy="801000"/>
            <a:chOff x="8042400" y="5672880"/>
            <a:chExt cx="862200" cy="801000"/>
          </a:xfrm>
        </p:grpSpPr>
        <p:sp>
          <p:nvSpPr>
            <p:cNvPr id="6" name="Oval 8"/>
            <p:cNvSpPr/>
            <p:nvPr/>
          </p:nvSpPr>
          <p:spPr>
            <a:xfrm rot="20651400">
              <a:off x="8113680" y="5762520"/>
              <a:ext cx="718920" cy="625320"/>
            </a:xfrm>
            <a:prstGeom prst="ellipse">
              <a:avLst/>
            </a:prstGeom>
            <a:blipFill rotWithShape="0">
              <a:blip r:embed="rId3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 rot="20651400">
              <a:off x="8180280" y="6179760"/>
              <a:ext cx="40680" cy="475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8202600" y="5672880"/>
              <a:ext cx="355320" cy="358560"/>
              <a:chOff x="8202600" y="5672880"/>
              <a:chExt cx="355320" cy="358560"/>
            </a:xfrm>
          </p:grpSpPr>
          <p:sp>
            <p:nvSpPr>
              <p:cNvPr id="9" name="AutoShape 11"/>
              <p:cNvSpPr/>
              <p:nvPr/>
            </p:nvSpPr>
            <p:spPr>
              <a:xfrm rot="6897600">
                <a:off x="8211600" y="5787720"/>
                <a:ext cx="33588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rot="653400">
                <a:off x="8211240" y="5787360"/>
                <a:ext cx="337320" cy="1285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Freeform 13"/>
            <p:cNvSpPr/>
            <p:nvPr/>
          </p:nvSpPr>
          <p:spPr>
            <a:xfrm rot="20651400">
              <a:off x="8278560" y="6199560"/>
              <a:ext cx="295560" cy="16308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575840" y="6018840"/>
            <a:ext cx="540360" cy="459360"/>
            <a:chOff x="7575840" y="6018840"/>
            <a:chExt cx="540360" cy="459360"/>
          </a:xfrm>
        </p:grpSpPr>
        <p:sp>
          <p:nvSpPr>
            <p:cNvPr id="13" name="Oval 15"/>
            <p:cNvSpPr/>
            <p:nvPr/>
          </p:nvSpPr>
          <p:spPr>
            <a:xfrm rot="352200">
              <a:off x="7593480" y="6078600"/>
              <a:ext cx="504720" cy="374400"/>
            </a:xfrm>
            <a:prstGeom prst="ellipse">
              <a:avLst/>
            </a:prstGeom>
            <a:blipFill rotWithShape="0">
              <a:blip r:embed="rId4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 rot="352200">
              <a:off x="7620120" y="626004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7"/>
            <p:cNvGrpSpPr/>
            <p:nvPr/>
          </p:nvGrpSpPr>
          <p:grpSpPr>
            <a:xfrm>
              <a:off x="7719840" y="6018840"/>
              <a:ext cx="241200" cy="203760"/>
              <a:chOff x="7719840" y="6018840"/>
              <a:chExt cx="241200" cy="203760"/>
            </a:xfrm>
          </p:grpSpPr>
          <p:sp>
            <p:nvSpPr>
              <p:cNvPr id="16" name="AutoShape 18"/>
              <p:cNvSpPr/>
              <p:nvPr/>
            </p:nvSpPr>
            <p:spPr>
              <a:xfrm rot="8198400">
                <a:off x="7740000" y="6075360"/>
                <a:ext cx="201240" cy="903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954200">
                <a:off x="7721640" y="608292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 rot="352200">
              <a:off x="7659360" y="631980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281880" y="2182320"/>
            <a:ext cx="487800" cy="419400"/>
            <a:chOff x="281880" y="2182320"/>
            <a:chExt cx="487800" cy="419400"/>
          </a:xfrm>
        </p:grpSpPr>
        <p:sp>
          <p:nvSpPr>
            <p:cNvPr id="20" name="AutoShape 22"/>
            <p:cNvSpPr/>
            <p:nvPr/>
          </p:nvSpPr>
          <p:spPr>
            <a:xfrm rot="3981600">
              <a:off x="376200" y="222732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rot="609600">
              <a:off x="393120" y="221076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24"/>
          <p:cNvGrpSpPr/>
          <p:nvPr/>
        </p:nvGrpSpPr>
        <p:grpSpPr>
          <a:xfrm>
            <a:off x="478440" y="4002480"/>
            <a:ext cx="415800" cy="494640"/>
            <a:chOff x="478440" y="4002480"/>
            <a:chExt cx="415800" cy="494640"/>
          </a:xfrm>
        </p:grpSpPr>
        <p:sp>
          <p:nvSpPr>
            <p:cNvPr id="23" name="AutoShape 25"/>
            <p:cNvSpPr/>
            <p:nvPr/>
          </p:nvSpPr>
          <p:spPr>
            <a:xfrm rot="20411400">
              <a:off x="588240" y="40953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rot="17039400">
              <a:off x="491040" y="40590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27"/>
          <p:cNvGrpSpPr/>
          <p:nvPr/>
        </p:nvGrpSpPr>
        <p:grpSpPr>
          <a:xfrm>
            <a:off x="8633520" y="6285960"/>
            <a:ext cx="487800" cy="419400"/>
            <a:chOff x="8633520" y="6285960"/>
            <a:chExt cx="487800" cy="419400"/>
          </a:xfrm>
        </p:grpSpPr>
        <p:sp>
          <p:nvSpPr>
            <p:cNvPr id="26" name="AutoShape 28"/>
            <p:cNvSpPr/>
            <p:nvPr/>
          </p:nvSpPr>
          <p:spPr>
            <a:xfrm rot="3981600">
              <a:off x="8727840" y="63309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7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 rot="609600">
              <a:off x="8744760" y="63144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30"/>
          <p:cNvGrpSpPr/>
          <p:nvPr/>
        </p:nvGrpSpPr>
        <p:grpSpPr>
          <a:xfrm>
            <a:off x="8107560" y="4717440"/>
            <a:ext cx="469800" cy="489960"/>
            <a:chOff x="8107560" y="4717440"/>
            <a:chExt cx="469800" cy="489960"/>
          </a:xfrm>
        </p:grpSpPr>
        <p:sp>
          <p:nvSpPr>
            <p:cNvPr id="29" name="AutoShape 31"/>
            <p:cNvSpPr/>
            <p:nvPr/>
          </p:nvSpPr>
          <p:spPr>
            <a:xfrm rot="2422200">
              <a:off x="8197200" y="4797360"/>
              <a:ext cx="255960" cy="371160"/>
            </a:xfrm>
            <a:custGeom>
              <a:avLst/>
              <a:gdLst>
                <a:gd name="textAreaLeft" fmla="*/ 59760 w 255960"/>
                <a:gd name="textAreaRight" fmla="*/ 196200 w 255960"/>
                <a:gd name="textAreaTop" fmla="*/ 39600 h 371160"/>
                <a:gd name="textAreaBottom" fmla="*/ 2358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20650800">
              <a:off x="8187840" y="4759560"/>
              <a:ext cx="353880" cy="3074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33"/>
          <p:cNvGrpSpPr/>
          <p:nvPr/>
        </p:nvGrpSpPr>
        <p:grpSpPr>
          <a:xfrm>
            <a:off x="866160" y="5632560"/>
            <a:ext cx="485640" cy="417960"/>
            <a:chOff x="866160" y="5632560"/>
            <a:chExt cx="485640" cy="417960"/>
          </a:xfrm>
        </p:grpSpPr>
        <p:sp>
          <p:nvSpPr>
            <p:cNvPr id="32" name="AutoShape 34"/>
            <p:cNvSpPr/>
            <p:nvPr/>
          </p:nvSpPr>
          <p:spPr>
            <a:xfrm rot="3981600">
              <a:off x="959400" y="5682600"/>
              <a:ext cx="245520" cy="364320"/>
            </a:xfrm>
            <a:custGeom>
              <a:avLst/>
              <a:gdLst>
                <a:gd name="textAreaLeft" fmla="*/ 57240 w 245520"/>
                <a:gd name="textAreaRight" fmla="*/ 188280 w 245520"/>
                <a:gd name="textAreaTop" fmla="*/ 38880 h 364320"/>
                <a:gd name="textAreaBottom" fmla="*/ 2314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 rot="609600">
              <a:off x="981000" y="5660640"/>
              <a:ext cx="347400" cy="29556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36"/>
          <p:cNvGrpSpPr/>
          <p:nvPr/>
        </p:nvGrpSpPr>
        <p:grpSpPr>
          <a:xfrm>
            <a:off x="7058160" y="6208920"/>
            <a:ext cx="486720" cy="418320"/>
            <a:chOff x="7058160" y="6208920"/>
            <a:chExt cx="486720" cy="418320"/>
          </a:xfrm>
        </p:grpSpPr>
        <p:sp>
          <p:nvSpPr>
            <p:cNvPr id="35" name="AutoShape 37"/>
            <p:cNvSpPr/>
            <p:nvPr/>
          </p:nvSpPr>
          <p:spPr>
            <a:xfrm rot="3981600">
              <a:off x="7152120" y="6255000"/>
              <a:ext cx="249120" cy="368280"/>
            </a:xfrm>
            <a:custGeom>
              <a:avLst/>
              <a:gdLst>
                <a:gd name="textAreaLeft" fmla="*/ 58320 w 249120"/>
                <a:gd name="textAreaRight" fmla="*/ 190800 w 249120"/>
                <a:gd name="textAreaTop" fmla="*/ 39240 h 368280"/>
                <a:gd name="textAreaBottom" fmla="*/ 2340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609600">
              <a:off x="7170120" y="6237360"/>
              <a:ext cx="350640" cy="2998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360" y="44280"/>
            <a:ext cx="3817800" cy="1566000"/>
            <a:chOff x="-36360" y="44280"/>
            <a:chExt cx="3817800" cy="1566000"/>
          </a:xfrm>
        </p:grpSpPr>
        <p:grpSp>
          <p:nvGrpSpPr>
            <p:cNvPr id="74" name="Group 3"/>
            <p:cNvGrpSpPr/>
            <p:nvPr/>
          </p:nvGrpSpPr>
          <p:grpSpPr>
            <a:xfrm>
              <a:off x="-36360" y="44280"/>
              <a:ext cx="3612960" cy="1281240"/>
              <a:chOff x="-36360" y="44280"/>
              <a:chExt cx="3612960" cy="1281240"/>
            </a:xfrm>
          </p:grpSpPr>
          <p:sp>
            <p:nvSpPr>
              <p:cNvPr id="75" name="Freeform 4"/>
              <p:cNvSpPr/>
              <p:nvPr/>
            </p:nvSpPr>
            <p:spPr>
              <a:xfrm>
                <a:off x="-36360" y="44280"/>
                <a:ext cx="3612960" cy="755640"/>
              </a:xfrm>
              <a:custGeom>
                <a:avLst/>
                <a:gdLst/>
                <a:ahLst/>
                <a:rect l="l" t="t" r="r" b="b"/>
                <a:pathLst>
                  <a:path w="2276" h="476">
                    <a:moveTo>
                      <a:pt x="0" y="0"/>
                    </a:moveTo>
                    <a:cubicBezTo>
                      <a:pt x="169" y="56"/>
                      <a:pt x="332" y="134"/>
                      <a:pt x="493" y="220"/>
                    </a:cubicBezTo>
                    <a:cubicBezTo>
                      <a:pt x="556" y="254"/>
                      <a:pt x="577" y="249"/>
                      <a:pt x="649" y="274"/>
                    </a:cubicBezTo>
                    <a:cubicBezTo>
                      <a:pt x="761" y="313"/>
                      <a:pt x="873" y="361"/>
                      <a:pt x="987" y="393"/>
                    </a:cubicBezTo>
                    <a:cubicBezTo>
                      <a:pt x="1032" y="424"/>
                      <a:pt x="1098" y="428"/>
                      <a:pt x="1152" y="439"/>
                    </a:cubicBezTo>
                    <a:cubicBezTo>
                      <a:pt x="1184" y="460"/>
                      <a:pt x="1216" y="463"/>
                      <a:pt x="1252" y="476"/>
                    </a:cubicBezTo>
                    <a:cubicBezTo>
                      <a:pt x="1435" y="469"/>
                      <a:pt x="1534" y="457"/>
                      <a:pt x="1700" y="430"/>
                    </a:cubicBezTo>
                    <a:cubicBezTo>
                      <a:pt x="1741" y="410"/>
                      <a:pt x="1784" y="390"/>
                      <a:pt x="1828" y="375"/>
                    </a:cubicBezTo>
                    <a:cubicBezTo>
                      <a:pt x="1861" y="344"/>
                      <a:pt x="1905" y="343"/>
                      <a:pt x="1947" y="329"/>
                    </a:cubicBezTo>
                    <a:cubicBezTo>
                      <a:pt x="2057" y="336"/>
                      <a:pt x="2165" y="348"/>
                      <a:pt x="2276" y="348"/>
                    </a:cubicBezTo>
                  </a:path>
                </a:pathLst>
              </a:custGeom>
              <a:noFill/>
              <a:ln w="1015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5"/>
              <p:cNvSpPr/>
              <p:nvPr/>
            </p:nvSpPr>
            <p:spPr>
              <a:xfrm>
                <a:off x="2625840" y="333000"/>
                <a:ext cx="204840" cy="420840"/>
              </a:xfrm>
              <a:custGeom>
                <a:avLst/>
                <a:gdLst/>
                <a:ahLst/>
                <a:rect l="l" t="t" r="r" b="b"/>
                <a:pathLst>
                  <a:path w="129" h="265">
                    <a:moveTo>
                      <a:pt x="129" y="0"/>
                    </a:moveTo>
                    <a:cubicBezTo>
                      <a:pt x="111" y="3"/>
                      <a:pt x="91" y="1"/>
                      <a:pt x="74" y="9"/>
                    </a:cubicBezTo>
                    <a:cubicBezTo>
                      <a:pt x="64" y="14"/>
                      <a:pt x="64" y="29"/>
                      <a:pt x="56" y="37"/>
                    </a:cubicBezTo>
                    <a:cubicBezTo>
                      <a:pt x="48" y="45"/>
                      <a:pt x="37" y="49"/>
                      <a:pt x="28" y="55"/>
                    </a:cubicBezTo>
                    <a:cubicBezTo>
                      <a:pt x="5" y="126"/>
                      <a:pt x="0" y="130"/>
                      <a:pt x="56" y="183"/>
                    </a:cubicBezTo>
                    <a:cubicBezTo>
                      <a:pt x="59" y="192"/>
                      <a:pt x="63" y="201"/>
                      <a:pt x="65" y="210"/>
                    </a:cubicBezTo>
                    <a:cubicBezTo>
                      <a:pt x="69" y="228"/>
                      <a:pt x="74" y="265"/>
                      <a:pt x="74" y="265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6"/>
              <p:cNvSpPr/>
              <p:nvPr/>
            </p:nvSpPr>
            <p:spPr>
              <a:xfrm>
                <a:off x="1698480" y="755280"/>
                <a:ext cx="1001880" cy="570240"/>
              </a:xfrm>
              <a:custGeom>
                <a:avLst/>
                <a:gdLst/>
                <a:ahLst/>
                <a:rect l="l" t="t" r="r" b="b"/>
                <a:pathLst>
                  <a:path w="740" h="359">
                    <a:moveTo>
                      <a:pt x="0" y="0"/>
                    </a:moveTo>
                    <a:cubicBezTo>
                      <a:pt x="9" y="27"/>
                      <a:pt x="7" y="61"/>
                      <a:pt x="27" y="82"/>
                    </a:cubicBezTo>
                    <a:cubicBezTo>
                      <a:pt x="83" y="141"/>
                      <a:pt x="137" y="211"/>
                      <a:pt x="210" y="247"/>
                    </a:cubicBezTo>
                    <a:cubicBezTo>
                      <a:pt x="240" y="262"/>
                      <a:pt x="251" y="282"/>
                      <a:pt x="283" y="293"/>
                    </a:cubicBezTo>
                    <a:cubicBezTo>
                      <a:pt x="330" y="338"/>
                      <a:pt x="387" y="342"/>
                      <a:pt x="448" y="357"/>
                    </a:cubicBezTo>
                    <a:cubicBezTo>
                      <a:pt x="503" y="354"/>
                      <a:pt x="558" y="359"/>
                      <a:pt x="612" y="348"/>
                    </a:cubicBezTo>
                    <a:cubicBezTo>
                      <a:pt x="634" y="343"/>
                      <a:pt x="645" y="311"/>
                      <a:pt x="667" y="311"/>
                    </a:cubicBezTo>
                    <a:cubicBezTo>
                      <a:pt x="691" y="311"/>
                      <a:pt x="716" y="311"/>
                      <a:pt x="740" y="311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7"/>
              <p:cNvSpPr/>
              <p:nvPr/>
            </p:nvSpPr>
            <p:spPr>
              <a:xfrm>
                <a:off x="1258920" y="393480"/>
                <a:ext cx="754200" cy="158760"/>
              </a:xfrm>
              <a:custGeom>
                <a:avLst/>
                <a:gdLst/>
                <a:ahLst/>
                <a:rect l="l" t="t" r="r" b="b"/>
                <a:pathLst>
                  <a:path w="475" h="100">
                    <a:moveTo>
                      <a:pt x="0" y="100"/>
                    </a:moveTo>
                    <a:cubicBezTo>
                      <a:pt x="114" y="81"/>
                      <a:pt x="219" y="78"/>
                      <a:pt x="338" y="73"/>
                    </a:cubicBezTo>
                    <a:cubicBezTo>
                      <a:pt x="372" y="64"/>
                      <a:pt x="401" y="58"/>
                      <a:pt x="429" y="36"/>
                    </a:cubicBezTo>
                    <a:cubicBezTo>
                      <a:pt x="436" y="31"/>
                      <a:pt x="441" y="23"/>
                      <a:pt x="448" y="18"/>
                    </a:cubicBezTo>
                    <a:cubicBezTo>
                      <a:pt x="457" y="11"/>
                      <a:pt x="475" y="0"/>
                      <a:pt x="475" y="0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"/>
              <p:cNvSpPr/>
              <p:nvPr/>
            </p:nvSpPr>
            <p:spPr>
              <a:xfrm>
                <a:off x="522360" y="271440"/>
                <a:ext cx="129960" cy="637920"/>
              </a:xfrm>
              <a:custGeom>
                <a:avLst/>
                <a:gdLst/>
                <a:ahLst/>
                <a:rect l="l" t="t" r="r" b="b"/>
                <a:pathLst>
                  <a:path w="82" h="402">
                    <a:moveTo>
                      <a:pt x="28" y="0"/>
                    </a:moveTo>
                    <a:cubicBezTo>
                      <a:pt x="21" y="46"/>
                      <a:pt x="11" y="84"/>
                      <a:pt x="0" y="128"/>
                    </a:cubicBezTo>
                    <a:cubicBezTo>
                      <a:pt x="3" y="177"/>
                      <a:pt x="1" y="226"/>
                      <a:pt x="9" y="274"/>
                    </a:cubicBezTo>
                    <a:cubicBezTo>
                      <a:pt x="11" y="285"/>
                      <a:pt x="23" y="291"/>
                      <a:pt x="28" y="301"/>
                    </a:cubicBezTo>
                    <a:cubicBezTo>
                      <a:pt x="45" y="335"/>
                      <a:pt x="65" y="368"/>
                      <a:pt x="82" y="402"/>
                    </a:cubicBezTo>
                  </a:path>
                </a:pathLst>
              </a:custGeom>
              <a:noFill/>
              <a:ln w="76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9"/>
            <p:cNvGrpSpPr/>
            <p:nvPr/>
          </p:nvGrpSpPr>
          <p:grpSpPr>
            <a:xfrm>
              <a:off x="1379520" y="964800"/>
              <a:ext cx="502920" cy="421200"/>
              <a:chOff x="1379520" y="964800"/>
              <a:chExt cx="502920" cy="421200"/>
            </a:xfrm>
          </p:grpSpPr>
          <p:sp>
            <p:nvSpPr>
              <p:cNvPr id="81" name="AutoShape 10"/>
              <p:cNvSpPr/>
              <p:nvPr/>
            </p:nvSpPr>
            <p:spPr>
              <a:xfrm rot="4952400">
                <a:off x="1451880" y="1024200"/>
                <a:ext cx="248040" cy="364320"/>
              </a:xfrm>
              <a:custGeom>
                <a:avLst/>
                <a:gdLst>
                  <a:gd name="textAreaLeft" fmla="*/ 57960 w 248040"/>
                  <a:gd name="textAreaRight" fmla="*/ 190080 w 248040"/>
                  <a:gd name="textAreaTop" fmla="*/ 38880 h 364320"/>
                  <a:gd name="textAreaBottom" fmla="*/ 23148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1"/>
              <p:cNvSpPr/>
              <p:nvPr/>
            </p:nvSpPr>
            <p:spPr>
              <a:xfrm rot="1580400">
                <a:off x="1486800" y="1026360"/>
                <a:ext cx="347400" cy="29808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12"/>
            <p:cNvGrpSpPr/>
            <p:nvPr/>
          </p:nvGrpSpPr>
          <p:grpSpPr>
            <a:xfrm>
              <a:off x="3276720" y="474840"/>
              <a:ext cx="504720" cy="504360"/>
              <a:chOff x="3276720" y="474840"/>
              <a:chExt cx="504720" cy="504360"/>
            </a:xfrm>
          </p:grpSpPr>
          <p:sp>
            <p:nvSpPr>
              <p:cNvPr id="84" name="Oval 13"/>
              <p:cNvSpPr/>
              <p:nvPr/>
            </p:nvSpPr>
            <p:spPr>
              <a:xfrm>
                <a:off x="3276720" y="544680"/>
                <a:ext cx="504720" cy="434520"/>
              </a:xfrm>
              <a:prstGeom prst="ellipse">
                <a:avLst/>
              </a:prstGeom>
              <a:blipFill rotWithShape="0">
                <a:blip r:embed="rId3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14"/>
              <p:cNvSpPr/>
              <p:nvPr/>
            </p:nvSpPr>
            <p:spPr>
              <a:xfrm>
                <a:off x="3306600" y="779400"/>
                <a:ext cx="29880" cy="3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15"/>
              <p:cNvGrpSpPr/>
              <p:nvPr/>
            </p:nvGrpSpPr>
            <p:grpSpPr>
              <a:xfrm>
                <a:off x="3382560" y="474840"/>
                <a:ext cx="252360" cy="236160"/>
                <a:chOff x="3382560" y="474840"/>
                <a:chExt cx="252360" cy="236160"/>
              </a:xfrm>
            </p:grpSpPr>
            <p:sp>
              <p:nvSpPr>
                <p:cNvPr id="87" name="AutoShape 16"/>
                <p:cNvSpPr/>
                <p:nvPr/>
              </p:nvSpPr>
              <p:spPr>
                <a:xfrm rot="7846200">
                  <a:off x="3391560" y="547560"/>
                  <a:ext cx="23400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17"/>
                <p:cNvSpPr/>
                <p:nvPr/>
              </p:nvSpPr>
              <p:spPr>
                <a:xfrm rot="1602000">
                  <a:off x="3390120" y="547560"/>
                  <a:ext cx="23688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Freeform 18"/>
              <p:cNvSpPr/>
              <p:nvPr/>
            </p:nvSpPr>
            <p:spPr>
              <a:xfrm>
                <a:off x="3353760" y="832680"/>
                <a:ext cx="207360" cy="1134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9"/>
            <p:cNvGrpSpPr/>
            <p:nvPr/>
          </p:nvGrpSpPr>
          <p:grpSpPr>
            <a:xfrm>
              <a:off x="1188720" y="544320"/>
              <a:ext cx="481680" cy="414000"/>
              <a:chOff x="1188720" y="544320"/>
              <a:chExt cx="481680" cy="414000"/>
            </a:xfrm>
          </p:grpSpPr>
          <p:sp>
            <p:nvSpPr>
              <p:cNvPr id="91" name="Oval 20"/>
              <p:cNvSpPr/>
              <p:nvPr/>
            </p:nvSpPr>
            <p:spPr>
              <a:xfrm rot="20629200">
                <a:off x="1224000" y="595080"/>
                <a:ext cx="411120" cy="311760"/>
              </a:xfrm>
              <a:prstGeom prst="ellipse">
                <a:avLst/>
              </a:prstGeom>
              <a:blipFill rotWithShape="0">
                <a:blip r:embed="rId4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21"/>
              <p:cNvSpPr/>
              <p:nvPr/>
            </p:nvSpPr>
            <p:spPr>
              <a:xfrm rot="20629200">
                <a:off x="1260000" y="809640"/>
                <a:ext cx="25560" cy="23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22"/>
              <p:cNvGrpSpPr/>
              <p:nvPr/>
            </p:nvGrpSpPr>
            <p:grpSpPr>
              <a:xfrm>
                <a:off x="1279800" y="550440"/>
                <a:ext cx="201600" cy="182160"/>
                <a:chOff x="1279800" y="550440"/>
                <a:chExt cx="201600" cy="182160"/>
              </a:xfrm>
            </p:grpSpPr>
            <p:sp>
              <p:nvSpPr>
                <p:cNvPr id="94" name="AutoShape 23"/>
                <p:cNvSpPr/>
                <p:nvPr/>
              </p:nvSpPr>
              <p:spPr>
                <a:xfrm rot="6875400">
                  <a:off x="1297080" y="604800"/>
                  <a:ext cx="167040" cy="72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24"/>
                <p:cNvSpPr/>
                <p:nvPr/>
              </p:nvSpPr>
              <p:spPr>
                <a:xfrm rot="631200">
                  <a:off x="1283760" y="608040"/>
                  <a:ext cx="192960" cy="65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25"/>
              <p:cNvSpPr/>
              <p:nvPr/>
            </p:nvSpPr>
            <p:spPr>
              <a:xfrm rot="20629200">
                <a:off x="1315080" y="815400"/>
                <a:ext cx="168840" cy="810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6"/>
            <p:cNvGrpSpPr/>
            <p:nvPr/>
          </p:nvGrpSpPr>
          <p:grpSpPr>
            <a:xfrm>
              <a:off x="2583360" y="54720"/>
              <a:ext cx="452880" cy="443880"/>
              <a:chOff x="2583360" y="54720"/>
              <a:chExt cx="452880" cy="443880"/>
            </a:xfrm>
          </p:grpSpPr>
          <p:sp>
            <p:nvSpPr>
              <p:cNvPr id="98" name="Oval 27"/>
              <p:cNvSpPr/>
              <p:nvPr/>
            </p:nvSpPr>
            <p:spPr>
              <a:xfrm rot="12714000">
                <a:off x="2639520" y="120600"/>
                <a:ext cx="339840" cy="311400"/>
              </a:xfrm>
              <a:prstGeom prst="ellipse">
                <a:avLst/>
              </a:prstGeom>
              <a:blipFill rotWithShape="0">
                <a:blip r:embed="rId5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28"/>
              <p:cNvSpPr/>
              <p:nvPr/>
            </p:nvSpPr>
            <p:spPr>
              <a:xfrm rot="12714000">
                <a:off x="2934000" y="316440"/>
                <a:ext cx="18720" cy="23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9"/>
              <p:cNvGrpSpPr/>
              <p:nvPr/>
            </p:nvGrpSpPr>
            <p:grpSpPr>
              <a:xfrm>
                <a:off x="2670480" y="301320"/>
                <a:ext cx="177840" cy="169920"/>
                <a:chOff x="2670480" y="301320"/>
                <a:chExt cx="177840" cy="169920"/>
              </a:xfrm>
            </p:grpSpPr>
            <p:sp>
              <p:nvSpPr>
                <p:cNvPr id="101" name="AutoShape 30"/>
                <p:cNvSpPr/>
                <p:nvPr/>
              </p:nvSpPr>
              <p:spPr>
                <a:xfrm rot="20560200">
                  <a:off x="2675520" y="355320"/>
                  <a:ext cx="167040" cy="61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31"/>
                <p:cNvSpPr/>
                <p:nvPr/>
              </p:nvSpPr>
              <p:spPr>
                <a:xfrm rot="14316000">
                  <a:off x="2679120" y="353520"/>
                  <a:ext cx="159480" cy="651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32"/>
              <p:cNvSpPr/>
              <p:nvPr/>
            </p:nvSpPr>
            <p:spPr>
              <a:xfrm rot="12714000">
                <a:off x="2830320" y="1839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2448000" y="555120"/>
              <a:ext cx="420480" cy="390960"/>
              <a:chOff x="2448000" y="555120"/>
              <a:chExt cx="420480" cy="390960"/>
            </a:xfrm>
          </p:grpSpPr>
          <p:sp>
            <p:nvSpPr>
              <p:cNvPr id="105" name="Oval 34"/>
              <p:cNvSpPr/>
              <p:nvPr/>
            </p:nvSpPr>
            <p:spPr>
              <a:xfrm rot="790800">
                <a:off x="2478600" y="597240"/>
                <a:ext cx="358920" cy="311760"/>
              </a:xfrm>
              <a:prstGeom prst="ellipse">
                <a:avLst/>
              </a:prstGeom>
              <a:blipFill rotWithShape="0">
                <a:blip r:embed="rId6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35"/>
              <p:cNvSpPr/>
              <p:nvPr/>
            </p:nvSpPr>
            <p:spPr>
              <a:xfrm rot="790800">
                <a:off x="2497680" y="729360"/>
                <a:ext cx="21960" cy="23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36"/>
              <p:cNvGrpSpPr/>
              <p:nvPr/>
            </p:nvGrpSpPr>
            <p:grpSpPr>
              <a:xfrm>
                <a:off x="2586600" y="555120"/>
                <a:ext cx="172800" cy="156600"/>
                <a:chOff x="2586600" y="555120"/>
                <a:chExt cx="172800" cy="156600"/>
              </a:xfrm>
            </p:grpSpPr>
            <p:sp>
              <p:nvSpPr>
                <p:cNvPr id="108" name="AutoShape 37"/>
                <p:cNvSpPr/>
                <p:nvPr/>
              </p:nvSpPr>
              <p:spPr>
                <a:xfrm rot="8637600">
                  <a:off x="2588760" y="600840"/>
                  <a:ext cx="167760" cy="63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38"/>
                <p:cNvSpPr/>
                <p:nvPr/>
              </p:nvSpPr>
              <p:spPr>
                <a:xfrm rot="2392800">
                  <a:off x="2588040" y="601560"/>
                  <a:ext cx="168480" cy="63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39"/>
              <p:cNvSpPr/>
              <p:nvPr/>
            </p:nvSpPr>
            <p:spPr>
              <a:xfrm rot="790800">
                <a:off x="2514600" y="790200"/>
                <a:ext cx="147600" cy="813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0"/>
            <p:cNvGrpSpPr/>
            <p:nvPr/>
          </p:nvGrpSpPr>
          <p:grpSpPr>
            <a:xfrm>
              <a:off x="324000" y="544320"/>
              <a:ext cx="504720" cy="436680"/>
              <a:chOff x="324000" y="544320"/>
              <a:chExt cx="504720" cy="436680"/>
            </a:xfrm>
          </p:grpSpPr>
          <p:sp>
            <p:nvSpPr>
              <p:cNvPr id="112" name="Oval 41"/>
              <p:cNvSpPr/>
              <p:nvPr/>
            </p:nvSpPr>
            <p:spPr>
              <a:xfrm>
                <a:off x="324000" y="608040"/>
                <a:ext cx="504720" cy="372960"/>
              </a:xfrm>
              <a:prstGeom prst="ellipse">
                <a:avLst/>
              </a:prstGeom>
              <a:blipFill rotWithShape="0">
                <a:blip r:embed="rId7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2"/>
              <p:cNvSpPr/>
              <p:nvPr/>
            </p:nvSpPr>
            <p:spPr>
              <a:xfrm>
                <a:off x="353880" y="809280"/>
                <a:ext cx="29880" cy="27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43"/>
              <p:cNvGrpSpPr/>
              <p:nvPr/>
            </p:nvGrpSpPr>
            <p:grpSpPr>
              <a:xfrm>
                <a:off x="433440" y="544320"/>
                <a:ext cx="245880" cy="210960"/>
                <a:chOff x="433440" y="544320"/>
                <a:chExt cx="245880" cy="210960"/>
              </a:xfrm>
            </p:grpSpPr>
            <p:sp>
              <p:nvSpPr>
                <p:cNvPr id="115" name="AutoShape 44"/>
                <p:cNvSpPr/>
                <p:nvPr/>
              </p:nvSpPr>
              <p:spPr>
                <a:xfrm rot="7846200">
                  <a:off x="455400" y="604440"/>
                  <a:ext cx="20052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45"/>
                <p:cNvSpPr/>
                <p:nvPr/>
              </p:nvSpPr>
              <p:spPr>
                <a:xfrm rot="1602000">
                  <a:off x="437760" y="610920"/>
                  <a:ext cx="236880" cy="76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46"/>
              <p:cNvSpPr/>
              <p:nvPr/>
            </p:nvSpPr>
            <p:spPr>
              <a:xfrm>
                <a:off x="401040" y="855000"/>
                <a:ext cx="207360" cy="9720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7"/>
            <p:cNvGrpSpPr/>
            <p:nvPr/>
          </p:nvGrpSpPr>
          <p:grpSpPr>
            <a:xfrm>
              <a:off x="2381400" y="1123920"/>
              <a:ext cx="578520" cy="486360"/>
              <a:chOff x="2381400" y="1123920"/>
              <a:chExt cx="578520" cy="486360"/>
            </a:xfrm>
          </p:grpSpPr>
          <p:sp>
            <p:nvSpPr>
              <p:cNvPr id="119" name="Oval 48"/>
              <p:cNvSpPr/>
              <p:nvPr/>
            </p:nvSpPr>
            <p:spPr>
              <a:xfrm rot="20788200">
                <a:off x="2418120" y="1181880"/>
                <a:ext cx="505080" cy="374400"/>
              </a:xfrm>
              <a:prstGeom prst="ellipse">
                <a:avLst/>
              </a:prstGeom>
              <a:blipFill rotWithShape="0">
                <a:blip r:embed="rId8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49"/>
              <p:cNvSpPr/>
              <p:nvPr/>
            </p:nvSpPr>
            <p:spPr>
              <a:xfrm rot="20788200">
                <a:off x="2460240" y="1432440"/>
                <a:ext cx="29880" cy="273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50"/>
              <p:cNvGrpSpPr/>
              <p:nvPr/>
            </p:nvGrpSpPr>
            <p:grpSpPr>
              <a:xfrm>
                <a:off x="2493000" y="1123920"/>
                <a:ext cx="248400" cy="220320"/>
                <a:chOff x="2493000" y="1123920"/>
                <a:chExt cx="248400" cy="220320"/>
              </a:xfrm>
            </p:grpSpPr>
            <p:sp>
              <p:nvSpPr>
                <p:cNvPr id="122" name="AutoShape 51"/>
                <p:cNvSpPr/>
                <p:nvPr/>
              </p:nvSpPr>
              <p:spPr>
                <a:xfrm rot="7034400">
                  <a:off x="2516040" y="1188720"/>
                  <a:ext cx="201240" cy="90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52"/>
                <p:cNvSpPr/>
                <p:nvPr/>
              </p:nvSpPr>
              <p:spPr>
                <a:xfrm rot="790200">
                  <a:off x="2498760" y="1194840"/>
                  <a:ext cx="236880" cy="76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Freeform 53"/>
              <p:cNvSpPr/>
              <p:nvPr/>
            </p:nvSpPr>
            <p:spPr>
              <a:xfrm rot="20788200">
                <a:off x="2522880" y="144468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4"/>
            <p:cNvGrpSpPr/>
            <p:nvPr/>
          </p:nvGrpSpPr>
          <p:grpSpPr>
            <a:xfrm>
              <a:off x="1763640" y="328680"/>
              <a:ext cx="360360" cy="293760"/>
              <a:chOff x="1763640" y="328680"/>
              <a:chExt cx="360360" cy="293760"/>
            </a:xfrm>
          </p:grpSpPr>
          <p:sp>
            <p:nvSpPr>
              <p:cNvPr id="126" name="Oval 55"/>
              <p:cNvSpPr/>
              <p:nvPr/>
            </p:nvSpPr>
            <p:spPr>
              <a:xfrm>
                <a:off x="1763640" y="372960"/>
                <a:ext cx="360360" cy="249480"/>
              </a:xfrm>
              <a:prstGeom prst="ellipse">
                <a:avLst/>
              </a:prstGeom>
              <a:blipFill rotWithShape="0">
                <a:blip r:embed="rId9">
                  <a:alphaModFix amt="90000"/>
                </a:blip>
                <a:srcRect/>
                <a:stretch/>
              </a:blipFill>
              <a:ln w="0">
                <a:noFill/>
              </a:ln>
              <a:effectLst>
                <a:outerShdw dist="17819" dir="2700000" blurRad="0" rotWithShape="0">
                  <a:srgbClr val="995c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56"/>
              <p:cNvSpPr/>
              <p:nvPr/>
            </p:nvSpPr>
            <p:spPr>
              <a:xfrm>
                <a:off x="1785960" y="506160"/>
                <a:ext cx="20520" cy="190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57"/>
              <p:cNvGrpSpPr/>
              <p:nvPr/>
            </p:nvGrpSpPr>
            <p:grpSpPr>
              <a:xfrm>
                <a:off x="1842480" y="328680"/>
                <a:ext cx="174600" cy="144000"/>
                <a:chOff x="1842480" y="328680"/>
                <a:chExt cx="174600" cy="144000"/>
              </a:xfrm>
            </p:grpSpPr>
            <p:sp>
              <p:nvSpPr>
                <p:cNvPr id="129" name="AutoShape 58"/>
                <p:cNvSpPr/>
                <p:nvPr/>
              </p:nvSpPr>
              <p:spPr>
                <a:xfrm rot="7846200">
                  <a:off x="1862640" y="368280"/>
                  <a:ext cx="134280" cy="64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59"/>
                <p:cNvSpPr/>
                <p:nvPr/>
              </p:nvSpPr>
              <p:spPr>
                <a:xfrm rot="1602000">
                  <a:off x="1845000" y="374040"/>
                  <a:ext cx="169200" cy="52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  <a:effectLst>
                  <a:outerShdw dist="17819" dir="2700000" blurRad="0" rotWithShape="0">
                    <a:srgbClr val="004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Freeform 60"/>
              <p:cNvSpPr/>
              <p:nvPr/>
            </p:nvSpPr>
            <p:spPr>
              <a:xfrm>
                <a:off x="1818720" y="538200"/>
                <a:ext cx="147960" cy="65160"/>
              </a:xfrm>
              <a:custGeom>
                <a:avLst/>
                <a:gdLst/>
                <a:ahLst/>
                <a:rect l="l" t="t" r="r" b="b"/>
                <a:pathLst>
                  <a:path w="317" h="166">
                    <a:moveTo>
                      <a:pt x="176" y="97"/>
                    </a:moveTo>
                    <a:cubicBezTo>
                      <a:pt x="219" y="122"/>
                      <a:pt x="317" y="149"/>
                      <a:pt x="314" y="157"/>
                    </a:cubicBezTo>
                    <a:cubicBezTo>
                      <a:pt x="311" y="165"/>
                      <a:pt x="204" y="166"/>
                      <a:pt x="155" y="148"/>
                    </a:cubicBezTo>
                    <a:cubicBezTo>
                      <a:pt x="106" y="130"/>
                      <a:pt x="34" y="70"/>
                      <a:pt x="17" y="47"/>
                    </a:cubicBezTo>
                    <a:cubicBezTo>
                      <a:pt x="0" y="24"/>
                      <a:pt x="29" y="0"/>
                      <a:pt x="55" y="8"/>
                    </a:cubicBezTo>
                    <a:lnTo>
                      <a:pt x="176" y="9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1"/>
            <p:cNvGrpSpPr/>
            <p:nvPr/>
          </p:nvGrpSpPr>
          <p:grpSpPr>
            <a:xfrm>
              <a:off x="2916360" y="620640"/>
              <a:ext cx="419760" cy="457200"/>
              <a:chOff x="2916360" y="620640"/>
              <a:chExt cx="419760" cy="457200"/>
            </a:xfrm>
          </p:grpSpPr>
          <p:sp>
            <p:nvSpPr>
              <p:cNvPr id="133" name="AutoShape 62"/>
              <p:cNvSpPr/>
              <p:nvPr/>
            </p:nvSpPr>
            <p:spPr>
              <a:xfrm rot="19572000">
                <a:off x="3003840" y="669240"/>
                <a:ext cx="250560" cy="370080"/>
              </a:xfrm>
              <a:custGeom>
                <a:avLst/>
                <a:gdLst>
                  <a:gd name="textAreaLeft" fmla="*/ 58680 w 250560"/>
                  <a:gd name="textAreaRight" fmla="*/ 191880 w 250560"/>
                  <a:gd name="textAreaTop" fmla="*/ 39600 h 370080"/>
                  <a:gd name="textAreaBottom" fmla="*/ 235080 h 37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10">
                  <a:alphaModFix amt="4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3"/>
              <p:cNvSpPr/>
              <p:nvPr/>
            </p:nvSpPr>
            <p:spPr>
              <a:xfrm rot="16200000">
                <a:off x="2890800" y="64584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64"/>
            <p:cNvGrpSpPr/>
            <p:nvPr/>
          </p:nvGrpSpPr>
          <p:grpSpPr>
            <a:xfrm>
              <a:off x="852480" y="175320"/>
              <a:ext cx="503280" cy="427680"/>
              <a:chOff x="852480" y="175320"/>
              <a:chExt cx="503280" cy="427680"/>
            </a:xfrm>
          </p:grpSpPr>
          <p:sp>
            <p:nvSpPr>
              <p:cNvPr id="136" name="AutoShape 65"/>
              <p:cNvSpPr/>
              <p:nvPr/>
            </p:nvSpPr>
            <p:spPr>
              <a:xfrm rot="15780000">
                <a:off x="1029960" y="167760"/>
                <a:ext cx="248400" cy="375480"/>
              </a:xfrm>
              <a:custGeom>
                <a:avLst/>
                <a:gdLst>
                  <a:gd name="textAreaLeft" fmla="*/ 57960 w 248400"/>
                  <a:gd name="textAreaRight" fmla="*/ 190440 w 248400"/>
                  <a:gd name="textAreaTop" fmla="*/ 40320 h 375480"/>
                  <a:gd name="textAreaBottom" fmla="*/ 238680 h 37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2408000">
                <a:off x="900360" y="239760"/>
                <a:ext cx="357840" cy="298440"/>
              </a:xfrm>
              <a:custGeom>
                <a:avLst/>
                <a:gdLst/>
                <a:ahLst/>
                <a:rect l="l" t="t" r="r" b="b"/>
                <a:pathLst>
                  <a:path w="192" h="146">
                    <a:moveTo>
                      <a:pt x="0" y="146"/>
                    </a:moveTo>
                    <a:cubicBezTo>
                      <a:pt x="27" y="128"/>
                      <a:pt x="52" y="120"/>
                      <a:pt x="82" y="109"/>
                    </a:cubicBezTo>
                    <a:cubicBezTo>
                      <a:pt x="88" y="103"/>
                      <a:pt x="93" y="95"/>
                      <a:pt x="101" y="91"/>
                    </a:cubicBezTo>
                    <a:cubicBezTo>
                      <a:pt x="109" y="86"/>
                      <a:pt x="121" y="88"/>
                      <a:pt x="128" y="82"/>
                    </a:cubicBezTo>
                    <a:cubicBezTo>
                      <a:pt x="143" y="70"/>
                      <a:pt x="151" y="50"/>
                      <a:pt x="165" y="36"/>
                    </a:cubicBezTo>
                    <a:cubicBezTo>
                      <a:pt x="176" y="3"/>
                      <a:pt x="166" y="13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72"/>
          <p:cNvGrpSpPr/>
          <p:nvPr/>
        </p:nvGrpSpPr>
        <p:grpSpPr>
          <a:xfrm>
            <a:off x="8042400" y="5672880"/>
            <a:ext cx="862200" cy="801000"/>
            <a:chOff x="8042400" y="5672880"/>
            <a:chExt cx="862200" cy="801000"/>
          </a:xfrm>
        </p:grpSpPr>
        <p:sp>
          <p:nvSpPr>
            <p:cNvPr id="139" name="Oval 73"/>
            <p:cNvSpPr/>
            <p:nvPr/>
          </p:nvSpPr>
          <p:spPr>
            <a:xfrm rot="20651400">
              <a:off x="8113680" y="5762520"/>
              <a:ext cx="718920" cy="625320"/>
            </a:xfrm>
            <a:prstGeom prst="ellipse">
              <a:avLst/>
            </a:prstGeom>
            <a:blipFill rotWithShape="0">
              <a:blip r:embed="rId11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74"/>
            <p:cNvSpPr/>
            <p:nvPr/>
          </p:nvSpPr>
          <p:spPr>
            <a:xfrm rot="20651400">
              <a:off x="8180280" y="6179760"/>
              <a:ext cx="40680" cy="475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75"/>
            <p:cNvGrpSpPr/>
            <p:nvPr/>
          </p:nvGrpSpPr>
          <p:grpSpPr>
            <a:xfrm>
              <a:off x="8202600" y="5672880"/>
              <a:ext cx="355320" cy="358560"/>
              <a:chOff x="8202600" y="5672880"/>
              <a:chExt cx="355320" cy="358560"/>
            </a:xfrm>
          </p:grpSpPr>
          <p:sp>
            <p:nvSpPr>
              <p:cNvPr id="142" name="AutoShape 76"/>
              <p:cNvSpPr/>
              <p:nvPr/>
            </p:nvSpPr>
            <p:spPr>
              <a:xfrm rot="6897600">
                <a:off x="8211600" y="5787720"/>
                <a:ext cx="335880" cy="1281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7"/>
              <p:cNvSpPr/>
              <p:nvPr/>
            </p:nvSpPr>
            <p:spPr>
              <a:xfrm rot="653400">
                <a:off x="8211240" y="5787360"/>
                <a:ext cx="337320" cy="1285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78"/>
            <p:cNvSpPr/>
            <p:nvPr/>
          </p:nvSpPr>
          <p:spPr>
            <a:xfrm rot="20651400">
              <a:off x="8278560" y="6199560"/>
              <a:ext cx="295560" cy="16308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79"/>
          <p:cNvGrpSpPr/>
          <p:nvPr/>
        </p:nvGrpSpPr>
        <p:grpSpPr>
          <a:xfrm>
            <a:off x="7575840" y="6018840"/>
            <a:ext cx="540360" cy="459360"/>
            <a:chOff x="7575840" y="6018840"/>
            <a:chExt cx="540360" cy="459360"/>
          </a:xfrm>
        </p:grpSpPr>
        <p:sp>
          <p:nvSpPr>
            <p:cNvPr id="146" name="Oval 80"/>
            <p:cNvSpPr/>
            <p:nvPr/>
          </p:nvSpPr>
          <p:spPr>
            <a:xfrm rot="352200">
              <a:off x="7593480" y="6078600"/>
              <a:ext cx="504720" cy="374400"/>
            </a:xfrm>
            <a:prstGeom prst="ellipse">
              <a:avLst/>
            </a:prstGeom>
            <a:blipFill rotWithShape="0">
              <a:blip r:embed="rId12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1"/>
            <p:cNvSpPr/>
            <p:nvPr/>
          </p:nvSpPr>
          <p:spPr>
            <a:xfrm rot="352200">
              <a:off x="7620120" y="626004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82"/>
            <p:cNvGrpSpPr/>
            <p:nvPr/>
          </p:nvGrpSpPr>
          <p:grpSpPr>
            <a:xfrm>
              <a:off x="7719840" y="6018840"/>
              <a:ext cx="241200" cy="203760"/>
              <a:chOff x="7719840" y="6018840"/>
              <a:chExt cx="241200" cy="203760"/>
            </a:xfrm>
          </p:grpSpPr>
          <p:sp>
            <p:nvSpPr>
              <p:cNvPr id="149" name="AutoShape 83"/>
              <p:cNvSpPr/>
              <p:nvPr/>
            </p:nvSpPr>
            <p:spPr>
              <a:xfrm rot="8198400">
                <a:off x="7740000" y="6075360"/>
                <a:ext cx="201240" cy="9036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84"/>
              <p:cNvSpPr/>
              <p:nvPr/>
            </p:nvSpPr>
            <p:spPr>
              <a:xfrm rot="1954200">
                <a:off x="7721640" y="608292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85"/>
            <p:cNvSpPr/>
            <p:nvPr/>
          </p:nvSpPr>
          <p:spPr>
            <a:xfrm rot="352200">
              <a:off x="7659360" y="631980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6"/>
          <p:cNvGrpSpPr/>
          <p:nvPr/>
        </p:nvGrpSpPr>
        <p:grpSpPr>
          <a:xfrm>
            <a:off x="281880" y="2182320"/>
            <a:ext cx="487800" cy="419400"/>
            <a:chOff x="281880" y="2182320"/>
            <a:chExt cx="487800" cy="419400"/>
          </a:xfrm>
        </p:grpSpPr>
        <p:sp>
          <p:nvSpPr>
            <p:cNvPr id="153" name="AutoShape 87"/>
            <p:cNvSpPr/>
            <p:nvPr/>
          </p:nvSpPr>
          <p:spPr>
            <a:xfrm rot="3981600">
              <a:off x="376200" y="222732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8"/>
            <p:cNvSpPr/>
            <p:nvPr/>
          </p:nvSpPr>
          <p:spPr>
            <a:xfrm rot="609600">
              <a:off x="393120" y="221076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9"/>
          <p:cNvGrpSpPr/>
          <p:nvPr/>
        </p:nvGrpSpPr>
        <p:grpSpPr>
          <a:xfrm>
            <a:off x="478440" y="4002480"/>
            <a:ext cx="415800" cy="494640"/>
            <a:chOff x="478440" y="4002480"/>
            <a:chExt cx="415800" cy="494640"/>
          </a:xfrm>
        </p:grpSpPr>
        <p:sp>
          <p:nvSpPr>
            <p:cNvPr id="156" name="AutoShape 90"/>
            <p:cNvSpPr/>
            <p:nvPr/>
          </p:nvSpPr>
          <p:spPr>
            <a:xfrm rot="20411400">
              <a:off x="588240" y="40953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1"/>
            <p:cNvSpPr/>
            <p:nvPr/>
          </p:nvSpPr>
          <p:spPr>
            <a:xfrm rot="17039400">
              <a:off x="491040" y="40590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92"/>
          <p:cNvGrpSpPr/>
          <p:nvPr/>
        </p:nvGrpSpPr>
        <p:grpSpPr>
          <a:xfrm>
            <a:off x="8633520" y="6285960"/>
            <a:ext cx="487800" cy="419400"/>
            <a:chOff x="8633520" y="6285960"/>
            <a:chExt cx="487800" cy="419400"/>
          </a:xfrm>
        </p:grpSpPr>
        <p:sp>
          <p:nvSpPr>
            <p:cNvPr id="159" name="AutoShape 93"/>
            <p:cNvSpPr/>
            <p:nvPr/>
          </p:nvSpPr>
          <p:spPr>
            <a:xfrm rot="3981600">
              <a:off x="8727840" y="6330960"/>
              <a:ext cx="250560" cy="370080"/>
            </a:xfrm>
            <a:custGeom>
              <a:avLst/>
              <a:gdLst>
                <a:gd name="textAreaLeft" fmla="*/ 58680 w 250560"/>
                <a:gd name="textAreaRight" fmla="*/ 191880 w 250560"/>
                <a:gd name="textAreaTop" fmla="*/ 39600 h 370080"/>
                <a:gd name="textAreaBottom" fmla="*/ 23508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15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4"/>
            <p:cNvSpPr/>
            <p:nvPr/>
          </p:nvSpPr>
          <p:spPr>
            <a:xfrm rot="609600">
              <a:off x="8744760" y="6314400"/>
              <a:ext cx="352440" cy="3016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5"/>
          <p:cNvGrpSpPr/>
          <p:nvPr/>
        </p:nvGrpSpPr>
        <p:grpSpPr>
          <a:xfrm>
            <a:off x="1549440" y="1015560"/>
            <a:ext cx="618120" cy="558720"/>
            <a:chOff x="1549440" y="1015560"/>
            <a:chExt cx="618120" cy="558720"/>
          </a:xfrm>
        </p:grpSpPr>
        <p:sp>
          <p:nvSpPr>
            <p:cNvPr id="162" name="Oval 96"/>
            <p:cNvSpPr/>
            <p:nvPr/>
          </p:nvSpPr>
          <p:spPr>
            <a:xfrm rot="1585200">
              <a:off x="1605960" y="1108080"/>
              <a:ext cx="504720" cy="372960"/>
            </a:xfrm>
            <a:prstGeom prst="ellipse">
              <a:avLst/>
            </a:prstGeom>
            <a:blipFill rotWithShape="0">
              <a:blip r:embed="rId16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7"/>
            <p:cNvSpPr/>
            <p:nvPr/>
          </p:nvSpPr>
          <p:spPr>
            <a:xfrm rot="1585200">
              <a:off x="1645560" y="1214280"/>
              <a:ext cx="29880" cy="27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98"/>
            <p:cNvGrpSpPr/>
            <p:nvPr/>
          </p:nvGrpSpPr>
          <p:grpSpPr>
            <a:xfrm>
              <a:off x="1796400" y="1038600"/>
              <a:ext cx="219960" cy="235440"/>
              <a:chOff x="1796400" y="1038600"/>
              <a:chExt cx="219960" cy="235440"/>
            </a:xfrm>
          </p:grpSpPr>
          <p:sp>
            <p:nvSpPr>
              <p:cNvPr id="165" name="AutoShape 99"/>
              <p:cNvSpPr/>
              <p:nvPr/>
            </p:nvSpPr>
            <p:spPr>
              <a:xfrm rot="9432000">
                <a:off x="1805760" y="1110960"/>
                <a:ext cx="200520" cy="907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00"/>
              <p:cNvSpPr/>
              <p:nvPr/>
            </p:nvSpPr>
            <p:spPr>
              <a:xfrm rot="3187200">
                <a:off x="1787760" y="1117800"/>
                <a:ext cx="236880" cy="763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01"/>
            <p:cNvSpPr/>
            <p:nvPr/>
          </p:nvSpPr>
          <p:spPr>
            <a:xfrm rot="1585200">
              <a:off x="1643040" y="1312560"/>
              <a:ext cx="207360" cy="9720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2"/>
          <p:cNvGrpSpPr/>
          <p:nvPr/>
        </p:nvGrpSpPr>
        <p:grpSpPr>
          <a:xfrm>
            <a:off x="8107560" y="4717440"/>
            <a:ext cx="469800" cy="489960"/>
            <a:chOff x="8107560" y="4717440"/>
            <a:chExt cx="469800" cy="489960"/>
          </a:xfrm>
        </p:grpSpPr>
        <p:sp>
          <p:nvSpPr>
            <p:cNvPr id="169" name="AutoShape 103"/>
            <p:cNvSpPr/>
            <p:nvPr/>
          </p:nvSpPr>
          <p:spPr>
            <a:xfrm rot="2422200">
              <a:off x="8197200" y="4797360"/>
              <a:ext cx="255960" cy="371160"/>
            </a:xfrm>
            <a:custGeom>
              <a:avLst/>
              <a:gdLst>
                <a:gd name="textAreaLeft" fmla="*/ 59760 w 255960"/>
                <a:gd name="textAreaRight" fmla="*/ 196200 w 255960"/>
                <a:gd name="textAreaTop" fmla="*/ 39600 h 371160"/>
                <a:gd name="textAreaBottom" fmla="*/ 2358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4"/>
            <p:cNvSpPr/>
            <p:nvPr/>
          </p:nvSpPr>
          <p:spPr>
            <a:xfrm rot="20650800">
              <a:off x="8187840" y="4759560"/>
              <a:ext cx="353880" cy="3074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5"/>
          <p:cNvGrpSpPr/>
          <p:nvPr/>
        </p:nvGrpSpPr>
        <p:grpSpPr>
          <a:xfrm>
            <a:off x="866160" y="5632560"/>
            <a:ext cx="485640" cy="417960"/>
            <a:chOff x="866160" y="5632560"/>
            <a:chExt cx="485640" cy="417960"/>
          </a:xfrm>
        </p:grpSpPr>
        <p:sp>
          <p:nvSpPr>
            <p:cNvPr id="172" name="AutoShape 106"/>
            <p:cNvSpPr/>
            <p:nvPr/>
          </p:nvSpPr>
          <p:spPr>
            <a:xfrm rot="3981600">
              <a:off x="959400" y="5682600"/>
              <a:ext cx="245520" cy="364320"/>
            </a:xfrm>
            <a:custGeom>
              <a:avLst/>
              <a:gdLst>
                <a:gd name="textAreaLeft" fmla="*/ 57240 w 245520"/>
                <a:gd name="textAreaRight" fmla="*/ 188280 w 245520"/>
                <a:gd name="textAreaTop" fmla="*/ 38880 h 364320"/>
                <a:gd name="textAreaBottom" fmla="*/ 2314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7"/>
            <p:cNvSpPr/>
            <p:nvPr/>
          </p:nvSpPr>
          <p:spPr>
            <a:xfrm rot="609600">
              <a:off x="981000" y="5660640"/>
              <a:ext cx="347400" cy="29556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8"/>
          <p:cNvGrpSpPr/>
          <p:nvPr/>
        </p:nvGrpSpPr>
        <p:grpSpPr>
          <a:xfrm>
            <a:off x="7058160" y="6208920"/>
            <a:ext cx="486720" cy="418320"/>
            <a:chOff x="7058160" y="6208920"/>
            <a:chExt cx="486720" cy="418320"/>
          </a:xfrm>
        </p:grpSpPr>
        <p:sp>
          <p:nvSpPr>
            <p:cNvPr id="175" name="AutoShape 109"/>
            <p:cNvSpPr/>
            <p:nvPr/>
          </p:nvSpPr>
          <p:spPr>
            <a:xfrm rot="3981600">
              <a:off x="7152120" y="6255000"/>
              <a:ext cx="249120" cy="368280"/>
            </a:xfrm>
            <a:custGeom>
              <a:avLst/>
              <a:gdLst>
                <a:gd name="textAreaLeft" fmla="*/ 58320 w 249120"/>
                <a:gd name="textAreaRight" fmla="*/ 190800 w 249120"/>
                <a:gd name="textAreaTop" fmla="*/ 39240 h 368280"/>
                <a:gd name="textAreaBottom" fmla="*/ 2340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0"/>
            <p:cNvSpPr/>
            <p:nvPr/>
          </p:nvSpPr>
          <p:spPr>
            <a:xfrm rot="609600">
              <a:off x="7170120" y="6237360"/>
              <a:ext cx="350640" cy="29988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27" y="128"/>
                    <a:pt x="52" y="120"/>
                    <a:pt x="82" y="109"/>
                  </a:cubicBezTo>
                  <a:cubicBezTo>
                    <a:pt x="88" y="103"/>
                    <a:pt x="93" y="95"/>
                    <a:pt x="101" y="91"/>
                  </a:cubicBezTo>
                  <a:cubicBezTo>
                    <a:pt x="109" y="86"/>
                    <a:pt x="121" y="88"/>
                    <a:pt x="128" y="82"/>
                  </a:cubicBezTo>
                  <a:cubicBezTo>
                    <a:pt x="143" y="70"/>
                    <a:pt x="151" y="50"/>
                    <a:pt x="165" y="36"/>
                  </a:cubicBezTo>
                  <a:cubicBezTo>
                    <a:pt x="176" y="3"/>
                    <a:pt x="166" y="13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11"/>
          <p:cNvGrpSpPr/>
          <p:nvPr/>
        </p:nvGrpSpPr>
        <p:grpSpPr>
          <a:xfrm>
            <a:off x="1593000" y="6234120"/>
            <a:ext cx="568800" cy="480600"/>
            <a:chOff x="1593000" y="6234120"/>
            <a:chExt cx="568800" cy="480600"/>
          </a:xfrm>
        </p:grpSpPr>
        <p:sp>
          <p:nvSpPr>
            <p:cNvPr id="178" name="Oval 112"/>
            <p:cNvSpPr/>
            <p:nvPr/>
          </p:nvSpPr>
          <p:spPr>
            <a:xfrm rot="20916000">
              <a:off x="1624680" y="6294240"/>
              <a:ext cx="504720" cy="374040"/>
            </a:xfrm>
            <a:prstGeom prst="ellipse">
              <a:avLst/>
            </a:prstGeom>
            <a:blipFill rotWithShape="0">
              <a:blip r:embed="rId17">
                <a:alphaModFix amt="90000"/>
              </a:blip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3"/>
            <p:cNvSpPr/>
            <p:nvPr/>
          </p:nvSpPr>
          <p:spPr>
            <a:xfrm rot="20916000">
              <a:off x="1664280" y="6536160"/>
              <a:ext cx="29880" cy="27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114"/>
            <p:cNvGrpSpPr/>
            <p:nvPr/>
          </p:nvGrpSpPr>
          <p:grpSpPr>
            <a:xfrm>
              <a:off x="1705320" y="6234120"/>
              <a:ext cx="248760" cy="219960"/>
              <a:chOff x="1705320" y="6234120"/>
              <a:chExt cx="248760" cy="219960"/>
            </a:xfrm>
          </p:grpSpPr>
          <p:sp>
            <p:nvSpPr>
              <p:cNvPr id="181" name="AutoShape 115"/>
              <p:cNvSpPr/>
              <p:nvPr/>
            </p:nvSpPr>
            <p:spPr>
              <a:xfrm rot="7162200">
                <a:off x="1728360" y="6298560"/>
                <a:ext cx="201240" cy="9072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16"/>
              <p:cNvSpPr/>
              <p:nvPr/>
            </p:nvSpPr>
            <p:spPr>
              <a:xfrm rot="918000">
                <a:off x="1711080" y="6305040"/>
                <a:ext cx="236880" cy="76680"/>
              </a:xfrm>
              <a:prstGeom prst="roundRect">
                <a:avLst>
                  <a:gd name="adj" fmla="val 50000"/>
                </a:avLst>
              </a:prstGeom>
              <a:solidFill>
                <a:srgbClr val="008000"/>
              </a:solidFill>
              <a:ln w="0">
                <a:noFill/>
              </a:ln>
              <a:effectLst>
                <a:outerShdw dist="17819" dir="2700000" blurRad="0" rotWithShape="0">
                  <a:srgbClr val="004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117"/>
            <p:cNvSpPr/>
            <p:nvPr/>
          </p:nvSpPr>
          <p:spPr>
            <a:xfrm rot="20916000">
              <a:off x="1726200" y="6555240"/>
              <a:ext cx="207360" cy="97560"/>
            </a:xfrm>
            <a:custGeom>
              <a:avLst/>
              <a:gdLst/>
              <a:ahLst/>
              <a:rect l="l" t="t" r="r" b="b"/>
              <a:pathLst>
                <a:path w="317" h="166">
                  <a:moveTo>
                    <a:pt x="176" y="97"/>
                  </a:moveTo>
                  <a:cubicBezTo>
                    <a:pt x="219" y="122"/>
                    <a:pt x="317" y="149"/>
                    <a:pt x="314" y="157"/>
                  </a:cubicBezTo>
                  <a:cubicBezTo>
                    <a:pt x="311" y="165"/>
                    <a:pt x="204" y="166"/>
                    <a:pt x="155" y="148"/>
                  </a:cubicBezTo>
                  <a:cubicBezTo>
                    <a:pt x="106" y="130"/>
                    <a:pt x="34" y="70"/>
                    <a:pt x="17" y="47"/>
                  </a:cubicBezTo>
                  <a:cubicBezTo>
                    <a:pt x="0" y="24"/>
                    <a:pt x="29" y="0"/>
                    <a:pt x="55" y="8"/>
                  </a:cubicBezTo>
                  <a:lnTo>
                    <a:pt x="176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27920" indent="-280080"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3" marL="1568160" indent="-223920">
              <a:spcBef>
                <a:spcPts val="799"/>
              </a:spcBef>
              <a:buClr>
                <a:srgbClr val="3333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AFB-C829-4F2C-A045-3F8E77D79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104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學年度第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1</a:t>
            </a: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學期</a:t>
            </a:r>
            <a:br>
              <a:rPr sz="4400"/>
            </a:b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期末校務會議 業務報告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總務處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5.01.20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申請、規劃修繕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05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國中部廁所修繕計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已提出申請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活動中心修繕計畫已請技師修正完畢，等待教育局經費通過即可進行後續工程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校舍耐震詳評已檢測完畢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A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棟建議拆除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A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棟建議補強，目前高中算在安全範圍，後續就等待教育局的答覆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事務性工作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(1)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79520" y="143640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5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年度上半年消防防護計畫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自衛消防編組演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部分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配合學務處規劃，於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3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月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6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日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三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週會進行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自衛消防編組演練人員簽到表於活動前再通傳簽到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清洗水塔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1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2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抽化糞池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/25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校園環境各式修繕、樹木修剪及維護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1" name="Picture 5" descr="http://www.railway.gov.tw/Taipei/Images/632894639441380030.jpg"/>
          <p:cNvPicPr/>
          <p:nvPr/>
        </p:nvPicPr>
        <p:blipFill>
          <a:blip r:embed="rId1"/>
          <a:srcRect l="0" t="0" r="0" b="12041"/>
          <a:stretch/>
        </p:blipFill>
        <p:spPr>
          <a:xfrm>
            <a:off x="6383160" y="952560"/>
            <a:ext cx="276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事務性工作</a:t>
            </a:r>
            <a:r>
              <a:rPr b="0" lang="en-US" sz="4400" spc="-1" strike="noStrike">
                <a:solidFill>
                  <a:srgbClr val="3333ff"/>
                </a:solidFill>
                <a:latin typeface="標楷體"/>
              </a:rPr>
              <a:t>(2)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6624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各辦公室最後離開者，請務必確認關閉門窗及各項用電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住宿同仁請於離校時確認關閉門窗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避免下雨潑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、瓦斯、水電等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4" name="Picture 7" descr="http://www.khfb.gov.tw/images/3-2-4-a3.gif"/>
          <p:cNvPicPr/>
          <p:nvPr/>
        </p:nvPicPr>
        <p:blipFill>
          <a:blip r:embed="rId1"/>
          <a:stretch/>
        </p:blipFill>
        <p:spPr>
          <a:xfrm>
            <a:off x="1647720" y="4797360"/>
            <a:ext cx="137160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http://pic.pimg.tw/bellekuo/4b0d17d857d5c.jpg"/>
          <p:cNvPicPr/>
          <p:nvPr/>
        </p:nvPicPr>
        <p:blipFill>
          <a:blip r:embed="rId2"/>
          <a:stretch/>
        </p:blipFill>
        <p:spPr>
          <a:xfrm>
            <a:off x="3479760" y="4968720"/>
            <a:ext cx="2184480" cy="145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http://8.blog.xuite.net/8/6/3/0/13333406/blog_297172/txt/24794132/0.jpg"/>
          <p:cNvPicPr/>
          <p:nvPr/>
        </p:nvPicPr>
        <p:blipFill>
          <a:blip r:embed="rId3"/>
          <a:stretch/>
        </p:blipFill>
        <p:spPr>
          <a:xfrm>
            <a:off x="6012000" y="4973760"/>
            <a:ext cx="1644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文書性工作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6985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行政同仁請留意寒假期間的公文辦理、校務行政系統填報等時效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二代公文可設定代理人制度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信件如設定為寄至學校者，請留意寒假期間是否需更改地址或自行掌握時效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39" name="Picture 7" descr="http://pic.pimg.tw/nonie610/1366769968-1292678996.jpg"/>
          <p:cNvPicPr/>
          <p:nvPr/>
        </p:nvPicPr>
        <p:blipFill>
          <a:blip r:embed="rId1"/>
          <a:stretch/>
        </p:blipFill>
        <p:spPr>
          <a:xfrm>
            <a:off x="3263760" y="4797360"/>
            <a:ext cx="2543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出納業務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42920" y="1916280"/>
            <a:ext cx="7058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10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年所得相關資料，已寄給各位同仁，請所有同仁務必檢視，如有疑義，請於</a:t>
            </a:r>
            <a:r>
              <a:rPr b="0" lang="en-US" sz="3200" spc="-1" strike="noStrike">
                <a:solidFill>
                  <a:srgbClr val="3333ff"/>
                </a:solidFill>
                <a:latin typeface="標楷體"/>
              </a:rPr>
              <a:t>1/21(</a:t>
            </a:r>
            <a:r>
              <a:rPr b="0" lang="zh-TW" sz="3200" spc="-1" strike="noStrike">
                <a:solidFill>
                  <a:srgbClr val="3333ff"/>
                </a:solidFill>
                <a:latin typeface="標楷體"/>
              </a:rPr>
              <a:t>四</a:t>
            </a:r>
            <a:r>
              <a:rPr b="0" lang="en-US" sz="32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3200" spc="-1" strike="noStrike">
                <a:solidFill>
                  <a:srgbClr val="3333ff"/>
                </a:solidFill>
                <a:latin typeface="標楷體"/>
              </a:rPr>
              <a:t>前完成聯繫更正，以利後續作業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42" name="Picture 7" descr="http://pic.pimg.tw/r75232/1430738843-5472192.jpg"/>
          <p:cNvPicPr/>
          <p:nvPr/>
        </p:nvPicPr>
        <p:blipFill>
          <a:blip r:embed="rId1"/>
          <a:stretch/>
        </p:blipFill>
        <p:spPr>
          <a:xfrm>
            <a:off x="2759040" y="4157640"/>
            <a:ext cx="3625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營養師工作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簽到處有調查下學期午餐搭伙確認單，請同仁務必確認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下學期供應午、晚餐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時間：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月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5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日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一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開學起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對象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1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：午餐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~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全校教職員工生用餐者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對象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：晚餐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~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住宿學生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國中部學生如需借用餐具，比照往例於總務處提供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5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份以學生證登記借用，該學期借用逾</a:t>
            </a:r>
            <a:r>
              <a:rPr b="0" lang="en-US" sz="2800" spc="-1" strike="noStrike">
                <a:solidFill>
                  <a:srgbClr val="3333ff"/>
                </a:solidFill>
                <a:latin typeface="標楷體"/>
              </a:rPr>
              <a:t>3</a:t>
            </a:r>
            <a:r>
              <a:rPr b="0" lang="zh-TW" sz="2800" spc="-1" strike="noStrike">
                <a:solidFill>
                  <a:srgbClr val="3333ff"/>
                </a:solidFill>
                <a:latin typeface="標楷體"/>
              </a:rPr>
              <a:t>次者，則以愛校服務處理。</a:t>
            </a:r>
            <a:endParaRPr b="0" lang="en-US" sz="2800" spc="-1" strike="noStrike">
              <a:solidFill>
                <a:srgbClr val="3333ff"/>
              </a:solidFill>
              <a:latin typeface="標楷體"/>
            </a:endParaRPr>
          </a:p>
        </p:txBody>
      </p:sp>
      <p:pic>
        <p:nvPicPr>
          <p:cNvPr id="245" name="Picture 9" descr="「美味」的圖片搜尋結果"/>
          <p:cNvPicPr/>
          <p:nvPr/>
        </p:nvPicPr>
        <p:blipFill>
          <a:blip r:embed="rId1"/>
          <a:stretch/>
        </p:blipFill>
        <p:spPr>
          <a:xfrm>
            <a:off x="7162920" y="2421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標楷體"/>
              </a:rPr>
              <a:t>感恩與祝福</a:t>
            </a:r>
            <a:endParaRPr b="0" lang="en-US" sz="4400" spc="-1" strike="noStrike">
              <a:solidFill>
                <a:srgbClr val="3333ff"/>
              </a:solidFill>
              <a:latin typeface="標楷體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696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感謝同仁共同留意學校各項硬體設施的安全維護，協助推動各項業務。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祝福大家新年愉快！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248" name="Picture 7" descr="http://3.share.photo.xuite.net/nancyee/133be98/7470225/283283719_m.jpg"/>
          <p:cNvPicPr/>
          <p:nvPr/>
        </p:nvPicPr>
        <p:blipFill>
          <a:blip r:embed="rId1"/>
          <a:stretch/>
        </p:blipFill>
        <p:spPr>
          <a:xfrm>
            <a:off x="3335400" y="4365720"/>
            <a:ext cx="26049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4:21Z</dcterms:created>
  <dc:creator>sherry01</dc:creator>
  <dc:description/>
  <dc:language>en-US</dc:language>
  <cp:lastModifiedBy>admin</cp:lastModifiedBy>
  <dcterms:modified xsi:type="dcterms:W3CDTF">2016-01-19T10:00:24Z</dcterms:modified>
  <cp:revision>20</cp:revision>
  <dc:subject/>
  <dc:title>100學年度第1學期 期末校務會議 業務報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271051028</vt:lpwstr>
  </property>
</Properties>
</file>