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652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651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46840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1078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46840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C045-E170-4806-AB83-6608BA6C35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5468760" y="6513480"/>
            <a:ext cx="417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10FB-8122-47F3-AC03-5B43FE95A7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31082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E893-81F4-4461-8775-CF90E886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C2DC-E753-4577-8D70-CF9638BE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7502-CF12-4354-BE5F-5BB012BE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40D1-A3DF-4030-8C20-B1BA38B2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0096-5182-43E3-9C1B-0C429CDE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9D72-9109-4619-9E3C-DE62B8D8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8CF9-D908-410E-9C0C-F7DE6CE2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C3CF-C901-4A00-9F3E-AD451A55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7C80-8EE0-4D13-AF43-2E804930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A052-F0F7-4E1F-9ECA-5C250DEF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80D2-5561-43EA-8ED0-D4544B67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9010-5140-40C7-AFA5-945BDF19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圖片3"/>
          <p:cNvPicPr/>
          <p:nvPr/>
        </p:nvPicPr>
        <p:blipFill>
          <a:blip r:embed="rId2"/>
          <a:srcRect l="3308" t="36260" r="2401" b="7504"/>
          <a:stretch/>
        </p:blipFill>
        <p:spPr>
          <a:xfrm>
            <a:off x="4067280" y="5691240"/>
            <a:ext cx="5040360" cy="1193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A171-CAE3-4520-A4DD-4C9D02DE62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108000" y="142920"/>
            <a:ext cx="3181320" cy="695880"/>
            <a:chOff x="108000" y="142920"/>
            <a:chExt cx="3181320" cy="695880"/>
          </a:xfrm>
        </p:grpSpPr>
        <p:pic>
          <p:nvPicPr>
            <p:cNvPr id="5" name="圖片 1" descr="描述: C:\Users\AA8255\Desktop\banner_title.gif"/>
            <p:cNvPicPr/>
            <p:nvPr/>
          </p:nvPicPr>
          <p:blipFill>
            <a:blip r:embed="rId3"/>
            <a:srcRect l="9700" t="0" r="0" b="0"/>
            <a:stretch/>
          </p:blipFill>
          <p:spPr>
            <a:xfrm>
              <a:off x="108000" y="142920"/>
              <a:ext cx="31557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Text Box 8"/>
            <p:cNvSpPr/>
            <p:nvPr/>
          </p:nvSpPr>
          <p:spPr>
            <a:xfrm>
              <a:off x="828720" y="531720"/>
              <a:ext cx="246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99"/>
                  </a:solidFill>
                  <a:latin typeface="文鼎簽字筆體E"/>
                  <a:ea typeface="文鼎簽字筆體E"/>
                </a:rPr>
                <a:t>健康  關懷  多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9444-1A12-4048-9641-791CB1E807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6"/>
          <p:cNvSpPr/>
          <p:nvPr/>
        </p:nvSpPr>
        <p:spPr>
          <a:xfrm>
            <a:off x="949320" y="1844640"/>
            <a:ext cx="741672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104</a:t>
            </a:r>
            <a:r>
              <a:rPr b="1" lang="zh-TW" sz="3200" spc="-1" strike="noStrike">
                <a:solidFill>
                  <a:srgbClr val="c00000"/>
                </a:solidFill>
                <a:latin typeface="Times New Roman"/>
              </a:rPr>
              <a:t>學年度第一學期末暨第二學期期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Times New Roman"/>
              </a:rPr>
              <a:t>校務會議校務報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林美真 校長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50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15640" y="2133360"/>
            <a:ext cx="74883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一、第一學期校務工作檢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222080" y="3573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二、第二學期校務工作重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B26C-0AE9-4235-8508-13B814F096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195640" y="476280"/>
            <a:ext cx="67690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"/>
          <p:cNvSpPr/>
          <p:nvPr/>
        </p:nvSpPr>
        <p:spPr>
          <a:xfrm>
            <a:off x="1258920" y="90180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超研澤中圓"/>
                <a:ea typeface="超研澤中圓"/>
              </a:rPr>
              <a:t>104</a:t>
            </a:r>
            <a:r>
              <a:rPr b="1" lang="zh-TW" sz="3600" spc="-1" strike="noStrike" u="sng">
                <a:solidFill>
                  <a:srgbClr val="ff0000"/>
                </a:solidFill>
                <a:uFillTx/>
                <a:latin typeface="超研澤中圓"/>
                <a:ea typeface="超研澤中圓"/>
              </a:rPr>
              <a:t>學第一學期校務工作檢討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407880" y="1773360"/>
            <a:ext cx="84726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執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規劃教育部優質化計畫第三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執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規劃教育局旗艦計畫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十二年國民基本教育實施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有效教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校本雲端學習平台建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補救教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適性輔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生涯發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●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校本課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創課課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                                           v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服務學習探索課程發展：關懷服務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●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多元學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閱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健康促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生活教育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●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校園空間改善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1D55-48E3-479F-8823-7B29936B74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矩形 8"/>
          <p:cNvSpPr/>
          <p:nvPr/>
        </p:nvSpPr>
        <p:spPr>
          <a:xfrm>
            <a:off x="755640" y="825480"/>
            <a:ext cx="61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超研澤中圓"/>
                <a:ea typeface="超研澤中圓"/>
              </a:rPr>
              <a:t>104</a:t>
            </a:r>
            <a:r>
              <a:rPr b="1" lang="zh-TW" sz="3600" spc="-1" strike="noStrike" u="sng">
                <a:solidFill>
                  <a:srgbClr val="ff0000"/>
                </a:solidFill>
                <a:uFillTx/>
                <a:latin typeface="超研澤中圓"/>
                <a:ea typeface="超研澤中圓"/>
              </a:rPr>
              <a:t>學第二學期校務發展重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1136520" y="1473120"/>
            <a:ext cx="7035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1" lang="zh-TW" sz="2800" spc="-1" strike="noStrike">
                <a:solidFill>
                  <a:srgbClr val="c00000"/>
                </a:solidFill>
                <a:latin typeface="Times New Roman"/>
              </a:rPr>
              <a:t>推動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—</a:t>
            </a:r>
            <a:r>
              <a:rPr b="1" lang="zh-TW" sz="2800" spc="-1" strike="noStrike">
                <a:solidFill>
                  <a:srgbClr val="c00000"/>
                </a:solidFill>
                <a:latin typeface="Times New Roman"/>
              </a:rPr>
              <a:t>科技創新應用教育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設備建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課程發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教育推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社群成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1" lang="zh-TW" sz="2800" spc="-1" strike="noStrike" u="sng">
                <a:solidFill>
                  <a:srgbClr val="c00000"/>
                </a:solidFill>
                <a:uFillTx/>
                <a:latin typeface="Times New Roman"/>
              </a:rPr>
              <a:t>準備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</a:rPr>
              <a:t>105</a:t>
            </a:r>
            <a:r>
              <a:rPr b="1" lang="zh-TW" sz="2800" spc="-1" strike="noStrike" u="sng">
                <a:solidFill>
                  <a:srgbClr val="c00000"/>
                </a:solidFill>
                <a:uFillTx/>
                <a:latin typeface="Times New Roman"/>
              </a:rPr>
              <a:t>校務評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教師教學檔案、領域教學研究會檔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行政法規、計畫、成果資料彙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1" lang="zh-TW" sz="2800" spc="-1" strike="noStrike" u="sng">
                <a:solidFill>
                  <a:srgbClr val="c00000"/>
                </a:solidFill>
                <a:uFillTx/>
                <a:latin typeface="Times New Roman"/>
              </a:rPr>
              <a:t>籌辦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</a:rPr>
              <a:t>105</a:t>
            </a:r>
            <a:r>
              <a:rPr b="1" lang="zh-TW" sz="2800" spc="-1" strike="noStrike" u="sng">
                <a:solidFill>
                  <a:srgbClr val="c00000"/>
                </a:solidFill>
                <a:uFillTx/>
                <a:latin typeface="Times New Roman"/>
              </a:rPr>
              <a:t>學年度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</a:rPr>
              <a:t>70</a:t>
            </a:r>
            <a:r>
              <a:rPr b="1" lang="zh-TW" sz="2800" spc="-1" strike="noStrike" u="sng">
                <a:solidFill>
                  <a:srgbClr val="c00000"/>
                </a:solidFill>
                <a:uFillTx/>
                <a:latin typeface="Times New Roman"/>
              </a:rPr>
              <a:t>周年校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成立籌備委員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成立校友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進行募款與活動規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0000"/>
                </a:solidFill>
                <a:uFillTx/>
                <a:latin typeface="Times New Roman"/>
              </a:rPr>
              <a:t> ●</a:t>
            </a:r>
            <a:r>
              <a:rPr b="1" lang="zh-TW" sz="2800" spc="-1" strike="noStrike" u="sng">
                <a:solidFill>
                  <a:srgbClr val="ff0000"/>
                </a:solidFill>
                <a:uFillTx/>
                <a:latin typeface="Times New Roman"/>
              </a:rPr>
              <a:t>規劃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107</a:t>
            </a:r>
            <a:r>
              <a:rPr b="1" lang="zh-TW" sz="2800" spc="-1" strike="noStrike" u="sng">
                <a:solidFill>
                  <a:srgbClr val="ff0000"/>
                </a:solidFill>
                <a:uFillTx/>
                <a:latin typeface="Times New Roman"/>
              </a:rPr>
              <a:t>課程計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24000" y="2193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c00000"/>
                </a:solidFill>
                <a:latin typeface="文鼎粗魏碑"/>
                <a:ea typeface="文鼎粗魏碑"/>
              </a:rPr>
              <a:t>祝福大家</a:t>
            </a:r>
            <a:r>
              <a:rPr b="0" lang="en-US" sz="4000" spc="-1" strike="noStrike">
                <a:solidFill>
                  <a:srgbClr val="c00000"/>
                </a:solidFill>
                <a:latin typeface="文鼎粗魏碑"/>
                <a:ea typeface="文鼎粗魏碑"/>
              </a:rPr>
              <a:t>---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c00000"/>
                </a:solidFill>
                <a:latin typeface="文鼎粗魏碑"/>
                <a:ea typeface="文鼎粗魏碑"/>
              </a:rPr>
              <a:t>猴年猴賽雷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c00000"/>
                </a:solidFill>
                <a:latin typeface="文鼎粗魏碑"/>
                <a:ea typeface="文鼎粗魏碑"/>
              </a:rPr>
              <a:t>新年平安吉祥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0F68-E9A1-47D8-8B2C-61D8ABB03C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圖片 5" descr=""/>
          <p:cNvPicPr/>
          <p:nvPr/>
        </p:nvPicPr>
        <p:blipFill>
          <a:blip r:embed="rId1"/>
          <a:stretch/>
        </p:blipFill>
        <p:spPr>
          <a:xfrm>
            <a:off x="3908520" y="981000"/>
            <a:ext cx="479880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123640" y="1773360"/>
            <a:ext cx="6193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c00000"/>
                </a:solidFill>
                <a:latin typeface="文鼎粗魏碑"/>
                <a:ea typeface="文鼎粗魏碑"/>
              </a:rPr>
              <a:t>發揮集體智慧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c00000"/>
                </a:solidFill>
                <a:latin typeface="文鼎粗魏碑"/>
                <a:ea typeface="文鼎粗魏碑"/>
              </a:rPr>
              <a:t>共創美好金中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文鼎粗魏碑"/>
                <a:ea typeface="文鼎粗魏碑"/>
              </a:rPr>
              <a:t>~~</a:t>
            </a:r>
            <a:r>
              <a:rPr b="0" lang="zh-TW" sz="5400" spc="-1" strike="noStrike">
                <a:solidFill>
                  <a:srgbClr val="0000cc"/>
                </a:solidFill>
                <a:latin typeface="文鼎粗魏碑"/>
                <a:ea typeface="文鼎粗魏碑"/>
              </a:rPr>
              <a:t>感謝有你</a:t>
            </a:r>
            <a:r>
              <a:rPr b="0" lang="en-US" sz="5400" spc="-1" strike="noStrike">
                <a:solidFill>
                  <a:srgbClr val="0000cc"/>
                </a:solidFill>
                <a:latin typeface="文鼎粗魏碑"/>
                <a:ea typeface="文鼎粗魏碑"/>
              </a:rPr>
              <a:t>~~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62AA-6C27-4519-A845-787A31B3DF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2:51:37Z</dcterms:created>
  <dc:creator>yinglin</dc:creator>
  <dc:description/>
  <dc:language>en-US</dc:language>
  <cp:lastModifiedBy>admin</cp:lastModifiedBy>
  <dcterms:modified xsi:type="dcterms:W3CDTF">2016-01-18T08:18:37Z</dcterms:modified>
  <cp:revision>564</cp:revision>
  <dc:subject/>
  <dc:title>初級資訊種子學校 第三次執行情形研討會</dc:title>
</cp:coreProperties>
</file>