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2C7C-2959-489B-8971-2CB11DC464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F859-4291-4CC6-882A-3123DFEA6B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1EA-0A2C-4F5C-B6F8-55885D5C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F67-D954-4B06-8F2D-9484BAEC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FB0-2F8C-4C39-A1F1-07A773B2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0C4-8DBD-4361-A6BB-C0DEE5F5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AF1-09D2-40D5-98E4-B259C78A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2F7-6323-4AEF-9316-1E5F58CA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125-4142-4EEB-8037-33B240A1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366-60E0-4454-AB47-E9CD86AD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DE7-7EAA-46AB-B2B3-31055F28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10C-6DA9-4B0F-9A4C-4F2DFBE0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110-1812-4B8C-96FC-73A6085B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0C3-5FD7-4831-8EAD-E7AE4B1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98FE-912A-445A-B55D-5D4763CC81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1154-6072-40A0-BD3B-32F4ED5F72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71640" y="1557360"/>
            <a:ext cx="74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04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年度第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期期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校務會議  </a:t>
            </a:r>
            <a:r>
              <a:rPr b="1" lang="zh-TW" sz="5400" spc="-1" strike="noStrike">
                <a:solidFill>
                  <a:srgbClr val="006600"/>
                </a:solidFill>
                <a:latin typeface="Times New Roman"/>
              </a:rPr>
              <a:t>輔導處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 報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圖片 1" descr=""/>
          <p:cNvPicPr/>
          <p:nvPr/>
        </p:nvPicPr>
        <p:blipFill>
          <a:blip r:embed="rId1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pic>
        <p:nvPicPr>
          <p:cNvPr id="53" name="圖片 3" descr=""/>
          <p:cNvPicPr/>
          <p:nvPr/>
        </p:nvPicPr>
        <p:blipFill>
          <a:blip r:embed="rId2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4E29-E0DF-4C13-B655-EBD45035CC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圖片 4" descr=""/>
          <p:cNvPicPr/>
          <p:nvPr/>
        </p:nvPicPr>
        <p:blipFill>
          <a:blip r:embed="rId1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圖片 5" descr=""/>
          <p:cNvPicPr/>
          <p:nvPr/>
        </p:nvPicPr>
        <p:blipFill>
          <a:blip r:embed="rId2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900000" y="1197000"/>
            <a:ext cx="7128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請各班導師於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/22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前完成班級學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每人至少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筆  輔導訪談紀錄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並請登錄於「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</a:rPr>
              <a:t>新北市校務行政系統中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42920" y="1052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349"/>
              </a:spcBef>
              <a:buClr>
                <a:srgbClr val="c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2/16-2/19</a:t>
            </a: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 </a:t>
            </a: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大學校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     </a:t>
            </a: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返校座談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文鼎粗行楷"/>
              </a:rPr>
              <a:t>(</a:t>
            </a:r>
            <a:r>
              <a:rPr b="0" lang="zh-TW" sz="4400" spc="-1" strike="noStrike">
                <a:solidFill>
                  <a:srgbClr val="c00000"/>
                </a:solidFill>
                <a:latin typeface="Arial"/>
                <a:ea typeface="文鼎粗行楷"/>
              </a:rPr>
              <a:t>高三學程班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文鼎粗行楷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00"/>
              </a:spcBef>
              <a:buClr>
                <a:srgbClr val="0000cc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  <a:ea typeface="文鼎粗行楷"/>
              </a:rPr>
              <a:t>2/16</a:t>
            </a:r>
            <a:r>
              <a:rPr b="0" lang="zh-TW" sz="4400" spc="-1" strike="noStrike">
                <a:solidFill>
                  <a:srgbClr val="0000cc"/>
                </a:solidFill>
                <a:latin typeface="Arial"/>
                <a:ea typeface="文鼎粗行楷"/>
              </a:rPr>
              <a:t> </a:t>
            </a:r>
            <a:r>
              <a:rPr b="0" lang="zh-TW" sz="4400" spc="-1" strike="noStrike">
                <a:solidFill>
                  <a:srgbClr val="0000cc"/>
                </a:solidFill>
                <a:latin typeface="Arial"/>
                <a:ea typeface="文鼎粗行楷"/>
              </a:rPr>
              <a:t>學習中心開始上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3.</a:t>
            </a:r>
            <a:r>
              <a:rPr b="0" lang="zh-TW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  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2/18</a:t>
            </a:r>
            <a:r>
              <a:rPr b="0" lang="zh-TW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 </a:t>
            </a:r>
            <a:r>
              <a:rPr b="0" lang="zh-TW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國三技藝開始上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CFAF-7170-4CFE-9C05-DC60AD3C71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圖片 4" descr=""/>
          <p:cNvPicPr/>
          <p:nvPr/>
        </p:nvPicPr>
        <p:blipFill>
          <a:blip r:embed="rId1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pic>
        <p:nvPicPr>
          <p:cNvPr id="61" name="圖片 5" descr=""/>
          <p:cNvPicPr/>
          <p:nvPr/>
        </p:nvPicPr>
        <p:blipFill>
          <a:blip r:embed="rId2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CAD3-E234-4340-963A-B9098A0B45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圖片 2" descr=""/>
          <p:cNvPicPr/>
          <p:nvPr/>
        </p:nvPicPr>
        <p:blipFill>
          <a:blip r:embed="rId1"/>
          <a:stretch/>
        </p:blipFill>
        <p:spPr>
          <a:xfrm>
            <a:off x="2276640" y="2637000"/>
            <a:ext cx="4276440" cy="3501720"/>
          </a:xfrm>
          <a:prstGeom prst="rect">
            <a:avLst/>
          </a:prstGeom>
          <a:ln w="0">
            <a:noFill/>
          </a:ln>
        </p:spPr>
      </p:pic>
      <p:pic>
        <p:nvPicPr>
          <p:cNvPr id="64" name="矩形 6" descr=""/>
          <p:cNvPicPr/>
          <p:nvPr/>
        </p:nvPicPr>
        <p:blipFill>
          <a:blip r:embed="rId2"/>
          <a:stretch/>
        </p:blipFill>
        <p:spPr>
          <a:xfrm>
            <a:off x="1200240" y="1090440"/>
            <a:ext cx="64198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6-01-15T07:35:58Z</dcterms:modified>
  <cp:revision>516</cp:revision>
  <dc:subject/>
  <dc:title>初級資訊種子學校 第三次執行情形研討會</dc:title>
</cp:coreProperties>
</file>