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652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651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46840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1078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546840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009C-EB42-416A-AD90-C5CE8E3053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5468760" y="6513480"/>
            <a:ext cx="417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675C-5431-49CE-9541-26FF51ED7F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31082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234C-D386-4CA7-B48E-05003B2F9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833E-F8CA-493C-BCEC-E18E762D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C8B9-F4E1-43FD-8A6F-7818A437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46BF-9D59-4D8B-9446-CCA7F3E9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7CA9-2795-4D4B-ACB6-7AF15B7C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4A07-7046-4862-B73A-412BFC3B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B1E4-4948-4584-B70C-1C6BE64F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9E3A-F1AF-48B6-AF99-A475DE33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22C6-94ED-4598-AC1D-6C87FF03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0F01-E93F-48FB-B562-8AE5BEC8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5EFF-5A93-442D-BF83-302BC07D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5270-07AC-43F1-8578-978FEE3B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圖片3"/>
          <p:cNvPicPr/>
          <p:nvPr/>
        </p:nvPicPr>
        <p:blipFill>
          <a:blip r:embed="rId2"/>
          <a:srcRect l="3308" t="36260" r="2401" b="7504"/>
          <a:stretch/>
        </p:blipFill>
        <p:spPr>
          <a:xfrm>
            <a:off x="4067280" y="5691240"/>
            <a:ext cx="5040360" cy="1193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B821-F5D3-4BF1-B3D2-8970BD736B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108000" y="142920"/>
            <a:ext cx="3181320" cy="695880"/>
            <a:chOff x="108000" y="142920"/>
            <a:chExt cx="3181320" cy="695880"/>
          </a:xfrm>
        </p:grpSpPr>
        <p:pic>
          <p:nvPicPr>
            <p:cNvPr id="5" name="圖片 1" descr="描述: C:\Users\AA8255\Desktop\banner_title.gif"/>
            <p:cNvPicPr/>
            <p:nvPr/>
          </p:nvPicPr>
          <p:blipFill>
            <a:blip r:embed="rId3"/>
            <a:srcRect l="9700" t="0" r="0" b="0"/>
            <a:stretch/>
          </p:blipFill>
          <p:spPr>
            <a:xfrm>
              <a:off x="108000" y="142920"/>
              <a:ext cx="315576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Text Box 8"/>
            <p:cNvSpPr/>
            <p:nvPr/>
          </p:nvSpPr>
          <p:spPr>
            <a:xfrm>
              <a:off x="828720" y="531720"/>
              <a:ext cx="246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99"/>
                  </a:solidFill>
                  <a:latin typeface="文鼎簽字筆體E"/>
                  <a:ea typeface="文鼎簽字筆體E"/>
                </a:rPr>
                <a:t>健康  關懷  多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AA31-0B92-4F7B-B231-47CF1D09E0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6"/>
          <p:cNvSpPr/>
          <p:nvPr/>
        </p:nvSpPr>
        <p:spPr>
          <a:xfrm>
            <a:off x="949320" y="1844640"/>
            <a:ext cx="741672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104</a:t>
            </a:r>
            <a:r>
              <a:rPr b="1" lang="zh-TW" sz="3200" spc="-1" strike="noStrike">
                <a:solidFill>
                  <a:srgbClr val="c00000"/>
                </a:solidFill>
                <a:latin typeface="Times New Roman"/>
              </a:rPr>
              <a:t>學年度第一學期末暨第二學期期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Times New Roman"/>
              </a:rPr>
              <a:t>校務會議校務報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林美真 校長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50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15640" y="2133360"/>
            <a:ext cx="74883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一、第一學期校務工作檢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222080" y="357336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二、第二學期校務工作重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1094-202D-4989-9341-36A68B55C3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195640" y="476280"/>
            <a:ext cx="676908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1"/>
          <p:cNvSpPr/>
          <p:nvPr/>
        </p:nvSpPr>
        <p:spPr>
          <a:xfrm>
            <a:off x="1258920" y="901800"/>
            <a:ext cx="70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超研澤中圓"/>
                <a:ea typeface="超研澤中圓"/>
              </a:rPr>
              <a:t>104</a:t>
            </a:r>
            <a:r>
              <a:rPr b="1" lang="zh-TW" sz="3600" spc="-1" strike="noStrike" u="sng">
                <a:solidFill>
                  <a:srgbClr val="ff0000"/>
                </a:solidFill>
                <a:uFillTx/>
                <a:latin typeface="超研澤中圓"/>
                <a:ea typeface="超研澤中圓"/>
              </a:rPr>
              <a:t>學第一學期校務工作檢討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407880" y="1773360"/>
            <a:ext cx="84726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執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規劃教育部優質化計畫第三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v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執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規劃教育局旗艦計畫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十二年國民基本教育實施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有效教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校本雲端學習平台建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補救教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適性輔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生涯發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●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校本課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創課課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                                           v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服務學習探索課程發展：關懷服務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v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●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多元學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閱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健康促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生活教育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●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校園空間改善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DF76-6A61-4370-9C60-5D0D68D5E5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矩形 8"/>
          <p:cNvSpPr/>
          <p:nvPr/>
        </p:nvSpPr>
        <p:spPr>
          <a:xfrm>
            <a:off x="755640" y="825480"/>
            <a:ext cx="618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超研澤中圓"/>
                <a:ea typeface="超研澤中圓"/>
              </a:rPr>
              <a:t>104</a:t>
            </a:r>
            <a:r>
              <a:rPr b="1" lang="zh-TW" sz="3600" spc="-1" strike="noStrike" u="sng">
                <a:solidFill>
                  <a:srgbClr val="ff0000"/>
                </a:solidFill>
                <a:uFillTx/>
                <a:latin typeface="超研澤中圓"/>
                <a:ea typeface="超研澤中圓"/>
              </a:rPr>
              <a:t>學第二學期校務發展重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1136520" y="1473120"/>
            <a:ext cx="70358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1" lang="zh-TW" sz="2800" spc="-1" strike="noStrike">
                <a:solidFill>
                  <a:srgbClr val="c00000"/>
                </a:solidFill>
                <a:latin typeface="Times New Roman"/>
              </a:rPr>
              <a:t>推動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—</a:t>
            </a:r>
            <a:r>
              <a:rPr b="1" lang="zh-TW" sz="2800" spc="-1" strike="noStrike">
                <a:solidFill>
                  <a:srgbClr val="c00000"/>
                </a:solidFill>
                <a:latin typeface="Times New Roman"/>
              </a:rPr>
              <a:t>科技創新應用教育中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設備建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課程發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教育推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社群成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1" lang="zh-TW" sz="2800" spc="-1" strike="noStrike" u="sng">
                <a:solidFill>
                  <a:srgbClr val="c00000"/>
                </a:solidFill>
                <a:uFillTx/>
                <a:latin typeface="Times New Roman"/>
              </a:rPr>
              <a:t>準備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Times New Roman"/>
              </a:rPr>
              <a:t>105</a:t>
            </a:r>
            <a:r>
              <a:rPr b="1" lang="zh-TW" sz="2800" spc="-1" strike="noStrike" u="sng">
                <a:solidFill>
                  <a:srgbClr val="c00000"/>
                </a:solidFill>
                <a:uFillTx/>
                <a:latin typeface="Times New Roman"/>
              </a:rPr>
              <a:t>校務評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教師教學檔案、領域教學研究會檔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行政法規、計畫、成果資料彙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1" lang="zh-TW" sz="2800" spc="-1" strike="noStrike" u="sng">
                <a:solidFill>
                  <a:srgbClr val="c00000"/>
                </a:solidFill>
                <a:uFillTx/>
                <a:latin typeface="Times New Roman"/>
              </a:rPr>
              <a:t>籌辦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Times New Roman"/>
              </a:rPr>
              <a:t>105</a:t>
            </a:r>
            <a:r>
              <a:rPr b="1" lang="zh-TW" sz="2800" spc="-1" strike="noStrike" u="sng">
                <a:solidFill>
                  <a:srgbClr val="c00000"/>
                </a:solidFill>
                <a:uFillTx/>
                <a:latin typeface="Times New Roman"/>
              </a:rPr>
              <a:t>學年度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Times New Roman"/>
              </a:rPr>
              <a:t>70</a:t>
            </a:r>
            <a:r>
              <a:rPr b="1" lang="zh-TW" sz="2800" spc="-1" strike="noStrike" u="sng">
                <a:solidFill>
                  <a:srgbClr val="c00000"/>
                </a:solidFill>
                <a:uFillTx/>
                <a:latin typeface="Times New Roman"/>
              </a:rPr>
              <a:t>周年校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成立籌備委員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成立校友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進行募款與活動規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0000"/>
                </a:solidFill>
                <a:uFillTx/>
                <a:latin typeface="Times New Roman"/>
              </a:rPr>
              <a:t> ●</a:t>
            </a:r>
            <a:r>
              <a:rPr b="1" lang="zh-TW" sz="2800" spc="-1" strike="noStrike" u="sng">
                <a:solidFill>
                  <a:srgbClr val="ff0000"/>
                </a:solidFill>
                <a:uFillTx/>
                <a:latin typeface="Times New Roman"/>
              </a:rPr>
              <a:t>規劃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107</a:t>
            </a:r>
            <a:r>
              <a:rPr b="1" lang="zh-TW" sz="2800" spc="-1" strike="noStrike" u="sng">
                <a:solidFill>
                  <a:srgbClr val="ff0000"/>
                </a:solidFill>
                <a:uFillTx/>
                <a:latin typeface="Times New Roman"/>
              </a:rPr>
              <a:t>課程計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24000" y="2193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c00000"/>
                </a:solidFill>
                <a:latin typeface="文鼎粗魏碑"/>
                <a:ea typeface="文鼎粗魏碑"/>
              </a:rPr>
              <a:t>祝福大家</a:t>
            </a:r>
            <a:r>
              <a:rPr b="0" lang="en-US" sz="4000" spc="-1" strike="noStrike">
                <a:solidFill>
                  <a:srgbClr val="c00000"/>
                </a:solidFill>
                <a:latin typeface="文鼎粗魏碑"/>
                <a:ea typeface="文鼎粗魏碑"/>
              </a:rPr>
              <a:t>---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c00000"/>
                </a:solidFill>
                <a:latin typeface="文鼎粗魏碑"/>
                <a:ea typeface="文鼎粗魏碑"/>
              </a:rPr>
              <a:t>猴年猴賽雷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c00000"/>
                </a:solidFill>
                <a:latin typeface="文鼎粗魏碑"/>
                <a:ea typeface="文鼎粗魏碑"/>
              </a:rPr>
              <a:t>新年平安吉祥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85D1-5055-4E96-87A1-3B7EFC3D9B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圖片 5" descr=""/>
          <p:cNvPicPr/>
          <p:nvPr/>
        </p:nvPicPr>
        <p:blipFill>
          <a:blip r:embed="rId1"/>
          <a:stretch/>
        </p:blipFill>
        <p:spPr>
          <a:xfrm>
            <a:off x="3908520" y="981000"/>
            <a:ext cx="479880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123640" y="1773360"/>
            <a:ext cx="6193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c00000"/>
                </a:solidFill>
                <a:latin typeface="文鼎粗魏碑"/>
                <a:ea typeface="文鼎粗魏碑"/>
              </a:rPr>
              <a:t>發揮集體智慧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c00000"/>
                </a:solidFill>
                <a:latin typeface="文鼎粗魏碑"/>
                <a:ea typeface="文鼎粗魏碑"/>
              </a:rPr>
              <a:t>共創美好金中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文鼎粗魏碑"/>
                <a:ea typeface="文鼎粗魏碑"/>
              </a:rPr>
              <a:t>~~</a:t>
            </a:r>
            <a:r>
              <a:rPr b="0" lang="zh-TW" sz="5400" spc="-1" strike="noStrike">
                <a:solidFill>
                  <a:srgbClr val="0000cc"/>
                </a:solidFill>
                <a:latin typeface="文鼎粗魏碑"/>
                <a:ea typeface="文鼎粗魏碑"/>
              </a:rPr>
              <a:t>感謝有你</a:t>
            </a:r>
            <a:r>
              <a:rPr b="0" lang="en-US" sz="5400" spc="-1" strike="noStrike">
                <a:solidFill>
                  <a:srgbClr val="0000cc"/>
                </a:solidFill>
                <a:latin typeface="文鼎粗魏碑"/>
                <a:ea typeface="文鼎粗魏碑"/>
              </a:rPr>
              <a:t>~~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A9A7-84BC-43DA-B94F-7A88E8C27A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2:51:37Z</dcterms:created>
  <dc:creator>yinglin</dc:creator>
  <dc:description/>
  <dc:language>en-US</dc:language>
  <cp:lastModifiedBy>admin</cp:lastModifiedBy>
  <dcterms:modified xsi:type="dcterms:W3CDTF">2016-01-18T08:18:37Z</dcterms:modified>
  <cp:revision>564</cp:revision>
  <dc:subject/>
  <dc:title>初級資訊種子學校 第三次執行情形研討會</dc:title>
</cp:coreProperties>
</file>