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DFD6-923F-45CE-8DEF-E3FFA84BE9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1BDD-379C-4B6B-9CC8-54E12647F1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投影片編號版面配置區 3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3048-3B81-42AE-A12E-F44DAE5400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6B9-9975-44C5-81FB-59BF5218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C40-6AD9-46B8-AE24-AA85D37A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783-91A2-4936-876F-A88FFB4E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6F9-1EFD-4319-BCB5-BFCCE6F9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A41-82E6-4FB9-834B-235C0CF5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14E-16A6-4C7E-B7F4-930BF629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079-8C2B-477E-982C-E9927D95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CEC-79E8-4D0A-B845-420843E6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5B4-D4C6-4C94-BACE-64DC160F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F61-3E0F-477C-AB47-60FE5916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ED5-2243-42D0-8850-9F946100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A16-0CF3-42AD-8227-D05D3F07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7F07-0DCB-4877-9BC7-0C2EB4AB29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B831-5CEC-4810-8592-E80C30F7DD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971640" y="1557360"/>
            <a:ext cx="741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105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年度第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期期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校務會議  </a:t>
            </a:r>
            <a:r>
              <a:rPr b="1" lang="zh-TW" sz="5400" spc="-1" strike="noStrike">
                <a:solidFill>
                  <a:srgbClr val="006600"/>
                </a:solidFill>
                <a:latin typeface="Times New Roman"/>
              </a:rPr>
              <a:t>輔導處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 報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圖片 1" descr=""/>
          <p:cNvPicPr/>
          <p:nvPr/>
        </p:nvPicPr>
        <p:blipFill>
          <a:blip r:embed="rId1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pic>
        <p:nvPicPr>
          <p:cNvPr id="53" name="圖片 3" descr=""/>
          <p:cNvPicPr/>
          <p:nvPr/>
        </p:nvPicPr>
        <p:blipFill>
          <a:blip r:embed="rId2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7BAD-2BE8-4C71-82DF-0C92BF9433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圖片 4" descr=""/>
          <p:cNvPicPr/>
          <p:nvPr/>
        </p:nvPicPr>
        <p:blipFill>
          <a:blip r:embed="rId1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圖片 5" descr=""/>
          <p:cNvPicPr/>
          <p:nvPr/>
        </p:nvPicPr>
        <p:blipFill>
          <a:blip r:embed="rId2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sp>
        <p:nvSpPr>
          <p:cNvPr id="57" name="矩形 2"/>
          <p:cNvSpPr/>
          <p:nvPr/>
        </p:nvSpPr>
        <p:spPr>
          <a:xfrm>
            <a:off x="900000" y="1197000"/>
            <a:ext cx="7128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請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標楷體"/>
                <a:ea typeface="新細明體"/>
              </a:rPr>
              <a:t>各班導師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於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/31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前完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標楷體"/>
                <a:ea typeface="新細明體"/>
              </a:rPr>
              <a:t>班級學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每人至少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筆  輔導訪談紀錄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並請登錄於「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</a:rPr>
              <a:t>新北市校務行政系統中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532D-6014-44E9-84DE-1A76D2DA33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圖片 2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3960720" cy="3960720"/>
          </a:xfrm>
          <a:prstGeom prst="rect">
            <a:avLst/>
          </a:prstGeom>
          <a:ln w="0">
            <a:noFill/>
          </a:ln>
        </p:spPr>
      </p:pic>
      <p:pic>
        <p:nvPicPr>
          <p:cNvPr id="60" name="圖片 3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3319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admin</cp:lastModifiedBy>
  <dcterms:modified xsi:type="dcterms:W3CDTF">2017-01-18T03:02:08Z</dcterms:modified>
  <cp:revision>518</cp:revision>
  <dc:subject/>
  <dc:title>初級資訊種子學校 第三次執行情形研討會</dc:title>
</cp:coreProperties>
</file>