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CA7-C66D-4197-BB6E-4284F0493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AF1-A752-478B-A77A-8729955306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2D49-59F1-404E-938C-04CC5D69E2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CFA-8ED9-4DFF-B317-C1D44211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A96-F398-47B2-9CF8-A02AF428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6CE4-ABA3-4D49-BB1F-6EF3B0D1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4D9-52D0-4810-B510-78D3F827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90B-4688-4816-B692-9A4EE833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374-C945-4B26-AAF5-0D1738AB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1C6-7D31-48BB-B770-E552212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485-16C7-4850-A2B5-5739EFA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C2D-6A00-4216-8A2A-6D14E095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23F-D408-42C9-AC15-3BA27859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145-9DC9-469B-BA6B-3F78D36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E5E-9A3A-4046-867C-ACC66B67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079A-9E50-4A2D-ABE1-CE331CDF0F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D0B-3A73-43A4-8744-DCE46591B0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05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年度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學期期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校務會議  </a:t>
            </a:r>
            <a:r>
              <a:rPr b="1" lang="zh-TW" sz="5400" spc="-1" strike="noStrike">
                <a:solidFill>
                  <a:srgbClr val="006600"/>
                </a:solidFill>
                <a:latin typeface="Times New Roman"/>
              </a:rPr>
              <a:t>輔導處</a:t>
            </a:r>
            <a:r>
              <a:rPr b="1" lang="zh-TW" sz="5400" spc="-1" strike="noStrike">
                <a:solidFill>
                  <a:srgbClr val="c00000"/>
                </a:solidFill>
                <a:latin typeface="Times New Roman"/>
              </a:rPr>
              <a:t> 報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圖片 1" descr=""/>
          <p:cNvPicPr/>
          <p:nvPr/>
        </p:nvPicPr>
        <p:blipFill>
          <a:blip r:embed="rId1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pic>
        <p:nvPicPr>
          <p:cNvPr id="53" name="圖片 3" descr=""/>
          <p:cNvPicPr/>
          <p:nvPr/>
        </p:nvPicPr>
        <p:blipFill>
          <a:blip r:embed="rId2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54C-257B-4CED-B8EA-4FB24FA8F9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圖片 4" descr=""/>
          <p:cNvPicPr/>
          <p:nvPr/>
        </p:nvPicPr>
        <p:blipFill>
          <a:blip r:embed="rId1"/>
          <a:stretch/>
        </p:blipFill>
        <p:spPr>
          <a:xfrm>
            <a:off x="6156360" y="4770360"/>
            <a:ext cx="273852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5" descr=""/>
          <p:cNvPicPr/>
          <p:nvPr/>
        </p:nvPicPr>
        <p:blipFill>
          <a:blip r:embed="rId2"/>
          <a:stretch/>
        </p:blipFill>
        <p:spPr>
          <a:xfrm>
            <a:off x="179280" y="4799160"/>
            <a:ext cx="2700360" cy="190944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900000" y="1197000"/>
            <a:ext cx="7128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請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各班導師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於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/31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前完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 u="sng">
                <a:solidFill>
                  <a:srgbClr val="ff0000"/>
                </a:solidFill>
                <a:uFillTx/>
                <a:latin typeface="標楷體"/>
                <a:ea typeface="新細明體"/>
              </a:rPr>
              <a:t>班級學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每人至少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1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筆  輔導訪談紀錄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並請登錄於「</a:t>
            </a:r>
            <a:r>
              <a:rPr b="1" lang="zh-TW" sz="3200" spc="-1" strike="noStrike">
                <a:solidFill>
                  <a:srgbClr val="0000cc"/>
                </a:solidFill>
                <a:latin typeface="Times New Roman"/>
              </a:rPr>
              <a:t>新北市校務行政系統中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F86-C05C-431B-911B-45A8AFD7AC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圖片 2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60" name="圖片 3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319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dmin</cp:lastModifiedBy>
  <dcterms:modified xsi:type="dcterms:W3CDTF">2017-01-18T03:02:08Z</dcterms:modified>
  <cp:revision>518</cp:revision>
  <dc:subject/>
  <dc:title>初級資訊種子學校 第三次執行情形研討會</dc:title>
</cp:coreProperties>
</file>