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353F-2E68-4584-8A15-61AFF75919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0C66-8234-4258-9FFE-33744AA98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69F3-FAB6-4A78-AD8F-887D595E73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DD3-B665-4BF4-8352-6D9BB3BF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F1B-BD90-4EB3-95E0-DD91078E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84A-2AB3-4815-8ED8-1880374C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6EA-7393-4677-AAE7-76F5F56C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F56-0101-45BE-80F0-39C24BE9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0F0-C7F4-4595-8C92-4FF55882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901-1B29-4086-BA9F-59B95793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E92-7B29-44EF-A604-7DF83621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0F8-1593-426F-AD5A-F34764C7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F1D-1D66-4122-BFDC-65C55D45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E25-351D-48D7-B97E-6C25255C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962-A184-49A5-83E2-8B82A490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8233-89BC-4665-A7A9-ECE6F31BF7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7EFC-8B1B-4603-B935-5B31B799C4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71640" y="1557360"/>
            <a:ext cx="74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05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年度第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期期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校務會議  </a:t>
            </a:r>
            <a:r>
              <a:rPr b="1" lang="zh-TW" sz="5400" spc="-1" strike="noStrike">
                <a:solidFill>
                  <a:srgbClr val="006600"/>
                </a:solidFill>
                <a:latin typeface="Times New Roman"/>
              </a:rPr>
              <a:t>輔導處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 報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圖片 1" descr=""/>
          <p:cNvPicPr/>
          <p:nvPr/>
        </p:nvPicPr>
        <p:blipFill>
          <a:blip r:embed="rId1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pic>
        <p:nvPicPr>
          <p:cNvPr id="53" name="圖片 3" descr=""/>
          <p:cNvPicPr/>
          <p:nvPr/>
        </p:nvPicPr>
        <p:blipFill>
          <a:blip r:embed="rId2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7100-6B8F-4284-8029-2CB090F7A4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圖片 4" descr=""/>
          <p:cNvPicPr/>
          <p:nvPr/>
        </p:nvPicPr>
        <p:blipFill>
          <a:blip r:embed="rId1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圖片 5" descr=""/>
          <p:cNvPicPr/>
          <p:nvPr/>
        </p:nvPicPr>
        <p:blipFill>
          <a:blip r:embed="rId2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900000" y="1197000"/>
            <a:ext cx="7128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請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標楷體"/>
                <a:ea typeface="新細明體"/>
              </a:rPr>
              <a:t>各班導師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於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/31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前完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標楷體"/>
                <a:ea typeface="新細明體"/>
              </a:rPr>
              <a:t>班級學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每人至少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筆  輔導訪談紀錄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並請登錄於「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</a:rPr>
              <a:t>新北市校務行政系統中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3704-70A6-4D77-A43B-CAD0416F4C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圖片 2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3960720" cy="3960720"/>
          </a:xfrm>
          <a:prstGeom prst="rect">
            <a:avLst/>
          </a:prstGeom>
          <a:ln w="0">
            <a:noFill/>
          </a:ln>
        </p:spPr>
      </p:pic>
      <p:pic>
        <p:nvPicPr>
          <p:cNvPr id="60" name="圖片 3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3319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dmin</cp:lastModifiedBy>
  <dcterms:modified xsi:type="dcterms:W3CDTF">2017-01-18T03:02:08Z</dcterms:modified>
  <cp:revision>518</cp:revision>
  <dc:subject/>
  <dc:title>初級資訊種子學校 第三次執行情形研討會</dc:title>
</cp:coreProperties>
</file>