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1BD-4B1C-4455-B2C4-67304FF7A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B03D-95AA-46DF-B074-196F1AC3E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A176-09D5-4C79-A103-957441A37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A08-137F-44D1-99AA-1FC44A97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30A-B48E-483B-8861-9C48B32D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8DE-0141-43B4-9310-4F39D1B7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6B0-D834-446E-872B-60E2A90A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20E-1B54-4ED3-B108-28D7859F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8A5-3358-4965-BBAD-DD8162B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4E8-378F-4E8E-B124-13C4871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145-7932-4137-91D6-28B3BB88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A12-8EE3-41A5-B76D-DA84FE75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167-E3A8-4DFD-B82B-D237303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D5A-36F7-49C5-8BE1-B1FC90C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AEE-4D2F-476A-9335-DA13884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316-9313-405E-B188-36DE94DAEB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927B-42A8-4E8E-AB68-E1DB97E53B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915-1157-4FF2-AF4B-8CB34052C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6/3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1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632720" cy="4105080"/>
          </a:xfrm>
          <a:prstGeom prst="rect">
            <a:avLst/>
          </a:prstGeom>
          <a:ln w="0">
            <a:noFill/>
          </a:ln>
        </p:spPr>
      </p:pic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B8C-689F-452F-9B1C-5777B6820F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2" descr=""/>
          <p:cNvPicPr/>
          <p:nvPr/>
        </p:nvPicPr>
        <p:blipFill>
          <a:blip r:embed="rId2"/>
          <a:stretch/>
        </p:blipFill>
        <p:spPr>
          <a:xfrm>
            <a:off x="5016600" y="4797360"/>
            <a:ext cx="2143080" cy="1656000"/>
          </a:xfrm>
          <a:prstGeom prst="rect">
            <a:avLst/>
          </a:prstGeom>
          <a:ln w="0">
            <a:noFill/>
          </a:ln>
        </p:spPr>
      </p:pic>
      <p:pic>
        <p:nvPicPr>
          <p:cNvPr id="61" name="圖片 3" descr=""/>
          <p:cNvPicPr/>
          <p:nvPr/>
        </p:nvPicPr>
        <p:blipFill>
          <a:blip r:embed="rId3"/>
          <a:stretch/>
        </p:blipFill>
        <p:spPr>
          <a:xfrm>
            <a:off x="1692360" y="4797360"/>
            <a:ext cx="3319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27T07:29:07Z</dcterms:modified>
  <cp:revision>517</cp:revision>
  <dc:subject/>
  <dc:title>初級資訊種子學校 第三次執行情形研討會</dc:title>
</cp:coreProperties>
</file>