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dt" idx="6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 type="ftr" idx="6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 type="sldNum" idx="6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6484-68C9-4F39-8682-4D811EBBACB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1A8A-2856-4A41-AACF-8BA8BCEDA350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3FFD-38F2-4F5A-AA9F-B6EF2C2452C6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1DD5-6EA0-4264-B8A5-97E48489F1A3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1444-6963-4107-9426-E22A95FFA4AC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DA2A-2EBD-4040-94DF-E8B488E056C3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599C-649F-46BD-8D6E-FDC6AE0625B4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981E-1764-4655-B22D-4E7985AB328B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DCEF-8C10-4172-9268-8CA876B46C53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D3EC-589E-4451-8348-2A62E506E204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2CD8-5A19-4798-98C9-652EBF5CD962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FBC6-376A-4B10-8B3C-935377C85AA7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4ED5-5BEC-4AB4-BF4B-788EDB639835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7BA3-006F-4F07-A2F6-CBA34FBB5440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A85-F6D0-4628-B02E-CF197744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78A-A039-4F29-AF1F-9C4F41E2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9CC0C-0E5C-4DD2-B83F-C3438877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43998-7F42-485C-9722-EF984BF2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4101B-FC4D-4A12-9FBC-72A5BFBC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30AD7-32E2-46D8-82A5-8CC21C5D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7EDD2-1E4B-469B-B556-7CC2B12E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DA06C-E9C9-4F89-940A-AB4A4A25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E5779-F346-43E7-99AF-6765F2E8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D6BA8-01DF-440D-BE70-88BE1315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58A11-4A32-45CE-9DFD-76E2FA21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8BBE3-3A83-403A-8AE0-CBC5A606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755-8A37-4304-8DA3-CD37F06C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99C67-C0CF-4532-A457-1B5A762C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2F6D9-DC8F-457C-9069-9714A1EC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3DD17-9C73-425B-8898-8B86E094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6F20F-315D-4AF5-943C-348A6FDD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42E08-E9D6-4851-8C76-D9EF1703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4FDD9-7D69-4C8A-9B60-AE50C38B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63B85-2A35-41A6-BB1A-4158042A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3F62E-65AF-4B0A-9179-5BFBE294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1A6BE-A0C2-42D0-A36D-3C8FCC83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99D03-6D00-4B69-A778-C6C522A4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77A-5C66-4E9F-8462-8DD568F1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12A4F-417A-444D-815A-8E65ED9C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D8879-BFDB-46DA-90FF-3B541BBD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6802E-1AE9-42C8-A36D-BF21E7AE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D58E4-89B3-4713-83BA-01203D1B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314F0-EB16-4434-BE4C-60BD151A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62942-F93B-44A1-ABB6-9B396604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61CF1-FC17-41A6-AE9D-CF272203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612A8-0B6C-45C3-8FA7-342447B7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2DF41-6E32-479C-81BA-96F42F0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96122-FB46-4617-8B28-3C50B1FF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907B-6BD7-41EB-B43E-EECF2950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DF1EE-C89C-4620-9073-7AD13737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642AE-67FB-47CC-BD31-8EF09AC2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81B88-1200-4CC0-BA15-C2515F12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64B34-9158-4762-A1A1-6E2DCFB0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EB198-CF78-45B8-899A-DEDBBC53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33EF6-D3BD-487E-8A69-F118337D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55A4D-4069-4712-BD73-DD37C0AB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AD87A-D010-4BE9-BC92-A8EB8413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64F4C-46C4-473C-B134-A10E1F98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2AE12-BF53-43AB-B9C1-B43DF840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F668-84ED-4F18-BBED-ECA2C2FF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86021-B019-4CE8-BA47-368C6092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C0E28-CAA3-40B3-A60C-6747672F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C52DF-DCC0-4210-9016-ADF259DC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C1C83-2804-4425-8FD9-E6328594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2B02C-3187-41CD-91D9-C11F37C3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7458C-2BD3-4712-A764-916565C7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A1BDD-5282-46C1-B1D1-7A749125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D3131-9F0F-4DBA-9F84-B8606B96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B64F8-2DF3-47C4-B228-6A19B730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0F476-CB05-4D7C-B01D-0A34EB72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FB4E-4A49-475E-81FC-66B711ED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EB10E-655D-48C3-9986-EE739A5E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F2C31-7711-4B51-B07A-25BDB007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038B7-0A92-49BB-B25D-9DFD6BCD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CC9FF-80AF-4D93-8C19-45053D9A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D6CF7-11E0-43F5-A9C7-9CA403EC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9B80D-A63B-4676-96B2-9306BB13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DA62E-5E83-4CFE-B023-D6D98BB3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1F98C-75D4-4F99-92B5-2827484B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F1DA5-977C-4045-8131-41E467B3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A85AB-F327-48FD-BEBE-B6D5AB96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4956-80E7-4421-AFC9-42224EF6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5BA43-04CA-49E2-A1C8-E9FCF052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35AE9-01B5-4400-A303-9750E20A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C51D8-71FD-4F0E-8C98-92D54E29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1E8D7-8CB9-4A62-B1FC-ACDAEE85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C25BD-DE2F-49E4-AD7C-5DF28E60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B1127-0F9E-459D-8676-96D40BDA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C4497-D0E0-41E5-9BF3-BBCF7CD8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1990E-AD89-4653-A8D2-B4CB6C77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8DA2F-84A0-4A63-94CC-0E2CF130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3EAD8-AFBA-403A-B86D-B7FC8F11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BCEF-3827-40A5-A82C-22500034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41733-75D5-4C45-8484-5BEF1E77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ECEC8-65EA-420F-AD4E-1270D948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493A8-E9FB-4E1F-94F6-0EF9CEE9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66F94-B11C-4267-BFDF-13139816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9598E-DB95-4185-923E-08DC4112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018EF-5DFC-4BE7-AE10-2753233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A0ACC-86FD-48F5-9D07-A6B0362C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BDE48-B054-4733-B0F6-25EED0F6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CD659-6E39-439C-A439-C7D53BBB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1B3565-0619-4E0F-A331-5508BA94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1204-4DD3-4F1A-8271-7E402B9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289988-066E-428D-9860-9D4D6D30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37FDF-5488-4AA6-B9C1-CF58F3E3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8FD30-54D0-4458-881C-8580C77B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3BF66-1FE1-4B89-B737-197D5B42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B3E8FB-410B-43CA-8F37-8370B580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80E20-553C-4B19-8332-1C76847C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69C89-9316-4190-B907-59B9C844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0093A-A705-41B2-B2F6-4C54926C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8ECAE-D5A8-4C94-A8DC-C60259B7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8378F-CE01-4702-B611-6DEB07B2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79FF-6F0D-456D-BA77-4BF25E83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89C87-3101-49AE-8EB8-E4EDD5A4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60307-05E8-44CF-B1C2-EFCF5F40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2856D7-EDCB-4A8F-BA2C-1B17F657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CA02A-FEF6-4D88-822F-38CD7FE3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98AE5-7A35-4FDB-829F-10DEF271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61A49-8197-4EB2-A784-9E2E2F9F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4317F9-CA0A-4C1C-AEAF-FCE97DC6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F5C41-A8F2-4DE8-9FF0-AD738D4C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406F80-AFBB-49F7-869F-9017D119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C0321-05D9-4E3E-BE0E-77403AE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D90-FCE9-479D-BDE1-ABEB38FA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3FD6-019C-474A-90F1-66BEB8B6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F328D-7FC7-4A0C-BB6D-B001AFC3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C36AF0-3FAF-4D7B-8A76-5429DD3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C8F31-B526-453A-8929-5CB0710E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53FCF-366E-4943-9E2D-50419600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2F316-43C9-4576-BEEE-34383918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EF93CE-4D77-4BCC-A9E8-AA3F062B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0236E5-7143-47FF-A119-E5809D36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F6164-331D-46BE-BB2B-DA451FF8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08D0E-B549-46BC-B691-A3934DD5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873BD-F214-4686-95FD-68836F1E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D34B-4A93-4A84-A859-C5DFBEBD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331700-D1BF-48AB-A7BB-B53D7C39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AE8BAF-7BB7-4DA1-B7B6-5D9AEFA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6E68D-1C4D-45A0-9C00-07F69D8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F6B90-88B8-4BDE-8CBC-F9B1F730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BD666D-DFA6-434E-98C6-9BC2E258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DCCF18-4533-4ACD-A938-49ACF50A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2F2B4E-CC95-4FC8-B5CC-D5A272DE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C651D-79CF-4C16-9389-C5676414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467D4-3AFD-4D32-B4E8-7F1AF4B7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62FFA-3822-43C0-B6FD-6353E148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CCDC-2B44-4510-93B0-13DCE891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C3E87-81B6-4EDF-BA2D-E06AEE4F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E709C7-B70B-46E5-9E7A-B4FAE0AC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DAC15-C0BD-4789-81DD-58DA5002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F2D9D-3385-453C-A586-CE51446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F2C51-43CD-4108-8B4F-416452E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2B86E-25A2-4D2C-B036-13996C14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207C68-604B-4751-981B-847BE89A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F1833-E07A-4792-83E7-B5C11C23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E8B91-FBD6-4FAA-AD25-5BD66DE4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1EB4E-314B-4C2B-A929-D58510A5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BAA8-96F7-4770-A474-4989F80F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92907E-6215-458E-87A6-18AA3369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338771-90FC-43A9-AA06-FA0D6694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22517-9F55-43A9-A364-805FB1A7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164189-F156-4EDD-B0C8-8148753C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B6C86-4F16-4EDD-BA9D-5D7A9C2B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5782F-3DDF-4CB5-A6B8-91948EA7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9A8EE-A7C4-449E-B799-66C21BAC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72453A-F240-4DB1-A35D-9479E21E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E5A92-505B-4233-BCF8-84834938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BBFAE1-0498-4145-B31D-F090FC8F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5B8A-695C-49B2-9F7D-6D0084A4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5B43A-204F-4C9D-9EDD-F11196F5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37A04-2ED5-4A49-8D95-E2BC32AC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C8F057-3880-46C9-8888-BA9006C9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0CF85-17F2-414D-BC24-075510D5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CA3B39-2018-4F42-8772-76BA4C39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65C4DE-F3AC-4660-A7BF-EB27AD31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2C86F5-8674-4B0F-834A-5B4F93C5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DB88E0-6FFA-4972-B35C-6D3E68C1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404440-AABA-47C2-9506-4E8A302C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27109-E93F-42DD-AD26-E5AE8FB7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CA2A-A5E5-4268-B944-5CF994C9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B51382-0678-46D2-8A4A-FF1316BA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27F230-D38B-403B-830C-1228F25F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42A60-8FA5-4A2C-BE57-15007D3D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856D94-34AA-445A-8E41-D8BAECF9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6FACB4-2A07-4490-B439-25C6FD65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A021EE-8D0F-4F70-BD07-8C1A04B5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4C1B0F-699C-4559-ACBD-9964D0A1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786FF6-E687-4F00-B8F5-0F06EA78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49FA6F-A9B1-4BE0-8BBB-DCD0B23D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62F6EA-463C-4CCA-ABC6-78CDE94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3F62-8DEC-4A3B-8A13-AF13CF87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560992-730C-4773-8BCC-C555CC83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39788D-9A05-4EEE-93C1-D9DAF579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55A5D2-BEC4-461A-8B8B-B1725AEE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067663-E8B3-4E8F-9076-6B9C8F35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52AA0E-9C99-4F27-BCF0-DBFD75C6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2CA4-4355-487A-B7C7-5774B744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5F9B-63E5-47C5-800E-78942B1C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76BA-79D7-4AC8-9DD8-8229FB46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3E6-E2CA-4A65-B96F-2542008B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A71D-BA26-43B0-ACE2-3F868AB2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5D15-D85F-4E1F-9D88-4229B5FF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8B22-2CED-43AC-BAE1-DF23B500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AF4F-0ADA-4944-9A92-70E0F491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E0A2-D4F9-4857-807C-77AF993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422C-7D0B-4CBC-8648-3DC55F5E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465D-7D8D-4261-83DE-1E6F6271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BBCE2-FF0F-4AEC-B260-05E4415E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5C7DE-8AB2-4740-A632-7CE5C89E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5D7FD-3727-4ED5-992C-E0388CC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C7F-EF97-4910-A734-24789CEB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BE75D-AD1C-4EFC-9429-BA2BEBDD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CA861-0553-4D64-9902-E1323F49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C2DC4-92A8-4129-A803-1FEF5A17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410B4-9544-4BC3-8B94-9EDC2033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86E58-1F30-42B4-9D6F-4543D5AC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9050F-9D16-486F-BD93-32153B96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3EB82-87CA-42E4-A88F-E2457529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2D464-DFA7-49C8-8474-1B71F10C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4ADA94-0527-46DE-A3CD-6F3536A7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ECEDA-34A3-402C-85F9-22A37F67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8C4-485D-4E0F-BE6D-8457D5BA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41E10-D9FE-446C-9733-1B72FF21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FDBD7-0C89-476B-9877-7C8541DA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B58D9-83FA-447A-8D83-5CCF9F91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7726-0E00-4FE5-B930-B8A9C65E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E6C2A-6EE3-4ABA-B95E-17D6CFB2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D10C5-73F2-4C25-B845-EC2D5E02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71B48-FCA7-4D2A-ACCB-D11102CE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4E4F7-E600-416D-8C51-10BD8E04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79BB0-15D8-4CBC-B27A-268377E7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8566-F6CC-43D3-ABA0-BB967D60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27A-3CAF-4A57-AC99-02BD2736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AD90E-243B-4F73-A05B-9079BAB7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67217-94B1-4B59-97ED-B8F672A9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28C70-9A47-4DB0-9E6C-44AEE71C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4DFCC-E277-4E78-97CF-12C08CD9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33736-907E-4F8D-85FC-7FB21FCD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33FEC-4EFA-4CA0-8875-BBF55CFF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5C720-8D20-4FB6-A633-F3122CD9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7D30D-BF3E-46C1-BD0D-FDF26826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71A45-E528-4654-BC53-54EECDC6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E5D34-88D4-4A07-A520-CBFE8AE8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08D-737A-451A-841F-E87AC6DC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44BA6-E8BB-490A-A0BF-6B49FF7E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85A26-44D1-4C75-864A-1C96F0EC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3AFA-0FBB-4707-8B96-B757B19D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65FD2-952F-4606-9673-940E493B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731F3-3E8F-4B75-AF02-FD12965B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4A616-2557-447F-9834-ECF31FFB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C2148-446C-4D6A-AB34-DAA7C401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E0AF2-13DD-47BD-B4D9-FF00578F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981E8-522C-4404-815C-31D3F66A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43061-1515-4C24-9BE4-C267AC1D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891-A8C3-4CF4-AB20-6FFFF04F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F7699-07A5-4C0A-B82E-6DDF8955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9EB81-0681-4F2D-B544-296C70A1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562E0-A831-4C57-BCD9-2C63237B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92F76-F954-43FD-990B-8FE88D4C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3B92D-4B91-4F8C-B1DB-6F70B914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04698-3C02-40F4-A5B7-1289E1CD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02F00-E49B-42BE-9240-39514F34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245DF-BF6E-48C5-A26D-A2C6E723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EBA43-E8EA-4829-AE70-0BE5A17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0D3FB-48DC-488C-8FB9-CE8EC9A7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692-658D-4BFA-9892-A12D994A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8D6B6-B4DB-4DC2-BAC5-99684F49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194EE-E299-4EB6-B724-5BDD8AA4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AD218-D50C-4B5B-AB19-21FD354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6E75A-EEDF-4671-81A3-44184E75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CE070-F5D9-4979-9BFB-1D800CFA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C4296-6B2D-4077-B39B-B715D68B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1F4B6-8912-4B6F-9161-0D7EBCEA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71065-4FA8-4E85-9B3D-D552FBF2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2F208-7FCE-4EE1-82D8-7F893784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F584A-BF3B-4F55-ACD3-53993EE6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7E81-54A9-414C-9C4B-3B37E76E36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B941-560E-484C-97E0-3617F23DDF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3DC6-7385-4598-A57E-D00F9D0735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9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1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FB17-923E-49C3-9F92-3F97BD08FD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7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9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A691-DF0B-4BFE-A0D1-0E77BACED7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5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6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7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B79F-7D7A-44C5-BFB0-31BAE4ACBF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737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738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739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0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1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42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43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4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5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46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747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8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49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50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1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2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53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4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5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6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7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8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9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0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1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2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6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7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8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0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1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2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3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4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75" name="Group 42"/>
          <p:cNvGrpSpPr/>
          <p:nvPr/>
        </p:nvGrpSpPr>
        <p:grpSpPr>
          <a:xfrm>
            <a:off x="-654480" y="-4680"/>
            <a:ext cx="10459080" cy="7117200"/>
            <a:chOff x="-654480" y="-4680"/>
            <a:chExt cx="10459080" cy="7117200"/>
          </a:xfrm>
        </p:grpSpPr>
        <p:grpSp>
          <p:nvGrpSpPr>
            <p:cNvPr id="776" name="Group 44"/>
            <p:cNvGrpSpPr/>
            <p:nvPr/>
          </p:nvGrpSpPr>
          <p:grpSpPr>
            <a:xfrm>
              <a:off x="-9360" y="-4680"/>
              <a:ext cx="9144360" cy="6858000"/>
              <a:chOff x="-9360" y="-4680"/>
              <a:chExt cx="9144360" cy="6858000"/>
            </a:xfrm>
          </p:grpSpPr>
          <p:grpSp>
            <p:nvGrpSpPr>
              <p:cNvPr id="777" name="Group 4"/>
              <p:cNvGrpSpPr/>
              <p:nvPr/>
            </p:nvGrpSpPr>
            <p:grpSpPr>
              <a:xfrm>
                <a:off x="-9360" y="-4680"/>
                <a:ext cx="2514600" cy="6858000"/>
                <a:chOff x="-9360" y="-4680"/>
                <a:chExt cx="2514600" cy="6858000"/>
              </a:xfrm>
            </p:grpSpPr>
            <p:sp>
              <p:nvSpPr>
                <p:cNvPr id="778" name="Rectangle 114"/>
                <p:cNvSpPr/>
                <p:nvPr/>
              </p:nvSpPr>
              <p:spPr>
                <a:xfrm>
                  <a:off x="905040" y="-468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9" name="Rectangle 2"/>
                <p:cNvSpPr/>
                <p:nvPr/>
              </p:nvSpPr>
              <p:spPr>
                <a:xfrm>
                  <a:off x="-9360" y="-468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0" name="Rectangle 3"/>
                <p:cNvSpPr/>
                <p:nvPr/>
              </p:nvSpPr>
              <p:spPr>
                <a:xfrm>
                  <a:off x="219240" y="-468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1" name="Group 5"/>
              <p:cNvGrpSpPr/>
              <p:nvPr/>
            </p:nvGrpSpPr>
            <p:grpSpPr>
              <a:xfrm>
                <a:off x="413280" y="-4680"/>
                <a:ext cx="2514600" cy="6858000"/>
                <a:chOff x="413280" y="-4680"/>
                <a:chExt cx="2514600" cy="6858000"/>
              </a:xfrm>
            </p:grpSpPr>
            <p:sp>
              <p:nvSpPr>
                <p:cNvPr id="782" name="Rectangle 84"/>
                <p:cNvSpPr/>
                <p:nvPr/>
              </p:nvSpPr>
              <p:spPr>
                <a:xfrm>
                  <a:off x="1327680" y="-468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3" name="Rectangle 85"/>
                <p:cNvSpPr/>
                <p:nvPr/>
              </p:nvSpPr>
              <p:spPr>
                <a:xfrm>
                  <a:off x="413280" y="-468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4" name="Rectangle 113"/>
                <p:cNvSpPr/>
                <p:nvPr/>
              </p:nvSpPr>
              <p:spPr>
                <a:xfrm>
                  <a:off x="641880" y="-468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5" name="Group 9"/>
              <p:cNvGrpSpPr/>
              <p:nvPr/>
            </p:nvGrpSpPr>
            <p:grpSpPr>
              <a:xfrm>
                <a:off x="6620400" y="-4680"/>
                <a:ext cx="2514600" cy="6858000"/>
                <a:chOff x="6620400" y="-4680"/>
                <a:chExt cx="2514600" cy="6858000"/>
              </a:xfrm>
            </p:grpSpPr>
            <p:sp>
              <p:nvSpPr>
                <p:cNvPr id="786" name="Rectangle 77"/>
                <p:cNvSpPr/>
                <p:nvPr/>
              </p:nvSpPr>
              <p:spPr>
                <a:xfrm rot="10800000">
                  <a:off x="6620400" y="-468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7" name="Rectangle 78"/>
                <p:cNvSpPr/>
                <p:nvPr/>
              </p:nvSpPr>
              <p:spPr>
                <a:xfrm rot="10800000">
                  <a:off x="8677800" y="-468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8" name="Rectangle 80"/>
                <p:cNvSpPr/>
                <p:nvPr/>
              </p:nvSpPr>
              <p:spPr>
                <a:xfrm rot="10800000">
                  <a:off x="8144640" y="-468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89" name="Rectangle 74"/>
              <p:cNvSpPr/>
              <p:nvPr/>
            </p:nvSpPr>
            <p:spPr>
              <a:xfrm>
                <a:off x="3800880" y="-468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0" name="Rectangle 75"/>
              <p:cNvSpPr/>
              <p:nvPr/>
            </p:nvSpPr>
            <p:spPr>
              <a:xfrm>
                <a:off x="2886480" y="-468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1" name="Rectangle 76"/>
              <p:cNvSpPr/>
              <p:nvPr/>
            </p:nvSpPr>
            <p:spPr>
              <a:xfrm>
                <a:off x="3115080" y="-468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92" name="Freeform 44"/>
            <p:cNvSpPr/>
            <p:nvPr/>
          </p:nvSpPr>
          <p:spPr>
            <a:xfrm>
              <a:off x="-21960" y="5031000"/>
              <a:ext cx="914544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3" name="Freeform 47"/>
            <p:cNvSpPr/>
            <p:nvPr/>
          </p:nvSpPr>
          <p:spPr>
            <a:xfrm>
              <a:off x="-21960" y="3462480"/>
              <a:ext cx="914544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4" name="Freeform 48"/>
            <p:cNvSpPr/>
            <p:nvPr/>
          </p:nvSpPr>
          <p:spPr>
            <a:xfrm>
              <a:off x="-33120" y="5635800"/>
              <a:ext cx="300492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5" name="Freeform 50"/>
            <p:cNvSpPr/>
            <p:nvPr/>
          </p:nvSpPr>
          <p:spPr>
            <a:xfrm>
              <a:off x="-21960" y="5280120"/>
              <a:ext cx="914544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6" name="Freeform 51"/>
            <p:cNvSpPr/>
            <p:nvPr/>
          </p:nvSpPr>
          <p:spPr>
            <a:xfrm>
              <a:off x="2127240" y="5127840"/>
              <a:ext cx="698328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7" name="Hexagon 52"/>
            <p:cNvSpPr/>
            <p:nvPr/>
          </p:nvSpPr>
          <p:spPr>
            <a:xfrm rot="1800000">
              <a:off x="2985840" y="2854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8" name="Hexagon 53"/>
            <p:cNvSpPr/>
            <p:nvPr/>
          </p:nvSpPr>
          <p:spPr>
            <a:xfrm rot="1800000">
              <a:off x="3709440" y="4120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9" name="Hexagon 54"/>
            <p:cNvSpPr/>
            <p:nvPr/>
          </p:nvSpPr>
          <p:spPr>
            <a:xfrm rot="1800000">
              <a:off x="3719160" y="15872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0" name="Hexagon 55"/>
            <p:cNvSpPr/>
            <p:nvPr/>
          </p:nvSpPr>
          <p:spPr>
            <a:xfrm rot="1800000">
              <a:off x="2966760" y="3204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1" name="Hexagon 56"/>
            <p:cNvSpPr/>
            <p:nvPr/>
          </p:nvSpPr>
          <p:spPr>
            <a:xfrm rot="1800000">
              <a:off x="4452480" y="53784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2" name="Freeform 57"/>
            <p:cNvSpPr/>
            <p:nvPr/>
          </p:nvSpPr>
          <p:spPr>
            <a:xfrm rot="1800000">
              <a:off x="-392040" y="419760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3" name="Hexagon 58"/>
            <p:cNvSpPr/>
            <p:nvPr/>
          </p:nvSpPr>
          <p:spPr>
            <a:xfrm rot="1800000">
              <a:off x="13680" y="53974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4" name="Hexagon 59"/>
            <p:cNvSpPr/>
            <p:nvPr/>
          </p:nvSpPr>
          <p:spPr>
            <a:xfrm rot="1800000">
              <a:off x="42480" y="28443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Hexagon 60"/>
            <p:cNvSpPr/>
            <p:nvPr/>
          </p:nvSpPr>
          <p:spPr>
            <a:xfrm rot="1800000">
              <a:off x="766440" y="4120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6" name="Hexagon 61"/>
            <p:cNvSpPr/>
            <p:nvPr/>
          </p:nvSpPr>
          <p:spPr>
            <a:xfrm rot="1800000">
              <a:off x="1499760" y="54068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7" name="Hexagon 62"/>
            <p:cNvSpPr/>
            <p:nvPr/>
          </p:nvSpPr>
          <p:spPr>
            <a:xfrm rot="1800000">
              <a:off x="1518840" y="2854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8" name="Hexagon 63"/>
            <p:cNvSpPr/>
            <p:nvPr/>
          </p:nvSpPr>
          <p:spPr>
            <a:xfrm rot="1800000">
              <a:off x="785520" y="15584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9" name="Hexagon 64"/>
            <p:cNvSpPr/>
            <p:nvPr/>
          </p:nvSpPr>
          <p:spPr>
            <a:xfrm rot="1800000">
              <a:off x="6797160" y="414000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0" name="Hexagon 65"/>
            <p:cNvSpPr/>
            <p:nvPr/>
          </p:nvSpPr>
          <p:spPr>
            <a:xfrm rot="1800000">
              <a:off x="7540200" y="541620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1" name="Hexagon 66"/>
            <p:cNvSpPr/>
            <p:nvPr/>
          </p:nvSpPr>
          <p:spPr>
            <a:xfrm rot="1800000">
              <a:off x="7540200" y="286344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2" name="Freeform 67"/>
            <p:cNvSpPr/>
            <p:nvPr/>
          </p:nvSpPr>
          <p:spPr>
            <a:xfrm rot="1800000">
              <a:off x="8298000" y="405108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3" name="Freeform 68"/>
            <p:cNvSpPr/>
            <p:nvPr/>
          </p:nvSpPr>
          <p:spPr>
            <a:xfrm rot="1800000">
              <a:off x="8297640" y="150624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14" name="Rectangle 45"/>
          <p:cNvSpPr/>
          <p:nvPr/>
        </p:nvSpPr>
        <p:spPr>
          <a:xfrm>
            <a:off x="844560" y="-27000"/>
            <a:ext cx="7386480" cy="3840120"/>
          </a:xfrm>
          <a:prstGeom prst="rect">
            <a:avLst/>
          </a:prstGeom>
          <a:solidFill>
            <a:srgbClr val="f5f5f5"/>
          </a:solidFill>
          <a:ln w="255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5" name="Rectangle 46" descr=""/>
          <p:cNvPicPr/>
          <p:nvPr/>
        </p:nvPicPr>
        <p:blipFill>
          <a:blip r:embed="rId2"/>
          <a:stretch/>
        </p:blipFill>
        <p:spPr>
          <a:xfrm>
            <a:off x="4743360" y="3975120"/>
            <a:ext cx="3505320" cy="23097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49"/>
          <p:cNvSpPr/>
          <p:nvPr/>
        </p:nvSpPr>
        <p:spPr>
          <a:xfrm>
            <a:off x="4741920" y="6078600"/>
            <a:ext cx="3505320" cy="824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Rectangle 88"/>
          <p:cNvSpPr/>
          <p:nvPr/>
        </p:nvSpPr>
        <p:spPr>
          <a:xfrm>
            <a:off x="4746600" y="6200640"/>
            <a:ext cx="3505320" cy="810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8" name="圖片 163" descr=""/>
          <p:cNvPicPr/>
          <p:nvPr/>
        </p:nvPicPr>
        <p:blipFill>
          <a:blip r:embed="rId3"/>
          <a:stretch/>
        </p:blipFill>
        <p:spPr>
          <a:xfrm>
            <a:off x="781200" y="37861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193320" y="5987880"/>
            <a:ext cx="2133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6222600" y="6392880"/>
            <a:ext cx="283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5568840" y="63928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237C-86DD-497F-A3C9-6257A61B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6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7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9669-D638-4666-8A63-1ED68C0FC5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2" descr="圖片3"/>
          <p:cNvPicPr/>
          <p:nvPr/>
        </p:nvPicPr>
        <p:blipFill>
          <a:blip r:embed="rId2"/>
          <a:srcRect l="3308" t="36246" r="2399" b="7499"/>
          <a:stretch/>
        </p:blipFill>
        <p:spPr>
          <a:xfrm>
            <a:off x="468360" y="4799160"/>
            <a:ext cx="8209080" cy="1944720"/>
          </a:xfrm>
          <a:prstGeom prst="rect">
            <a:avLst/>
          </a:prstGeom>
          <a:ln w="0">
            <a:noFill/>
          </a:ln>
        </p:spPr>
      </p:pic>
      <p:grpSp>
        <p:nvGrpSpPr>
          <p:cNvPr id="941" name="Group 8"/>
          <p:cNvGrpSpPr/>
          <p:nvPr/>
        </p:nvGrpSpPr>
        <p:grpSpPr>
          <a:xfrm>
            <a:off x="5869080" y="333360"/>
            <a:ext cx="2950920" cy="813600"/>
            <a:chOff x="5869080" y="333360"/>
            <a:chExt cx="2950920" cy="813600"/>
          </a:xfrm>
        </p:grpSpPr>
        <p:pic>
          <p:nvPicPr>
            <p:cNvPr id="942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5869080" y="333360"/>
              <a:ext cx="292716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Text Box 10"/>
            <p:cNvSpPr/>
            <p:nvPr/>
          </p:nvSpPr>
          <p:spPr>
            <a:xfrm>
              <a:off x="6537240" y="839880"/>
              <a:ext cx="22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健康  關懷  多元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CF77-240D-4671-BC02-9812DB8C515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8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9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9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B89A-D9D6-4B2D-988B-2E038CB37B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6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7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9556-B500-46E9-8AB1-D1C7C225F3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FA69-05D1-414A-9217-495DDCC36C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14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5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5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7030-A374-4EFE-A199-31F4BE7708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3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3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D4B6-9931-46C9-B250-45E8ADBE2D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0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1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1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0EBD-A13D-420D-8806-B0CBEAA080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11F1-5878-4D2B-9782-84BE1B6EE5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2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2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2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3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3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0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255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332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66" name="Picture 10" descr="DSCN5322"/>
          <p:cNvPicPr/>
          <p:nvPr/>
        </p:nvPicPr>
        <p:blipFill>
          <a:blip r:embed="rId2"/>
          <a:srcRect l="0" t="0" r="0" b="28463"/>
          <a:stretch/>
        </p:blipFill>
        <p:spPr>
          <a:xfrm>
            <a:off x="5364000" y="4749840"/>
            <a:ext cx="3276720" cy="17571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392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1"/>
          </p:nvPr>
        </p:nvSpPr>
        <p:spPr>
          <a:xfrm>
            <a:off x="7488000" y="6502320"/>
            <a:ext cx="133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01F3-9792-4C24-8296-92FE5DA98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3" descr="未命名 - 1"/>
          <p:cNvPicPr/>
          <p:nvPr/>
        </p:nvPicPr>
        <p:blipFill>
          <a:blip r:embed="rId3"/>
          <a:stretch/>
        </p:blipFill>
        <p:spPr>
          <a:xfrm>
            <a:off x="-54000" y="-112680"/>
            <a:ext cx="2033640" cy="1525680"/>
          </a:xfrm>
          <a:prstGeom prst="rect">
            <a:avLst/>
          </a:prstGeom>
          <a:ln w="0">
            <a:noFill/>
          </a:ln>
        </p:spPr>
      </p:pic>
      <p:pic>
        <p:nvPicPr>
          <p:cNvPr id="171" name="矩形 6" descr=""/>
          <p:cNvPicPr/>
          <p:nvPr/>
        </p:nvPicPr>
        <p:blipFill>
          <a:blip r:embed="rId4"/>
          <a:stretch/>
        </p:blipFill>
        <p:spPr>
          <a:xfrm>
            <a:off x="4029120" y="49320"/>
            <a:ext cx="4572000" cy="583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>
            <a:off x="5178240" y="6114960"/>
            <a:ext cx="3501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DF5A-77C0-404F-B8E5-EB5E306B46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7EB3-04B1-4F7F-88AB-D93E6ED9B98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EE1F-9EBE-4B45-9038-61D61A073B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1A23-D4D9-4BE2-8B8A-B60E6170D1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3E71-C8A0-4B04-A07C-A897DE819B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AppData/Local/Microsoft/Windows/Temporary%20Internet%20Files/Content.IE5/H022IQHJ/101&#23416;&#24180;&#24230;&#26032;&#21271;&#24066;&#25919;&#24220;&#25945;&#32946;&#23616;&#23565;&#21508;&#32026;&#23416;&#26657;&#37325;&#40670;&#35222;.doc" TargetMode="External"/><Relationship Id="rId2" Type="http://schemas.openxmlformats.org/officeDocument/2006/relationships/hyperlink" Target="file:///../AppData/Local/Microsoft/Windows/Temporary%20Internet%20Files/Content.IE5/H022IQHJ/101&#23416;&#24180;&#24230;&#26032;&#21271;&#24066;&#25919;&#24220;&#25945;&#32946;&#23616;&#23565;&#21508;&#32026;&#23416;&#26657;&#37325;&#40670;&#35222;.doc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1294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187280" y="907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507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101</a:t>
            </a:r>
            <a:r>
              <a:rPr b="1" lang="zh-TW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學年度第</a:t>
            </a:r>
            <a:r>
              <a:rPr b="1" lang="en-US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2</a:t>
            </a:r>
            <a:r>
              <a:rPr b="1" lang="zh-TW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學期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507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期初校務會議 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507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e3d2d"/>
                </a:solidFill>
                <a:latin typeface="標楷體"/>
                <a:ea typeface="標楷體"/>
              </a:rPr>
              <a:t>教務處報告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加退選、重修自學作業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加退選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高三：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2/18-2/19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高二：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2/21-2/22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2/25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前共同選修課依原選課結果上課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重修自學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2/25-2/27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開始申請，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3/4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開始上課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註冊、獎助學金作業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12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註冊單：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/18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（一）開學日發放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經濟有困難的同學可至註冊組說明，可以分期繳或延後繳費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獎學金：開學後陸續有各項獎助學金可申請，部分獎項需導師協助，屆時請導師協助篩選與推薦。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4544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4c600"/>
                </a:solidFill>
                <a:latin typeface="Century Gothic"/>
                <a:ea typeface="標楷體"/>
              </a:rPr>
              <a:t>期初試務規畫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/27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/28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三大學學測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/21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一市中複習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考國、英、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2/21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~2/22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二市中複習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2/21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~2/22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三專門學程模擬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2/26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~2/27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三模擬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3/7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~3/8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三學術學程模擬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相關範圍及日程公告於學校首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ff"/>
                </a:solidFill>
                <a:latin typeface="Century Gothic"/>
                <a:ea typeface="標楷體"/>
              </a:rPr>
              <a:t>新年快樂</a:t>
            </a:r>
            <a:endParaRPr b="0" lang="en-US" sz="8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1417" name="Picture 4" descr="MC900110698[1]"/>
          <p:cNvPicPr/>
          <p:nvPr/>
        </p:nvPicPr>
        <p:blipFill>
          <a:blip r:embed="rId1"/>
          <a:stretch/>
        </p:blipFill>
        <p:spPr>
          <a:xfrm rot="19125600">
            <a:off x="971280" y="2421000"/>
            <a:ext cx="126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826920" y="10267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教務處</a:t>
            </a:r>
            <a:r>
              <a:rPr b="1" lang="en-US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學年度重要工作推動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執行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年度高中優質化輔助計畫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申請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/3-103/7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高中旗鑑計畫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預計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/3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開始執行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年高中旗鑑計畫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申請教育部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SIEP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國際交流計畫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2/25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與日本廣島河內高校建立姊妹校簽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申請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學年度教育部教師專業發展評鑑計畫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02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學年度高中部增班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(1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班</a:t>
            </a: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)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相關配套準備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12</a:t>
            </a: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年國教推動相關方案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e3d2d"/>
                </a:solidFill>
                <a:latin typeface="Century Gothic"/>
                <a:ea typeface="標楷體"/>
              </a:rPr>
              <a:t>落實教育局重點視導業務推動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執行</a:t>
            </a:r>
            <a:r>
              <a:rPr b="1" lang="en-US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101</a:t>
            </a:r>
            <a:r>
              <a:rPr b="1" lang="zh-TW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學年度高中優質輔助方案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補助資本門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8000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整，經常門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9100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重點仍聚焦在「提升學生學習成效」、「教師專業成長」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開學後即開始執行，請老師配合相關計畫執行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年高中優質化計畫經常門可開始執行，本計畫請在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6/15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執行完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標楷體"/>
                <a:ea typeface="標楷體"/>
              </a:rPr>
              <a:t>102</a:t>
            </a:r>
            <a:r>
              <a:rPr b="1" lang="zh-TW" sz="4000" spc="-1" strike="noStrike">
                <a:solidFill>
                  <a:srgbClr val="94c600"/>
                </a:solidFill>
                <a:latin typeface="標楷體"/>
                <a:ea typeface="標楷體"/>
              </a:rPr>
              <a:t>年旗鑑計畫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/4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旗鑑計畫送件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必辦項目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發展特色課程、推動教師精進教學及發展多元評量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優先項目：規劃外語人才培育及國際交流活動、辦理高中特色行銷與招生宣導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標楷體"/>
                <a:ea typeface="標楷體"/>
              </a:rPr>
              <a:t>SIEP</a:t>
            </a:r>
            <a:r>
              <a:rPr b="1" lang="zh-TW" sz="4000" spc="-1" strike="noStrike">
                <a:solidFill>
                  <a:srgbClr val="94c600"/>
                </a:solidFill>
                <a:latin typeface="標楷體"/>
                <a:ea typeface="標楷體"/>
              </a:rPr>
              <a:t>國際交流計畫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1401" name=""/>
          <p:cNvGraphicFramePr/>
          <p:nvPr/>
        </p:nvGraphicFramePr>
        <p:xfrm>
          <a:off x="826920" y="2349360"/>
          <a:ext cx="7632720" cy="3959280"/>
        </p:xfrm>
        <a:graphic>
          <a:graphicData uri="http://schemas.openxmlformats.org/drawingml/2006/table">
            <a:tbl>
              <a:tblPr/>
              <a:tblGrid>
                <a:gridCol w="2376720"/>
                <a:gridCol w="2305080"/>
                <a:gridCol w="2950920"/>
              </a:tblGrid>
              <a:tr h="131940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地圖放大鏡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0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課程發展與教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0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辦理開設外語及文化課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跨海初體驗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0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國際交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0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師生出訪日本活動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網網相連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182520" indent="-152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國際交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27000" indent="3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參與國際網路交流計畫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4000" y="1267920"/>
            <a:ext cx="87138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102</a:t>
            </a:r>
            <a:r>
              <a:rPr b="1" lang="zh-TW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學年度高中部增班</a:t>
            </a:r>
            <a:r>
              <a:rPr b="1" lang="en-US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(1</a:t>
            </a:r>
            <a:r>
              <a:rPr b="1" lang="zh-TW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班</a:t>
            </a:r>
            <a:r>
              <a:rPr b="1" lang="en-US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相關配套準備</a:t>
            </a:r>
            <a:br>
              <a:rPr sz="32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空間規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師資規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招生規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經費規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12</a:t>
            </a:r>
            <a:r>
              <a:rPr b="1" lang="zh-TW" sz="4000" spc="-1" strike="noStrike">
                <a:solidFill>
                  <a:srgbClr val="94c600"/>
                </a:solidFill>
                <a:latin typeface="Century Gothic"/>
                <a:ea typeface="標楷體"/>
              </a:rPr>
              <a:t>年國教推動相關方案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高中優質化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國中教學正常化、適性輔導及品質提升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國中補救教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國中學生輟學預防與復學輔導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十二國教政策宣導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免試入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國中與高中學生生涯輔導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高中學生學習扶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高中高職教師教學品質提升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e3d2d"/>
                </a:solidFill>
                <a:latin typeface="標楷體"/>
                <a:ea typeface="標楷體"/>
              </a:rPr>
              <a:t>身心障礙學生就學輔導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101</a:t>
            </a:r>
            <a:r>
              <a:rPr b="1" lang="zh-TW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學年度新北市政府教育局對各級學校</a:t>
            </a:r>
            <a:br>
              <a:rPr sz="3600"/>
            </a:br>
            <a:r>
              <a:rPr b="1" lang="zh-TW" sz="3600" spc="-1" strike="noStrike">
                <a:solidFill>
                  <a:srgbClr val="94c600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 u="sng">
                <a:solidFill>
                  <a:srgbClr val="e68200"/>
                </a:solidFill>
                <a:uFillTx/>
                <a:latin typeface="標楷體"/>
                <a:ea typeface="標楷體"/>
                <a:hlinkClick r:id="rId1"/>
              </a:rPr>
              <a:t>重點視導項目</a:t>
            </a:r>
            <a:r>
              <a:rPr b="0" lang="zh-TW" sz="3600" spc="-1" strike="noStrike" u="sng">
                <a:solidFill>
                  <a:srgbClr val="e68200"/>
                </a:solidFill>
                <a:uFillTx/>
                <a:latin typeface="標楷體"/>
                <a:ea typeface="標楷體"/>
                <a:hlinkClick r:id="rId2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一、一般教學情形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二、常態編班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三、校園巡堂紀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四、友善校園學生事務與輔導工作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五、建物安全檢查與防災演練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六、午餐衛生與校園食品安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七、水域安全及防溺宣導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八、攜手計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Gothic"/>
                <a:ea typeface="標楷體"/>
              </a:rPr>
              <a:t>九、維護校園安全暨防制藥物濫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4c600"/>
                </a:solidFill>
                <a:latin typeface="標楷體"/>
                <a:ea typeface="標楷體"/>
              </a:rPr>
              <a:t>課後輔導、夜自習作業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1409" name=""/>
          <p:cNvGraphicFramePr/>
          <p:nvPr/>
        </p:nvGraphicFramePr>
        <p:xfrm>
          <a:off x="826920" y="1600200"/>
          <a:ext cx="7561440" cy="4849920"/>
        </p:xfrm>
        <a:graphic>
          <a:graphicData uri="http://schemas.openxmlformats.org/drawingml/2006/table">
            <a:tbl>
              <a:tblPr/>
              <a:tblGrid>
                <a:gridCol w="1730520"/>
                <a:gridCol w="583092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日期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事    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/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第八節課後輔導、攜手、國高中夜自習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高中自學夜自習開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/1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三第八節課輔結束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/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高三第八節課輔結束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/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一、國二、高一、高二第八節課輔結束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/2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高三夜自習開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8:37:48Z</dcterms:created>
  <dc:creator>Administrator</dc:creator>
  <dc:description/>
  <dc:language>en-US</dc:language>
  <cp:lastModifiedBy>ad7374</cp:lastModifiedBy>
  <dcterms:modified xsi:type="dcterms:W3CDTF">2013-02-07T09:37:09Z</dcterms:modified>
  <cp:revision>125</cp:revision>
  <dc:subject/>
  <dc:title>96學年度第1學期期末教務會議</dc:title>
</cp:coreProperties>
</file>