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4FC-825F-47BA-8F8C-6F8E34D7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D5E-0566-45D9-914A-2AA1DB38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0FBD-3717-47DA-B384-EC2CDA5F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31C-D9D4-46C2-813F-1E95643D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BB1-F6B9-4BD7-9AF0-FD85BDAA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78D-9D9A-4222-A049-6741C68F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BABB-435F-4827-A2DB-CE5198CA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AAA-53DE-4AF7-B653-49190279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414-94E2-4BF7-B404-28DB6FDA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3122-98FB-47DD-B8E6-A43D9EE7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5AA-D062-4E03-8264-4AD44B56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726-A797-498D-A93A-3AD4431E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AA5-EAAE-4E76-B222-14544448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605-92AA-4DF6-9BB7-1692C32A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5EC-724A-48A8-A72D-2233A923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094-C1F9-4780-B037-B7E8A70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417-22B3-4A09-8FC9-4A37209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30C-372C-4CC2-9380-1B0D3C0F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0C9-D08F-4A45-87C4-59D5224E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7D5-B1D5-4628-88D2-626A3F0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22-3632-48FB-BD54-2F805E2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ECB-B30F-4994-B7CE-7F909E6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631440" indent="-2426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2" marL="971280" indent="-1940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3" marL="1360080" indent="-1940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4" marL="1748520" indent="-194040">
              <a:spcBef>
                <a:spcPts val="11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5" marL="1748520" indent="-1940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6" marL="1748520" indent="-1940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AB4-E696-4273-A690-88855095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輔導處重點報告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各項學生輔導方案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中輟學生通報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學程、技藝專班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競賽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高中升學輔導方案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1117440" indent="-11174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家長日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一、各項學生輔導方案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中輟高風險學生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高關懷班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適應不良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案認輔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家庭急難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校社工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特教服務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習資源中心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-838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各類議題</a:t>
            </a:r>
            <a:r>
              <a:rPr b="0" lang="zh-TW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小團體及各項活動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二、中輟學生通報。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連續三日或累計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49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節課無故缺席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表註明中輟時間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立刻通知輔導處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333399"/>
                </a:solidFill>
                <a:uFillTx/>
                <a:latin typeface="Arial"/>
              </a:rPr>
              <a:t>三、國三技藝學程、技藝專班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程：動力機械、家政職群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商管職群。週四上課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地點：協和工商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光隆家商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班：餐旅職群、食品職群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週二、四上課、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地點：培德高職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學程遴輔會：校務會議後召開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技藝專班檢討會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/20(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)13:15~14:0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333399"/>
                </a:solidFill>
                <a:uFillTx/>
                <a:latin typeface="Arial"/>
                <a:ea typeface="標楷體"/>
              </a:rPr>
              <a:t>三、國三技藝學程、技藝專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四、新北市技藝競賽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參加人數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4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人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競賽類別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項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去年成績：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人獲佳作以上名次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五、高中升學輔導方案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繁星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大學四技個人申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學習輔導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模擬面試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心理測驗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</a:rPr>
              <a:t>六、家長日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/6(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晚間：國中部，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/10(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日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下午：高中部。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685800" indent="-68580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Arial"/>
              </a:rPr>
              <a:t>活動流程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3276720"/>
          <a:ext cx="8534520" cy="3224160"/>
        </p:xfrm>
        <a:graphic>
          <a:graphicData uri="http://schemas.openxmlformats.org/drawingml/2006/table">
            <a:tbl>
              <a:tblPr/>
              <a:tblGrid>
                <a:gridCol w="2133720"/>
                <a:gridCol w="3276360"/>
                <a:gridCol w="312444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家長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/</a:t>
                      </a: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教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地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一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班級親師懇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各班教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二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專題講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視聽教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第三小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校長綜合座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333399"/>
                          </a:solidFill>
                          <a:latin typeface="Arial"/>
                          <a:ea typeface="標楷體"/>
                        </a:rPr>
                        <a:t>會議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校長暨各處室行政同仁，須於親師懇談時段巡訪各班，以便及時解答相關問題。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333399"/>
                </a:solidFill>
                <a:uFillTx/>
                <a:latin typeface="Arial"/>
                <a:ea typeface="標楷體"/>
              </a:rPr>
              <a:t>六、家長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8635</cp:lastModifiedBy>
  <dcterms:modified xsi:type="dcterms:W3CDTF">2013-02-17T01:06:39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