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60E-CBBD-4B45-A1E9-EA895F83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B78-9AC0-4B6A-A775-EDEBAC0D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B6E-65D6-4045-8BF0-00ACD1D4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FA7-B466-45F1-BCE4-3D393AA6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079-4F22-46A6-A395-EDB25138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C52-E218-42A9-B965-785C388E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A7F-FEFF-4816-A33C-04F78D9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661-4704-465F-B9B8-9563E113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AA2-9D56-4C05-A862-9EDD729E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7F1-695E-4A2E-B7B0-1C05F4E0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04C-708D-47F6-B7DA-ACC5FEA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637-8D32-4EA9-B02A-85BAB0EB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4E20-897B-4720-9FD6-1781FDBC6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5400" spc="-1" strike="noStrike">
                <a:solidFill>
                  <a:srgbClr val="0000ff"/>
                </a:solidFill>
                <a:latin typeface="Times New Roman"/>
                <a:ea typeface="標楷體"/>
              </a:rPr>
              <a:t>教師會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9185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7030a0"/>
                </a:solidFill>
                <a:latin typeface="標楷體"/>
                <a:ea typeface="標楷體"/>
              </a:rPr>
              <a:t>一、上學期剩餘金額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7030a0"/>
                </a:solidFill>
                <a:latin typeface="標楷體"/>
                <a:ea typeface="標楷體"/>
              </a:rPr>
              <a:t>二、本學期預計活動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  </a:t>
            </a: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(1)</a:t>
            </a:r>
            <a:r>
              <a:rPr b="1" lang="zh-TW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三月教師舞蹈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  </a:t>
            </a: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(2)</a:t>
            </a:r>
            <a:r>
              <a:rPr b="1" lang="zh-TW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四月賞鳥活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  </a:t>
            </a: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(3)</a:t>
            </a:r>
            <a:r>
              <a:rPr b="1" lang="zh-TW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五月跳蚤市場愛心義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  </a:t>
            </a:r>
            <a:r>
              <a:rPr b="1" lang="en-US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(4)</a:t>
            </a:r>
            <a:r>
              <a:rPr b="1" lang="zh-TW" sz="3600" spc="-1" strike="noStrike">
                <a:solidFill>
                  <a:srgbClr val="cc6600"/>
                </a:solidFill>
                <a:latin typeface="標楷體"/>
                <a:ea typeface="標楷體"/>
              </a:rPr>
              <a:t>六月期末會員聚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7030a0"/>
                </a:solidFill>
                <a:latin typeface="標楷體"/>
                <a:ea typeface="標楷體"/>
              </a:rPr>
              <a:t>三、本學期會務重心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7030a0"/>
                </a:solidFill>
                <a:latin typeface="標楷體"/>
                <a:ea typeface="標楷體"/>
              </a:rPr>
              <a:t>四、新舊理監事交接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76500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1:53:45Z</dcterms:created>
  <dc:creator>user</dc:creator>
  <dc:description/>
  <dc:language>en-US</dc:language>
  <cp:lastModifiedBy>User</cp:lastModifiedBy>
  <dcterms:modified xsi:type="dcterms:W3CDTF">2013-01-30T05:11:30Z</dcterms:modified>
  <cp:revision>308</cp:revision>
  <dc:subject/>
  <dc:title>PowerPoint 簡報</dc:title>
</cp:coreProperties>
</file>