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1D4-75E0-40DA-901F-8211C7C8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A17-D0D4-41F0-90EF-6B91F5E6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3CD8B-6D3F-41CC-A5E2-2B7C54DC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0B6FF-8956-4AC3-B025-C53D579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BB93B-9E9D-4CD6-996A-6360335D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7A832-36E8-49E1-A0A5-80CFB85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51E04-F216-4653-88FC-EED595A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57DB5-9D87-4ECD-98BD-54E61F2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C1D2E-485B-4D1F-931D-461D788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07AE8-243A-4F6A-90E6-554CAB3C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C9FF0-C448-402E-8BE9-0C54D50F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33E9A-4424-4B49-BBB4-C1C7E4B2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38A-EDA9-4C61-B85D-D4D7EDEA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ACE46-30F0-4FD6-8C16-0B80CCD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E7CA-2AA4-44F1-B677-EBC7EA4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D63BE-43BE-4C13-95B0-294504E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E6C9-F3BF-449E-9ED1-3055D05C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569E7-9CB7-4C31-A25F-1887570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FC24-E98B-4BBA-8A47-BDE785A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D29DA-2164-4FB9-B5BC-B728009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72E7E-AE6F-4DA7-BF5C-A4F24EB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BAA13-3D4A-4EA2-A65E-00138B4B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84CAD-A156-4EDC-8421-A24438EA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73C-49B3-4B39-A3EE-81C75E8E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04455-808C-47DA-83B4-862E6386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03B7-E3A7-4606-B153-BB13EF83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BC04B-14F5-4172-84F6-8106D23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63B23-3261-4322-AEB2-39EA5343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D469B-B7EA-4425-A8C8-04CA9CE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02FBA-95A2-44D8-9421-FD9B8A1C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9942-1D52-4CCE-A608-727C4BD8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2CCA2-D046-40AE-A7AC-7D81AEE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289B-30DE-4A52-AC5F-D3C507D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F2012-38CC-4F38-8E29-E72103C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302A-AB7D-4D60-9CF8-FCAC7CB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2A0EE-860E-42BC-A7F0-9D989F9D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471F-BE2A-4353-BA09-77B036E0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5F7E2-0669-4C04-BF2A-6E298B9C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61D33-D8B2-4542-980C-E990A6BF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B377-BA60-4B35-A172-BBF8B0B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B82D2-8BD2-48E1-8FE5-2E997983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3F027-E943-4985-8694-CBEB7BBE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FB016-43E8-4BE7-8413-3E5EED1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14C4D-5072-4FF2-A1C5-230AF98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506E0-69FF-4EFA-AE9C-0947130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789C-356B-454F-B20D-8E2A5316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838B1-59B1-4BB8-AA0E-F49E9D4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CF2C5-9AD7-4504-BB98-C8EA48E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D6DB-2EAC-47D8-891C-65D1D8B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5168B-CA73-4AEC-8475-3CA0848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32C7-1635-4AE4-9E18-F05C9574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A9B5B-D6E2-4789-9986-1381B26C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38873-FCDC-42A4-87AE-30EBF884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DC86F-9D6D-47E3-956C-83DE3A39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E4AD4-6BB4-4A59-A17F-67DAA12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D130D-DFBD-4FC0-9425-9C940BE8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3E73-8DF4-4211-AF68-C903017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E8239-B2CE-4BEB-99F9-E1ED04E9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0F5C7-2CA2-4F07-BC0E-7C53A6D1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3B0E8-FF4E-42A4-8725-2DA4343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71BF8-BBE0-4E32-A2FC-4EB2E16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2AB98-3CAB-49DD-8A1E-8025B52D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A47B0-8F75-4EAB-99C0-5144D1ED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70AFC-5466-4E51-80C1-B58D3F93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965F0-1872-4CED-8051-CD8D5B80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29E59-6585-4169-927C-88DE3C7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45153-D276-4ABC-A07D-C55B2CCF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674-F6C9-499C-B1B9-D47771D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21EDD-2AFF-45B6-8677-2CAA178B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C96C9-5EE2-4D16-B18E-7206897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46338-0A7E-4661-BFC7-B3D4C9A5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D727B-B21C-4F40-835F-E44E0EC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D3064-ED97-482B-9431-F69D55B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DAAAB-E9CC-40CF-B322-8BBF033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49D05-63FD-4062-B2F4-47E44CD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D4C2F-3ED0-43B6-9240-B291456D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95517-BF6F-466C-83E7-5AF5B943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C442B-4A4E-4A5D-BA9C-A409E031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6794-D90A-470E-ABC9-D4C3A81D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515DB-5C47-4136-AAE7-104F3BEC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0940A-C120-46E6-8801-C9849E77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0A8F5-4B21-42CA-B616-FAA0C69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6D903-C1EB-478B-B1D8-761603BB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1E6B8-E6DB-482A-ABEA-926199E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AA09A-F5C5-45AD-984C-D9FF178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BDDDB-45D7-4D86-B7A1-D8612B6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1EFCE-09C1-4D00-9EAB-309F31C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68275-8BA9-463F-AB69-37867EF6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ABBF8-8044-402D-84B1-08D5429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F0D-ABDC-4195-AB58-0572D199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55662-D8E4-4507-8063-95353EFF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C0FC5-6CA6-45C0-99C2-2F3E4E50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DB75C-D9AB-4BAC-B231-F4667F3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7D231-61F6-4438-8EF5-48F4D5E4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4D614-0EFF-4D19-8C0C-1A6E8FC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0873C-BFD2-4213-A3E7-A280AA3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9E25C-1B55-4815-9EAD-7366946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A7B2D-9CA8-45BF-89B2-1D7EDA9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ABEBA-590F-4B46-B0F0-743991A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7E682-C04C-4601-8B59-1845DAB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F8E9-D90F-4AFD-A2BB-7AAC40BA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A6BBA-EA8F-43D4-8C25-7688D77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1BC8A-3929-4F70-97B9-4B30A65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AD118-9C25-4227-B9E2-4EEC5F8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9EE65-4EED-48F0-BA9A-3928135C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73211-694D-4BFD-ABA8-B626F83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7736A-E7CE-4C3C-8083-A0A0732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5D9BC-FF0C-4E33-A152-F2F85CA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09054-1057-4D69-A0E7-CA5173F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B66D6-C558-4CA0-A466-0B61FAC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77016-A828-44F3-9DAA-7CEE7F2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924-E88E-4626-8B7B-9FA54AF8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AB2A-F408-4E67-A300-699E7A7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E3CCB-9DAE-4F5F-A444-AE3C5DE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DDA5C-1B57-46D8-B10D-9F7B56A4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ADBD2-61FE-49DB-9B2A-D4F47D54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FE061-EA6C-4593-9C81-80BD5F5A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C9712-A3D2-4ED8-98B2-667C44E1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A6119-6C12-4881-A519-6CB7DA2A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BC03C-417B-4974-89EA-93B389FF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D9A11-1E94-4EB9-91C8-8AC151B6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CCF9A-A5FC-4510-BCE4-58973DA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6284D-084B-4CBF-B8FD-CC87063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8312-43E9-4EBF-BA0C-5B74B66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D2A190-6FA4-4103-B7D2-2D04AAE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0F105-52E1-47CF-B9D6-DD3EF44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5F6BF-8E23-4091-9A68-3181CD6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0FE55-A504-4654-A933-9DC59B6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A579A-116A-42AE-9001-BA972120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E98ED-DF93-4528-AA83-F8B98AC6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05FB4-D140-421B-A8F7-0FBD249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BD8A7-F033-488A-9223-A7EB4085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1D6B6-FB81-4D11-9B02-BD32806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D5351-18FD-406C-A480-D883245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058-277D-48BD-A008-D7C3891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D71F0-4251-4C98-AE9B-438869B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76553-FD0C-441B-837E-9CD3463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7BC40-7782-479F-A1B3-64CB81D7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5C17B-2F1B-42DD-AA31-0A0A6EF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B0216-6DAE-4318-8FA3-A188B03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B8977-96C4-4508-96DF-2125701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8B78B-9079-4C58-AE21-3DE8AD5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A1C10-8FDC-407B-BA77-016A0B44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7B29E-62BA-4BC6-94F8-D619B0DF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696D9-B184-4759-96F5-B18CDAD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F119-1CDD-4DD6-8F0B-CB2F784E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04C78-E7E9-4309-80C7-99C5A29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70F5E-372A-4846-A7F2-81F0DF5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44111-6119-415A-A276-933B3E9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A91C2-9952-4FD3-9191-2E6C761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CF5DA-0D3E-4F05-ADAD-9C1511D6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C1137-FF5B-4FEC-9A33-40F67BC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D075C-7D82-401B-A1CC-D6B71F9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A366F-7AAE-4FA6-90EB-3C8826B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B9E55-9F89-443E-9B0D-E1506B7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37B85-034F-4543-9CAB-68738C5A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D80E-7BD4-4C7B-886E-0AAA92E0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082F3-43FD-4805-A88F-E2B3A71A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8DB02-67EA-4B43-8A69-48FC28AC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C195E-6F94-4ACD-AEFD-241BFCA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411AC-3195-48B2-8C19-A9CB40D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8F6D3-102A-4199-B6A0-CE91E6B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B927A-09B1-4EF2-A260-2456D7C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E7169-3288-472D-AB6A-73CC62D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0BC88-1291-47C6-97A1-4CB71B9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A7113-53C3-4F5E-BBAA-B36CB58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1D324-D0DC-4A8A-BDE3-F3A3279B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6298-22AC-4761-8E55-B0BF409B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46F24-882C-4739-A8E9-9A73AC8F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F8789-CDF1-4EFF-BC72-BD1AFD32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919B7-DDB6-48F9-ADBC-E112E77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0B2A8-0D6F-4492-9818-8F75B2F2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D5705-8EE1-47C8-8B0E-A7075EB1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95660C-8252-4546-8D8D-FDC74F3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04A23B-EEC9-4423-ACE2-A47C083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A9A789-D4B0-49C1-B122-00646BC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B0672-5F58-4E3A-8AB0-44B845F5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AFBF9-A896-4512-8160-0951DB3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E954-9363-41B9-8C4F-A2BBDB1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E1C2F-76D1-4783-8E07-8D60364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490BF-AA29-4FCB-B897-8E15EBD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B7F771-EC2D-411C-AC15-8E4E650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E6D10-3634-4F87-8EB9-F477E951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AB2C7-54A2-49F3-B201-34400373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3068C7-CC47-49E2-82A2-307C5C99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A8634E-C822-4627-A9DC-D4F07C61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3775B-370B-4D0E-A4EB-8CC44F8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7A84F7-59FE-4712-91EC-751B035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BC50E6-D9AD-4EAF-B538-2F01734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C055-4AC1-40AC-A593-9B6763D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AAE471-0818-4DDC-BA9C-08DF06F3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611B3-AF92-4213-9E11-CAA2544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B76B6C-404E-4C7B-BB92-4969004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2BE2B-3B16-4EB6-B876-4C7D35A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B114A-DDCC-46DB-A3E6-9846B07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8917F-5AD6-4E61-9DD2-35472F3D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7AF2CD-869C-4082-B497-3970D09D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190B57-7AE1-4753-82CA-9C9BEBEC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E7A57-3489-4D84-94FE-BA1F28D4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F1D12B-C23F-45C1-8540-457CA7A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CAB4-2E83-42E1-A61F-E3CE53B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C7212-2495-4108-AFE2-6D3587B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2BE33-731D-4ADC-93EC-116DDC9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E84E05-7F2E-4BF9-8F5D-021EA31C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4FF72C-3776-4886-84AF-EE47456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B7CD2-6538-482F-A775-40D78FF9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371B8C-4F43-45DD-B6F1-11CB31C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0B14F4-5E9D-4279-8999-DA35D6F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17B8AF-5AB6-4854-A828-16E38028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399A3-2ECE-4411-9C53-C853D86B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90FD5-8392-4D4C-90B1-CBDBAD1D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5A3F-7468-48DD-9B55-B1BC6C9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688D5D-4562-48D8-8CD3-93EF9F4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6276C-0B3E-4015-BDA5-CA29AE3A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99F61B-8C6E-43F6-854A-F3DC49C4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360ACA-5C4B-45DC-B881-1B94CE4F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B929FB-F77C-4AA6-8622-51007CF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7AC11D-8AA5-4B4C-9828-961948C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28DB9-5E80-4CFD-9B32-8AC91E6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A1DF30-5ED8-4330-9246-8711736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880A6A-C732-49FD-ACB2-65DFD6A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A893B-F713-468A-8193-0F323736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DA5-8740-4D27-8CD1-9023D622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1CF2-1105-42BB-AA75-EFADCD2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1C78E4-40CF-4E88-9142-37CC1055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340D41-290B-42DC-8579-04D6ACA3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467167-8F86-4CE7-9928-51D19CDB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30210B-4967-443D-9A9E-4F6BDB8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4D020-3E73-431C-9687-25D8499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110380-FEE6-43EC-886D-A1C250D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28D5C8-0690-4FCD-B019-5669D3F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B7EEE6-1D41-4786-8E70-C9F00C3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06557D-2327-433C-8B30-8E760F2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98386-58CD-4EDA-8FB2-3F6F799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7B46-AEAB-4D9D-ACAF-BA43B063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5DA043-B80C-4357-BBBB-208FFD9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FC5B4-4AD0-4CA0-9171-469B5205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E14591-AFB6-4125-824D-42191C21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5389AA-0D30-4E5E-812E-DBF58966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46DAC7-3AD4-43B0-9983-3D31A362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975560-91E4-4727-8E63-42EAB2C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835D1C-9953-4B58-847C-E8A1EC11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DCE2AC-E177-4109-9DCD-4351070B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9AB289-2B81-4C5D-9C2D-A389B5C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8B1C5F-B2EA-4A26-82BF-78D0845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AB37-B642-46A3-9D79-E31966A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023AF5-9585-4F34-88E0-BA4A3D0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FC1B06-0F3D-432F-85B9-E3D2D65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4376C8-A865-47AA-B7CC-849932F5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B59AE5-43D4-415E-A680-C7CDF22A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86761-D5F1-4FF4-8F36-ADC5FD72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22F132-9DA7-4809-A5F0-850F0F66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66616D-137C-40B4-AEA2-6BEC893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FBEB49-0460-41DB-8D92-F5A0F30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6773B3-EF17-41A4-9328-B312C71F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68C5EF-27AC-4021-A5F7-B5A07C0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1477-F110-47F4-A001-AC2AB66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D9435E-899D-4F8D-A293-0B7CDAF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617318-6FCC-48B7-A7BB-394F82A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A6960A-F4AA-423F-B7D0-E344811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38CB63-ADFE-4B2A-A003-FB22F9B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CAE48D-13EA-4A90-BB03-BE0F81DF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D19CB9-E807-4324-9564-05A70872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B92BD-DCB8-44DE-B1F1-E4705B50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7AB451-C610-4354-9E43-0262E99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276E3E-25EC-4673-9293-4EF0978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0484B9-F36E-4647-9828-C432B45F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C238-90D1-4ED1-A0FB-A6BC2D00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77321E-880A-44B5-BD09-0F90B29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CE2F03-C34B-45A8-ACC3-EFC19D0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B447BF-C74D-4171-A730-076FDB72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EEA693-03B2-466D-AE4D-BC274D4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EF9A1A-3C17-4100-A436-45082E8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D6282F-9680-4A19-B621-D3F512B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11354F-99A7-4859-9C34-E9A4243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7DAC0B-252E-4F0F-8B71-7638F21F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B01332-CEBF-4619-BBCA-9094FF57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E5138B-F71F-4D4D-830F-85AD1881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23C5-1F32-4572-AACA-4FD98BA9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2C763B-8200-40B0-9A42-57C2006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3162C-E1FF-4C2C-B860-026F68B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DE13F5-7C1E-4E04-85E5-FC9293C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F04005-8767-4EDC-950C-A542C2BA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9FBD01-4A49-442F-8FF4-8A97276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93D996-5246-4804-B630-B4A279B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BCA28E-12A3-4FC0-B1D6-F865A7F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E73F3-7CC1-4A75-9D05-4832865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2D1934-3D6B-440D-AAAD-E74ED53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B061EE-8E6F-4927-B801-4D8FB6F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E19C-9496-4D62-91DD-FF54EEFF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569EF1-8868-4103-A5E8-608EA1C9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21CDFE-ADC8-4DFD-8F65-AB43E649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F5DD28-CB8B-4F69-A58C-8487EFC9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FCDDC7-CE3C-4DE5-91D8-54335B18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85752D-F443-4DB7-8D4B-48ABC365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D078B-A779-4FC2-A232-B65BE2AD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DB76A8-AAB2-4253-B0F4-E054BFC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40318E-C462-4C5E-B20B-7D1CDE4C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FA43F3-78B6-4BB3-BD5D-C4578B9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ECD2A2-A687-476F-8149-67565CD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86BA-E1AB-483D-A7B9-191BAACB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7F8DC4-94D2-4FAE-9514-0D1711D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DB94D5-57A8-4B3C-AB4F-9E6BC6A9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78BE33-5F08-4E8F-A8CA-D59A487A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150396-4F82-42D8-A56D-FEE1EDEE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3C9C72-F136-4CFA-8FD5-BBC3EBBA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C70CF3-3BB6-414B-A222-3EA41CA0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4BC8C7-168C-43AE-AE69-B98E9BAD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DF6406-D06C-453C-8C53-597A7FA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6B5FDD-8FD7-49A5-BCBD-D38F0FF8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D58D8E-2721-4D5B-A993-3648A72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2D36-0F0B-49CD-B23E-013DBB4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5CEBD3-DF9F-4241-AB60-D1013D6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BEC1BD-0AC0-47F5-8E7C-E3C558B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732E5A-ADCA-4374-B4D9-6835914B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3B1186-E2E8-4A6C-9243-C614BCE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F9D14A-994B-42AF-A00F-E3324993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554D26-33A0-41E0-9A1E-D8BE97B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BA3A62-8970-4A64-BCFD-C5D8C58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C816C3-6201-4536-BF87-44A0FB2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E9320E-E981-4822-A5A4-9BB8267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A2C119-10CD-439F-AE56-96E0CC93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D138-CC07-4C45-BE3C-E61CA5D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F73E4C-B69C-464F-8709-D63B3F1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11FF15-BD4B-4930-89E0-56B6BA5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F5C5E9-597E-422D-ABB4-83F7157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952680-4BF3-4267-A560-FEABD32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FA4CE2-6827-4C60-86D1-947F3E5D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CDBA65-4876-40E6-ABA4-920C4BD4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4F7A45-D93C-4396-B540-CE985DDF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EB2827-8B18-4270-BD18-9A5523E6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C53D45-BB1A-4F81-A7DA-30430CF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B56C11-27B9-4E39-AE8E-90A4CD7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647-D880-4531-A8B6-45BCCFE0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FC84-FBBC-4877-A8D9-AC6C760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CED04C-764B-4D29-97E9-2B717B49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586349-C0B7-48A0-8641-6F59AF3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B4C31F-A650-47A0-A39F-21155FB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7F52A5-1090-40B5-B958-CD2BD2D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9A2784-A266-4B64-BF43-6392501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680584-9DF2-4920-8996-496CB38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21BAE2-68DB-46AB-9F88-728D92BE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41EA1A-04DE-476E-B2A2-E29F12FB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3E4C09-6DA1-4FF5-A22A-FB94D169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C7DD67-9F3F-4395-A82D-604835C9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7359-4C5D-4CCA-AFE2-1F3075F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5C36C2-A440-41E0-A054-7A7480E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2BD89D-6FE0-4DD7-8CC8-247FBAB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9B84A6-36FC-4572-8ECA-F3C2BD29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5264DC-8FE7-4DA3-B11D-8F5DD6F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7EAAC9-33A6-4645-BD13-16A0D0C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280782-66A0-4066-BD7E-0D22FDD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55B9E1-2446-4D16-95CA-EC1052D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9B99AF-8A8F-47C4-A182-A5BF9F4B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82330A-733B-48B9-995B-9FC6648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8D5961-2F8D-468E-9781-AA5A2C79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FC968-CF8B-455B-9A81-36686D9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3ABF00-AD9A-4A66-A969-568FAE83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76B495-B9E7-45F5-93DA-3BADB21B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E76301-FB24-42C8-8BC4-73D1F11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F8B3CD-5818-47E2-A7C3-4F009F8E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4D9C10-944C-4707-97F6-DB7B524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B8F022-39EF-45DE-B7E5-DF2B78E8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30B5A3-377A-486A-AFF2-445B2E9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202700-2D5F-4D69-8DEA-EB7D19A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5699D8-F14C-4B85-A980-0B30494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225D43-3F2A-4B26-AD22-94B831F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835F-10CC-46E8-B3E9-67018FC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5EC51B-A372-4316-9B17-98D83E01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141BD8-119E-466C-9316-14422BB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FD07DB-8C2D-4ACB-AC74-E4BCCCF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117F-1CDF-48DD-A990-D2E0D0E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496B-AE83-43B7-A75E-E191D70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D47D-60EE-49B1-802A-D7A60230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E469-5787-4EC1-81C5-6D3FAC11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CDA6-7FDC-4B09-B5CB-0AA4DC71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1795-A958-4669-AF81-4879F9D8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330-3F96-4989-B065-D80E88D2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4771-A66C-4F92-B2D5-28E57ABE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4231-0745-4049-A5C0-EB69BD38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E6EA-5E52-4188-8A15-18EE496A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4810-52E8-4125-A854-10E71DA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7C26-3D04-4A3F-97DE-0D8911A6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2B89-FE5E-44F9-934A-902341E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3C12-243D-476F-8AE4-74247FD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7C9B-C664-4E5A-844F-B45C0EFB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58EA-4455-4DFF-93ED-55F5BB4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E2D8-82DF-4EF3-8DF2-AC2045B0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E44-367D-4F79-8224-777593D2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F71D-D326-442B-86A2-BE360A96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ED51-2EAF-48B0-BD7F-D1555E95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D7E5-3149-4568-BDBB-40CB75E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9951-071D-4967-8115-91A20C85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B324-A75F-41CC-9CCC-8E8B98ED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5F69-42D1-4816-826C-B96DC11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A803-7E84-445B-B41A-31E9A5E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02973-A066-4E60-BAC3-69A41D9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B78F-62A0-444E-AAE1-1FB1406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A10A-D0E4-49CB-80D8-9ECBDED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38A-BF6F-4F72-8323-7524297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A426-09B7-4FBF-A50B-2307E63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50AB-CF44-45AC-B5B2-73988794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978F8-12F1-4D45-B79B-8F5805F2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F39EB-5512-4D37-9D2A-973A7B3C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5A11-5869-437D-95B5-66DAB2B7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B57F-A7E4-4995-A5BD-7DBFDD2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C2C1-88BC-401F-98E0-D8FF12B1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7C39-E71B-4E7C-ABD2-235ED233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D4291-67D9-49CD-B1F1-55FE465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E54DF-B005-4AC3-9DAF-694D84B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EFB-654B-48D0-A272-FA0804F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F169-C1D4-469F-8925-385535C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CB62E-FC6C-4F2E-AE43-455CCB7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61DC-BE46-4E40-AC04-95E7990B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4A20-EDF1-4CC6-8851-9A312E4D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E49D-E973-4452-8009-C95ECD74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0EA9-7408-40F6-BAC9-A8374489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97C3-F5B0-4425-9908-8C18362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7A13-6E37-4FCA-9D30-4095208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AC83E-6F5B-4435-A6FD-DFA40C1E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377A1-F21E-4EFC-836E-C27037F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647-7370-4262-9530-5732363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2CA7-225D-4B59-9694-3B76034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4B9F-C448-40DF-A0B8-9000424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57A6-AC75-4994-9ABF-606866D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8DE6-90A1-405B-B72E-91FBE61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00FA-142C-497A-8753-DA86B1C3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A61F3-90F7-4D14-9482-08FEB599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3A0A-404C-41CD-848C-4E399B9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8B73E-C0E2-41F5-8FCA-824BD6BC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E0E11-1F13-437C-A541-CB112A33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1A49-8493-47DB-8F02-CD82375F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EBCC-7E90-4AB7-BE3D-9CE3FE58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DE52-A8AE-47EB-8D17-11AEA0DAE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CB4-0C85-4C66-800F-5F0FF9C7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9BA-7A43-4D01-A71F-C0950BCC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1512-5348-4F3E-9E4F-A54E1FA7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267-519C-4FA6-B2BA-BA0DFE94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438-01BA-4457-B100-040F7EED7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91C-8999-49FB-A114-08F3905FF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441-0048-4345-9F89-65E7ADFEB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610D-A8CE-4377-B1C9-FA6CCB625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6EC7-AE2B-42EA-A919-C8B3F713A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E5AC-58D7-4E8F-B476-78BE2B805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D61-209D-4E79-BDAB-9A03361F3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44D-20D8-4C51-B463-71D1DD836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1CF-3DC0-480E-9D63-3ABD7AE24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DC34-8A47-43F3-9347-D56C8FC4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58D-0A4D-4628-84D2-3C9F4BAD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91F-3E0C-49C2-B9BD-50793A044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D392-CE50-4C8C-9988-C7168ECC5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4886-8AFC-4856-A9E7-FE949056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6DE-70EE-4CA2-8641-BDA1B336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1C1-002E-45DC-B513-4C0C552A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7200-A227-41F6-8A92-C287961F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700-7259-4167-B0DC-64BE1EB0A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81E2-3DE6-42AF-8D47-7C2C4E1D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02B-7BED-4615-81CB-EC007755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69EF-3C93-4E8D-AF2F-69315BC60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0F8-D1B2-46D2-AF1A-9FF3AC55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003E-2FFE-4CC0-A617-2E5E371A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EE05-D1F6-4A65-A4AF-4D24C5C8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E31-AF88-4B03-A3E4-B4F30CE6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F6B-61B9-458F-B7F2-C2338AFE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6B40-F397-42E4-AF22-62907C251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05A-C7B7-46FB-849E-18D19736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E31-A060-4C2F-ACEC-87D397036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07B-8E06-4AED-91A6-4E5BE319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Picture 6" descr="http://163.20.181.11/Picture/%2F%BE%5C%C5%AA%AC%A1%B0%CA%2F01020201%A8%AB%A7%DA%AD%CC%AC%DD%AE%D1%A5h--%B0%D1%C6%5B2013%B0%EA%BB%DA%AE%D1%AEi/images/fullsize/IMAG102020102.JPG"/>
          <p:cNvPicPr/>
          <p:nvPr/>
        </p:nvPicPr>
        <p:blipFill>
          <a:blip r:embed="rId1"/>
          <a:srcRect l="0" t="0" r="9547" b="15586"/>
          <a:stretch/>
        </p:blipFill>
        <p:spPr>
          <a:xfrm>
            <a:off x="9360" y="1751040"/>
            <a:ext cx="9144000" cy="5106960"/>
          </a:xfrm>
          <a:prstGeom prst="rect">
            <a:avLst/>
          </a:prstGeom>
          <a:ln w="0">
            <a:noFill/>
          </a:ln>
        </p:spPr>
      </p:pic>
      <p:sp>
        <p:nvSpPr>
          <p:cNvPr id="1477" name="文字方塊 2"/>
          <p:cNvSpPr/>
          <p:nvPr/>
        </p:nvSpPr>
        <p:spPr>
          <a:xfrm>
            <a:off x="1895040" y="457200"/>
            <a:ext cx="55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圖書館報告 </a:t>
            </a:r>
            <a:r>
              <a:rPr b="0" lang="en-US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2013/2/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文字方塊 3"/>
          <p:cNvSpPr/>
          <p:nvPr/>
        </p:nvSpPr>
        <p:spPr>
          <a:xfrm>
            <a:off x="4768200" y="1936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參觀台北國際書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1" descr="遺體：日本311海嘯倖存者化悲慟為力量，安置熟人遺體、重建家園紀實"/>
          <p:cNvPicPr/>
          <p:nvPr/>
        </p:nvPicPr>
        <p:blipFill>
          <a:blip r:embed="rId1"/>
          <a:stretch/>
        </p:blipFill>
        <p:spPr>
          <a:xfrm>
            <a:off x="2781360" y="137160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13" descr="http://addons.books.com.tw/G/001/bc/5/0010564485_bc_01.jpg"/>
          <p:cNvPicPr/>
          <p:nvPr/>
        </p:nvPicPr>
        <p:blipFill>
          <a:blip r:embed="rId2"/>
          <a:stretch/>
        </p:blipFill>
        <p:spPr>
          <a:xfrm>
            <a:off x="4633920" y="3870360"/>
            <a:ext cx="1768320" cy="25462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5" descr="http://pic.eslite.com/Upload/Product/201301/m/634934898856847500.jpg"/>
          <p:cNvPicPr/>
          <p:nvPr/>
        </p:nvPicPr>
        <p:blipFill>
          <a:blip r:embed="rId3"/>
          <a:stretch/>
        </p:blipFill>
        <p:spPr>
          <a:xfrm>
            <a:off x="4613400" y="1325520"/>
            <a:ext cx="1778040" cy="252432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7" descr="反對完美：科技與人性的正義之戰"/>
          <p:cNvPicPr/>
          <p:nvPr/>
        </p:nvPicPr>
        <p:blipFill>
          <a:blip r:embed="rId4"/>
          <a:stretch/>
        </p:blipFill>
        <p:spPr>
          <a:xfrm>
            <a:off x="1009800" y="134784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9" descr="美援年代的鳥事並不如煙"/>
          <p:cNvPicPr/>
          <p:nvPr/>
        </p:nvPicPr>
        <p:blipFill>
          <a:blip r:embed="rId5"/>
          <a:stretch/>
        </p:blipFill>
        <p:spPr>
          <a:xfrm>
            <a:off x="6411960" y="1330200"/>
            <a:ext cx="1795320" cy="251316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1" descr="流麻溝十五號：綠島女生分隊及其他"/>
          <p:cNvPicPr/>
          <p:nvPr/>
        </p:nvPicPr>
        <p:blipFill>
          <a:blip r:embed="rId6"/>
          <a:stretch/>
        </p:blipFill>
        <p:spPr>
          <a:xfrm>
            <a:off x="1009800" y="389412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2" descr=""/>
          <p:cNvPicPr/>
          <p:nvPr/>
        </p:nvPicPr>
        <p:blipFill>
          <a:blip r:embed="rId7"/>
          <a:stretch/>
        </p:blipFill>
        <p:spPr>
          <a:xfrm>
            <a:off x="6405480" y="3825720"/>
            <a:ext cx="180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4" descr="OK正傳"/>
          <p:cNvPicPr/>
          <p:nvPr/>
        </p:nvPicPr>
        <p:blipFill>
          <a:blip r:embed="rId8"/>
          <a:stretch/>
        </p:blipFill>
        <p:spPr>
          <a:xfrm>
            <a:off x="2811600" y="3894120"/>
            <a:ext cx="1801800" cy="25225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"/>
          <p:cNvSpPr/>
          <p:nvPr/>
        </p:nvSpPr>
        <p:spPr>
          <a:xfrm>
            <a:off x="144792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標楷體"/>
                <a:ea typeface="標楷體"/>
              </a:rPr>
              <a:t>春季新書好書推薦 </a:t>
            </a:r>
            <a:r>
              <a:rPr b="0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2013/1/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教師資訊研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資訊融入教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期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013/2/20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時間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6:1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室內設計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MS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Visio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期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013/3/6(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時間：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7:1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文字方塊 3"/>
          <p:cNvSpPr/>
          <p:nvPr/>
        </p:nvSpPr>
        <p:spPr>
          <a:xfrm>
            <a:off x="1143000" y="762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原住民文化講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  <p:sp>
        <p:nvSpPr>
          <p:cNvPr id="1493" name="文字方塊 1"/>
          <p:cNvSpPr/>
          <p:nvPr/>
        </p:nvSpPr>
        <p:spPr>
          <a:xfrm>
            <a:off x="3636360" y="2122560"/>
            <a:ext cx="46173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日  期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013/2/21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四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40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主  題：尋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布拉瑞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高中部視聽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2" descr="http://twimg.edgesuite.net/images/ReNews/20121017/420_d617f8f47a57197257590e37f93f57ee.jpg"/>
          <p:cNvPicPr/>
          <p:nvPr/>
        </p:nvPicPr>
        <p:blipFill>
          <a:blip r:embed="rId2"/>
          <a:stretch/>
        </p:blipFill>
        <p:spPr>
          <a:xfrm>
            <a:off x="673200" y="2077920"/>
            <a:ext cx="2728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主題書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鳥類觀察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2/25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4/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金山賞鳥地圖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日光電影院：返家八千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3.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親子賞鳥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現代詩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(4/22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6/28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文字方塊 3"/>
          <p:cNvSpPr/>
          <p:nvPr/>
        </p:nvSpPr>
        <p:spPr>
          <a:xfrm>
            <a:off x="1143000" y="762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教師人文讀書會 </a:t>
            </a: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101-2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0" descr="學習的革命：從教室出發的改革"/>
          <p:cNvPicPr/>
          <p:nvPr/>
        </p:nvPicPr>
        <p:blipFill>
          <a:blip r:embed="rId2"/>
          <a:stretch/>
        </p:blipFill>
        <p:spPr>
          <a:xfrm>
            <a:off x="717480" y="2146320"/>
            <a:ext cx="2635200" cy="3689280"/>
          </a:xfrm>
          <a:prstGeom prst="rect">
            <a:avLst/>
          </a:prstGeom>
          <a:ln w="0">
            <a:noFill/>
          </a:ln>
        </p:spPr>
      </p:pic>
      <p:sp>
        <p:nvSpPr>
          <p:cNvPr id="1501" name="文字方塊 1"/>
          <p:cNvSpPr/>
          <p:nvPr/>
        </p:nvSpPr>
        <p:spPr>
          <a:xfrm>
            <a:off x="3896280" y="2503440"/>
            <a:ext cx="437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日  期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013/3/5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7:1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林美真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原住民資源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Arial"/>
                <a:ea typeface="標楷體"/>
              </a:rPr>
              <a:t>閱讀教學觀摩與工作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教學觀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分享人：玥林老師與餐服學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/13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50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‧</a:t>
            </a:r>
            <a:r>
              <a:rPr b="0" lang="zh-TW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教學工作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時  間：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3/19(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)17:15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18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地  點：原住民資源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4" descr="reading-promotion"/>
          <p:cNvPicPr/>
          <p:nvPr/>
        </p:nvPicPr>
        <p:blipFill>
          <a:blip r:embed="rId1"/>
          <a:stretch/>
        </p:blipFill>
        <p:spPr>
          <a:xfrm>
            <a:off x="7391520" y="5334120"/>
            <a:ext cx="117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文字方塊 2"/>
          <p:cNvSpPr/>
          <p:nvPr/>
        </p:nvSpPr>
        <p:spPr>
          <a:xfrm>
            <a:off x="2286000" y="1523880"/>
            <a:ext cx="4419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好好休息 再出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4" descr="D:\圖檔\蘭嶼營飛躍20080702.JPG"/>
          <p:cNvPicPr/>
          <p:nvPr/>
        </p:nvPicPr>
        <p:blipFill>
          <a:blip r:embed="rId1"/>
          <a:stretch/>
        </p:blipFill>
        <p:spPr>
          <a:xfrm>
            <a:off x="4680" y="4680"/>
            <a:ext cx="9132840" cy="6848640"/>
          </a:xfrm>
          <a:prstGeom prst="rect">
            <a:avLst/>
          </a:prstGeom>
          <a:ln w="0">
            <a:noFill/>
          </a:ln>
        </p:spPr>
      </p:pic>
      <p:sp>
        <p:nvSpPr>
          <p:cNvPr id="1507" name="文字方塊 1"/>
          <p:cNvSpPr/>
          <p:nvPr/>
        </p:nvSpPr>
        <p:spPr>
          <a:xfrm>
            <a:off x="3544200" y="1143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開學快樂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圖書館主任</cp:lastModifiedBy>
  <cp:lastPrinted>2013-01-16T08:26:41Z</cp:lastPrinted>
  <dcterms:modified xsi:type="dcterms:W3CDTF">2013-02-04T10:17:56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