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672-BD13-45F3-AE29-7FD8AF70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EE8-A730-4266-B96B-9146AB5A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532-308D-4F21-BA8B-8849AC37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A82-9327-4DD8-B508-A279879F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5C6F-9332-4423-8537-DA439F05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18DA-FEB2-444B-873A-69EA2F55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12A1-C99F-448B-ABEB-E3BA8B62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2ECE-658A-4EEF-A46B-521EBFB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1593-C6CD-46DD-B81A-36C815CB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A46B-DD6C-45E3-A820-00EED353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4FAE-D8ED-43CF-B584-D7B699DE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A92-9975-42A5-BE0A-B5071619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584D-2B34-406C-A6A2-0B5593A3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22DB-37D5-43DB-B959-8C3C7C86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30FE-243D-480C-B463-58426644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2DA4-AA47-4D80-9D03-C10411F2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0B5E-9CF5-4949-B6AE-CB735EB0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3A8-3DC7-4082-8CC7-BAE342B7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DF3-70B9-4D4A-B7B4-AA5335EF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2E0-ACF2-4F67-8674-BB08ECB8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5CC-4336-4A8E-AF2F-FC0AB5FD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B2B-4EFA-47B0-886F-052BE45D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7C7-3433-4B75-84D6-045EACBF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350-C713-47FD-B4F7-950A08FF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FF8E-12D0-4606-AC78-0B2E7C86A4D8}" type="slidenum"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620F-493E-4A82-971B-E9B26927C5BF}" type="slidenum">
              <a:rPr b="0" lang="zh-TW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163.20.181.45/&#37329;&#23665;&#39640;&#20013;&#27966;&#39376;&#40670;&#21508;&#26657;&#36039;&#26009;/&#37329;&#23665;&#39640;&#20013;/&#26657;&#21209;&#26371;&#35696;/101&#23416;&#24180;&#26657;&#21209;&#26371;&#35696;/&#26657;&#21209;&#26371;&#35696;&#22577;&#21578;&#38468;&#20214;/&#23376;&#22899;&#25945;&#32946;&#35036;&#21161;&#34920;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Arial"/>
                <a:ea typeface="文鼎粗行楷"/>
              </a:rPr>
              <a:t>人事室報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101</a:t>
            </a:r>
            <a:r>
              <a:rPr b="0" lang="zh-TW" sz="48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學年度第</a:t>
            </a:r>
            <a:r>
              <a:rPr b="0" lang="zh-TW" sz="48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2</a:t>
            </a:r>
            <a:r>
              <a:rPr b="0" lang="zh-TW" sz="48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學期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期初校務會議報告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101</a:t>
            </a:r>
            <a:r>
              <a:rPr b="0" lang="zh-TW" sz="4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學年度第</a:t>
            </a:r>
            <a:r>
              <a:rPr b="0" lang="zh-TW" sz="4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2</a:t>
            </a:r>
            <a:r>
              <a:rPr b="0" lang="zh-TW" sz="4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學期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子女教育補助費開始申請了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101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學年度第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2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學期子女教育補助費即日起開始申請了，請依「</a:t>
            </a:r>
            <a:r>
              <a:rPr b="0" lang="zh-TW" sz="3600" spc="-1" strike="noStrike" u="sng">
                <a:solidFill>
                  <a:srgbClr val="999933"/>
                </a:solidFill>
                <a:uFillTx/>
                <a:latin typeface="文鼎粗行楷"/>
                <a:ea typeface="文鼎粗行楷"/>
                <a:hlinkClick r:id="rId1"/>
              </a:rPr>
              <a:t>子女教育補助表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」相關規定，符合請領之同仁，於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102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年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3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月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1</a:t>
            </a:r>
            <a:r>
              <a:rPr b="0" lang="zh-TW" sz="3600" spc="-1" strike="noStrike">
                <a:solidFill>
                  <a:srgbClr val="292929"/>
                </a:solidFill>
                <a:latin typeface="文鼎粗行楷"/>
                <a:ea typeface="文鼎粗行楷"/>
              </a:rPr>
              <a:t>日前儘速檢證提出申請，申請表格可於學校網站—各單位網頁—人事室—相關資料下載或至人事室索取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2:18:41Z</dcterms:created>
  <dc:creator>TPC</dc:creator>
  <dc:description/>
  <dc:language>en-US</dc:language>
  <cp:lastModifiedBy>TPC</cp:lastModifiedBy>
  <dcterms:modified xsi:type="dcterms:W3CDTF">2013-02-05T02:30:46Z</dcterms:modified>
  <cp:revision>2</cp:revision>
  <dc:subject/>
  <dc:title>人事室報告</dc:title>
</cp:coreProperties>
</file>