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25C-9F24-4BA0-B43F-4462D8D6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5A7-BAF5-4EB3-9CAE-D14B13C6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20C-5F82-4A0B-B4D8-C2B69B83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7237-2765-4403-A073-3D8F328A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3565-B7F9-4B86-9AAA-12CF1E05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575E-10C9-41AD-83EE-9777CF9A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E71A-C764-420B-B2B2-3B6E4D41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A2E5-D459-412B-8DB7-BEA6AF35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6126-EE54-4BEF-AD2A-9FB104C1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97C1-E12D-48B1-840D-42576E52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F9E4-62D6-4ED8-BE52-515945D1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850-845E-4681-AC7A-BABABE7C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AA3D-8E06-4426-A483-C7409092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3F14-C7CB-4B3C-B004-D82883F0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A594-E58B-40B3-9ED4-4C8920C1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F739-5A5D-48B3-B311-AF8B63A7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3C63-B4A8-47DE-89CF-6BC52404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CDEAE-4985-4C34-BCA0-01391DDC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E2662-6426-4D61-ADA8-CA14805C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E1AB-B299-42AA-B3D7-9416EEA5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B083D-30B9-4A83-AA08-899729B9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26A86-7E60-4132-9074-80D3A9DE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1C5-DE3A-4C52-BD27-1364D322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6F19B-161A-435F-B217-72066269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61A3-5786-46C1-9B78-4233CCB3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52FC8-388A-458D-B920-EEB24994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54ED6-3FDD-4CA8-AA5E-8AE51475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A0639-F8A8-4AD5-A11B-39B4A803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34537-836D-4D01-A6E6-82686BFE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8BFA-BC13-41C4-850E-8A2470C6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A5801-2D73-4517-A551-D706AC97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D6181-0F96-465A-8619-869AB94E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64367-C63E-4323-A5CE-6AAB6E1F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D87-124D-4D7B-9491-0F2057C7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959E1-5F36-467B-9D18-30945708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7C6DB-A93B-45CB-A555-719C24A9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E3ADA-1E96-4C79-80B9-ED03CF8D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718C5-ED41-4B84-89E6-71A61A38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81ED3-B70C-4D33-B6C4-F9806375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3A59B-C75A-474E-9FC6-386C8071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48BB9-2407-4F7B-AD8D-1CA7CF66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7CD14-D805-453B-A75E-3CF53C35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1425-F387-42C6-95C9-1F93FCEB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71BA4-03D7-4335-A1ED-7054D2FF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D2A-EFF3-47E3-8C8E-47F9C272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3CFF2-A02A-47E1-A1ED-75FDE58E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B8FFD-A984-4E05-BD72-D2C24A4D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577BA-6B35-4B01-A4BA-2D476CEC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D0C5E-1710-4FC0-8736-F203EB5C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E0284-EC5F-413E-BF42-AF03A975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CA586-8187-49DA-BAEF-4F3DB144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8C56E-47A1-4626-AB25-868BEDB9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43273-0685-4332-9321-4FD3AD96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ECEC2-1E01-4CC3-BB0D-908DCD19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09038-EF1E-4410-B18B-58632077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E94-EE3A-41B7-8C99-EB756A63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D646B-A2A7-4CCA-91E3-0A15E122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25E-8905-4E80-A37D-BE9665FA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56C-C0DC-4B9D-A365-977F4994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54D-22E6-4DAA-8BE5-E357DA3F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20D9-D859-47C1-B78B-62335A467792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8B5D-3607-4293-A7E2-AE1963AE02CD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3B45-E983-4DDF-B6ED-01E2857EB7E6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2905-C1A1-4987-9933-4D22D9DB41CD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90BA-80E6-4A79-82AD-0CEEE1380156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Franklin Gothic Book"/>
              </a:rPr>
              <a:t>福慧基金會報告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文字方塊 2"/>
          <p:cNvSpPr/>
          <p:nvPr/>
        </p:nvSpPr>
        <p:spPr>
          <a:xfrm>
            <a:off x="4859280" y="328464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102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學年度下學期會務報告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~</a:t>
            </a:r>
            <a:r>
              <a:rPr b="0" lang="zh-TW" sz="4400" spc="-1" strike="noStrike">
                <a:solidFill>
                  <a:srgbClr val="696464"/>
                </a:solidFill>
                <a:latin typeface="Franklin Gothic Book"/>
              </a:rPr>
              <a:t>感謝本學年福慧委員</a:t>
            </a: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~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03280" y="1628280"/>
            <a:ext cx="6337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會長：黃惠明 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總務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何新梅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輔導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游美月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、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張沛檥 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文書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林恩宇 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活動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陳怡蒨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機動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簡秀萍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2" name="Picture 11" descr="http://www.my-hiend.com/vbb/images/smilies/5.png"/>
          <p:cNvPicPr/>
          <p:nvPr/>
        </p:nvPicPr>
        <p:blipFill>
          <a:blip r:embed="rId1"/>
          <a:stretch/>
        </p:blipFill>
        <p:spPr>
          <a:xfrm>
            <a:off x="6659640" y="4508640"/>
            <a:ext cx="18860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96464"/>
                </a:solidFill>
                <a:latin typeface="Franklin Gothic Book"/>
              </a:rPr>
              <a:t>本學年捐款收支：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71480" y="1484280"/>
            <a:ext cx="77724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本學期收入共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121,490</a:t>
            </a: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本學期支出共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74,403</a:t>
            </a: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借款：</a:t>
            </a:r>
            <a:r>
              <a:rPr b="0" lang="zh-TW" sz="3200" spc="-1" strike="noStrike">
                <a:solidFill>
                  <a:srgbClr val="000000"/>
                </a:solidFill>
                <a:latin typeface="Perpetua"/>
              </a:rPr>
              <a:t>健康中心「急難救助金」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15,000</a:t>
            </a:r>
            <a:r>
              <a:rPr b="0" lang="zh-TW" sz="3200" spc="-1" strike="noStrike">
                <a:solidFill>
                  <a:srgbClr val="000000"/>
                </a:solidFill>
                <a:latin typeface="Perpetua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本學期餘額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47,087</a:t>
            </a: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目前總餘額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707,087</a:t>
            </a: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2" descr="http://www.my-hiend.com/vbb/images/smilies/159.png"/>
          <p:cNvPicPr/>
          <p:nvPr/>
        </p:nvPicPr>
        <p:blipFill>
          <a:blip r:embed="rId1"/>
          <a:stretch/>
        </p:blipFill>
        <p:spPr>
          <a:xfrm>
            <a:off x="5889600" y="260280"/>
            <a:ext cx="2790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696464"/>
                </a:solidFill>
                <a:latin typeface="Franklin Gothic Book"/>
              </a:rPr>
              <a:t>感恩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所有捐款老師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教師會上學期義賣所得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3,780</a:t>
            </a: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校外人士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游淡女士捐款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30,000</a:t>
            </a: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元，達利行潘太太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3,000</a:t>
            </a: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元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9" descr="http://www.my-hiend.com/vbb/images/smilies/144.png"/>
          <p:cNvPicPr/>
          <p:nvPr/>
        </p:nvPicPr>
        <p:blipFill>
          <a:blip r:embed="rId1"/>
          <a:stretch/>
        </p:blipFill>
        <p:spPr>
          <a:xfrm>
            <a:off x="5651640" y="4149720"/>
            <a:ext cx="245736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傳承：請記得在選票上按</a:t>
            </a:r>
            <a:r>
              <a:rPr b="1" lang="zh-TW" sz="4800" spc="-1" strike="noStrike">
                <a:solidFill>
                  <a:srgbClr val="696464"/>
                </a:solidFill>
                <a:latin typeface="Franklin Gothic Book"/>
              </a:rPr>
              <a:t>讚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~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55280" y="1773360"/>
            <a:ext cx="793116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下屆委員推薦名單：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林恩宇、周桂英、曾國誌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王莉婷、張耕翰、李志偉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其他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2" descr="H:\其他\圖資源\表情\各種表情1030619.jpg"/>
          <p:cNvPicPr/>
          <p:nvPr/>
        </p:nvPicPr>
        <p:blipFill>
          <a:blip r:embed="rId1"/>
          <a:srcRect l="33765" t="33740" r="33844" b="34503"/>
          <a:stretch/>
        </p:blipFill>
        <p:spPr>
          <a:xfrm>
            <a:off x="6012000" y="4076640"/>
            <a:ext cx="2369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4T06:05:30Z</dcterms:created>
  <dc:creator>讀者服務組</dc:creator>
  <dc:description/>
  <dc:language>en-US</dc:language>
  <cp:lastModifiedBy>TPC</cp:lastModifiedBy>
  <dcterms:modified xsi:type="dcterms:W3CDTF">2014-06-30T04:17:55Z</dcterms:modified>
  <cp:revision>32</cp:revision>
  <dc:subject/>
  <dc:title>福慧基金會報告</dc:title>
</cp:coreProperties>
</file>