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2C7-2C07-4FAE-8477-02B458E88B9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504D-901B-4409-A3AB-A6A9DA2C684F}" type="slidenum">
              <a:rPr b="0" lang="zh-TW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9AB-F8FC-47A2-87D4-BBFBA905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C54-BF24-4C00-BE05-B15829C8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BC5-E236-4AF6-8F5E-C947F26A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5B7-4F1E-436D-B51C-A2484007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E789-CBE3-41FB-A5FB-94759D4E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5BE6-A84F-495F-B63A-1EF33A6F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B228-4396-4D0B-B148-45387B4E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8980-F866-4FA1-91BA-2DB878A8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13FC-C448-4159-B436-6300F53C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A961-23ED-47E5-90F5-6C9215C7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A237-BF54-4C1A-BB2F-121F5A55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5E8-9785-406C-A236-1753979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3AE6-552A-42FB-8B23-AFA26170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CFBF-E15E-4E51-8107-B0AFE6C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3358-7144-4468-90CA-9370E5E8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3C64-5F9F-4CA3-A1B0-CB4A4ABF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5E8A-4E4A-497E-BC46-DF69105B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E8DC-119A-4D1A-A0EA-3D96F37B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048D-1574-4AF1-B889-0407A832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5D3B-788F-4614-9367-D39B1D5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EFE0-BD7B-46D9-867D-C291DD0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2779-ECC0-4E63-B91C-0954EC37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3E7-181E-4F1B-8773-89A28475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AF85-7EDA-4DFE-8597-2047468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CD55-7290-4659-B950-F2D7F26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609C-736A-4CD3-AB52-FDD3424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CDA7-9427-4A87-AF94-8A7E5266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EF98-9CED-49AD-8513-CC889E6D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BFD8-A4E2-475C-A178-9CC9AB8F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486F-7730-42A8-A8E2-E64C6180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86D5-1170-408F-80F3-0B7098D6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5720-7902-4709-9A2D-47D3A5F0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D5E9-AB9C-4911-8995-B284BA8D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18F-2E2E-4735-8CDB-785CE1C7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3A3B-8191-4A35-B14B-D9243C53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0EE9-B784-4744-B254-3370AF0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1D29-BD1C-4A4B-B3DF-496976B3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23E3-4A75-4964-AD75-90BB655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CF29-99D6-436B-BEB9-131106B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C124-6469-4787-986C-EC9074DA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5BF4-F3C2-4AF0-94DF-A2A4CE6D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442F-5079-4817-826F-C9728CE3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7777-C0A3-491B-B5A5-F97708E8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5A25-60E7-4BA6-844C-095D3C98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963-DEE6-4817-AC1B-2B9CA12E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455AF-963A-47C7-B385-0C3A9074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0EB56-30B3-4D5C-9409-0F866D02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02C4-2B9E-4DD4-B3F4-0AC46B17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949C5-6293-4D1A-A116-7AEF1A0A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A9AD-06B2-4541-AB0D-166B7468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5CE1C-3F9A-4173-85A5-378E111B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B6400-2D12-4A78-B558-A697D6B9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2FE3-170E-4463-B19E-FB415FE4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2D78-D13A-4744-AB1B-9C1532B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95C4-1D22-4FE9-85F6-20973DAD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CB5-C8CC-445F-84CD-8D81AE52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9DA7-1A6C-4EA9-8AC1-7C579D42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D178-669E-4268-997C-B7292E30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B2D9D-01EE-42DE-AA0D-6892C1CE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98E7-E8AD-4B7A-ACFE-DFD07B1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2977D-E016-4463-944B-F1124F13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EA8D5-7055-4FCD-80FE-76C816C3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00282-616F-49A9-A9A6-442CFCB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C1D74-65D5-40A2-9AE4-99781BF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A0AA-EBE5-4951-B920-CDE9E8B9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75EE-00CD-49AD-9DAD-04B50108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DA2-35C8-49F0-94DA-8BFC14C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8FE86-4140-4F68-9DBA-18A79AD5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E6E64-367F-4BA0-B816-76DF88D3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394E3-5318-4E93-8A7B-51D8C755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B91E8-AEE5-4919-8F4F-F3992346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B1C2E-6B75-467A-8D7B-DEDE384B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5A2C-087E-4129-86CE-3D9F0444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6EDD-E55A-43CF-BC6F-436B044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4EB29-8D62-4176-8E90-20DF1917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63BB0-522A-49B6-B31B-0412A574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B1B7-325A-4214-B8C0-54934F8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24C-3F00-4E2B-AD6B-F5730FC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51AAD-2102-4D4F-80C7-4C1CDCC0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D07BF-4689-40EF-BF5A-84000E0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00FFE-5469-4426-8D12-910D3D2B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629E-97F4-45B0-BDEB-C2BDC727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C3122-0D4B-4DAE-867F-062DEE5B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3E0-6970-40FD-9E3A-8BFA08E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1215-A6F1-4ECB-BD7D-FC96AF2141B6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23C9-8288-4266-8277-731F2601D60E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49D-631A-4A9B-985D-7E5CA2AA1C75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A7BB-CF8D-4CE6-93AB-6B9F0B64F982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F3A7-83E2-4547-B359-44015E2F9342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F05A-5413-4D6A-A80F-615A93178729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D0EC-89B4-4FDF-81CC-D74C6ADCC24A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7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新北市立金山高中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0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校務會議學務處提案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─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學生獎懲實施要點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94920" y="2565000"/>
            <a:ext cx="828036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一、新北市立金山高中（以下簡稱本校）學生之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懲事宜，以鼓勵學生優良表現、引導學生身心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健全發展、提升教育品質及促進校園友善文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並依國民教育法第二十條之一第一項之規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特訂定本要點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十一、受獎懲學生或其法定代理人或家長對於所受獎懲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認為有違法或不當致其權益受損害者，得依新北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市高級中等以下學校學生申訴評議委員會設置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評議要點之規定，應於獎懲措施之次日起二十日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內，以書面或言詞向學校申評會提出申訴。         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6919560" y="18828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附表五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24000" y="189000"/>
          <a:ext cx="8569080" cy="6226200"/>
        </p:xfrm>
        <a:graphic>
          <a:graphicData uri="http://schemas.openxmlformats.org/drawingml/2006/table">
            <a:tbl>
              <a:tblPr/>
              <a:tblGrid>
                <a:gridCol w="796680"/>
                <a:gridCol w="1398600"/>
                <a:gridCol w="1650960"/>
                <a:gridCol w="1024200"/>
                <a:gridCol w="1898640"/>
                <a:gridCol w="1800000"/>
              </a:tblGrid>
              <a:tr h="374400">
                <a:tc gridSpan="6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新北市立金山高中學生重大獎懲委員會人員名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職 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編組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備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主任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校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林美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務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鄭敬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執行秘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務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周桂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輔導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李金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輔組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羅志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游靜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輔導組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龔振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家長代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謝賜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會會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魯學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社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吳筱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中二年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導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中二年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導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代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簡報完畢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敬請指教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5920"/>
            <a:ext cx="84963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二、學生之獎勵與懲罰，應依下列原則為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一）平等原則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非有正當理由，不得為差別待遇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二）比例原則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採取之措施應有助於目的之達成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有多種同樣能達成目的之措施時，應選擇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權益損害較少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採取之措施所造成之損害不得與欲達成目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利益顯失均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三）個別差異原則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學生之獎懲應審酌下列因素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之動機與目的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之手段與行為時所受之外在情境影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9280" y="260280"/>
            <a:ext cx="8785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違反義務之程度與所生之危險或損害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學生之人格特質、身心健康狀況、生活狀況與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家庭狀況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學生之品行、智識程度與平時表現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後之態度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其他足以影響行為發生之因素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三、學校為鼓勵學生優良表現，得採取下列獎勵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口頭嘉勉或公開表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嘉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小功。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大功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除前項各款之獎勵外，得另給予其他適當獎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四、對於學生情節輕微之不當行為，學校應予糾正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並採取適當之輔導與管教措施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採取前項措施無效果時，得視學生違規情節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輕重，採取下列懲罰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警告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小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大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依輔導管教目的所為之其他適當懲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包含以下方式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家長或監護人帶回管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輔導安置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交付司法機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為前項各款之懲罰措施，應列舉事實敘明理由，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並通知法定代理人或家長，小過以上懲罰措施之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知，並應以書面為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五、本校設立學生獎懲委員會（以下簡稱獎懲會），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任務如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訂定或修正學生獎懲實施規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審議學生大功、大過及特殊獎懲案件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研擬或審議其他有關學生獎懲事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獎懲會置委員七人至十五人，單一性別不得少於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分 之一。但學校任一性別教師人數少於委員總數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分之一者，不在此限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委員均為無給職，由校長就下列人員聘任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行政代表不得超過全體委員二分之一，其中學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務主任為當然委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教師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家長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學生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前項委員，任期為一年，並不得兼任學生申訴評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委員會委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代表應優先自學生自治組織成員中遴選，並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先取得法定代理人或家長之同意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委員因故出缺時，校長依本點第二項規定補聘派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兼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，其任期至原任期屆滿之日止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應訂定學生獎懲規定，經學校校務會議通過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實施，並報新北市政府教育局備查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79280" y="0"/>
            <a:ext cx="878544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六、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獎懲會會議由學務（校務）主任召集，生輔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教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長為執行秘書。應有全體委員三分之二以上出席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出席委員二分之一以上同意，始得決議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開會時，委員應親自出席，不得委託他人代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理出席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委員處理獎懲案件，關於委員之迴避，依行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政程序法第三十二條及第三十三條規定辦理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七、獎懲會審議學生獎懲案件，應秉公正、公平及不公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開原則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重大懲處案件應於開會前三日通知議處單位、學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及其法定代理人或家長到場陳述意見並得以書面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會議之決議，以無記名投票表決方式為之；其決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經過及個別委員意見應予保密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八、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嘉獎、警告、小功、小過之獎懲措施應簽會導師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輔導處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室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後，由學務處核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大功、大過及依輔導管教目的所為之其他適當之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懲措施，應由學務處簽會導師及輔導處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室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提供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見，經獎懲會討論議決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前項獎懲決議應作成決定書，記載事實、理由、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懲依據及結果，報請校長核定，後執行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但大過以上者，應以書面通知受懲罰學生及其法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理人或家長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第三項之獎懲決議應經校長核定後執行，校長對獎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懲決議有不同意見時，應敘明理由退回獎懲會覆議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如經獎懲會全體委員三分之二以上出席，出席委員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二分之一以上決議維持原獎懲措施時，校長得敘明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理由後逕為核定並交付執行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九、本要點之獎懲事項，學校教職員工均有提供相關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料之責任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十、為鼓勵學生改過遷善，學校應訂定改過及銷過相關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規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已改過及銷過者，應於學生之懲罰紀錄加註銷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過字樣，其紀錄不登載於學生成績通知單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8:24Z</dcterms:created>
  <dc:creator>ai1467</dc:creator>
  <dc:description/>
  <dc:language>en-US</dc:language>
  <cp:lastModifiedBy>User</cp:lastModifiedBy>
  <dcterms:modified xsi:type="dcterms:W3CDTF">2014-06-27T04:29:49Z</dcterms:modified>
  <cp:revision>28</cp:revision>
  <dc:subject/>
  <dc:title>新北市立金山高中101年校務會議學務處提案1─教師輔導與管教學生辦法</dc:title>
</cp:coreProperties>
</file>