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169-4F61-4832-A001-6D2505D4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BD1-9ED5-4AEF-91C5-E3CECCC8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5E1-C937-4247-8ED6-4AC95999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6B5F-BFAD-4AB7-9F00-223A7B55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AF98-913B-4A66-B723-EB7C3625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FF13-3F91-41FA-81CF-9832A0B0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6FA8-78A7-4B47-AB66-F80A1B01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EF2B-7F45-48DB-BA40-7312D334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97EC-5118-4A06-A0D5-6648E801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7026-86C0-4FBF-9F6F-633B4A73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8D3B-8316-466A-84D6-DDAAC21C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72AF-7633-4B6C-9CC9-17E198B1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6BBE-2FED-4561-9586-181C578A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3D41-BF80-4507-A065-5E32F503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08BE-F54B-44C0-BF0F-E674CA04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13FE-664D-423B-920B-A8C82602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3C0C-D692-4790-9E40-6F41418F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408C4-6CEE-4CA2-9F59-282AAC1A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B3D8E-3B69-41A0-BF19-311D74CC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D5DAB-B722-4367-9E98-EDF80721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51C6F-2C22-4E01-96A6-BE1BB32B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0248C-9291-4863-AC06-D55734CB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348-2656-428B-8530-0FDD6CF9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723F2-9250-4DEE-B212-CF48EF79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318F5-E866-44FB-A423-0EBF9B22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6D7F2-2272-4CC0-BB97-0793F783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EE15E-6D4D-4EFA-9FB6-14B21AB0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155E6-3DB6-4D52-B725-D9F44494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547EA-D830-48BE-B012-CDB07B2B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BE9E2-6D8D-4E71-8413-6BE2902F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35DDA-17B9-4401-A3D4-4AF32143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C6CE2-33E6-46DE-84D6-736F5899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D4D2F-0F23-4724-9362-4BE471E3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7E5F-2917-422C-BF32-6F1F0560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43C00-CC5A-4044-A6B0-44238F1C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46C2D-54CE-4D88-9440-509FE781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DA79D-1BE8-4442-BDF4-4F3CD824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04FF7-3571-48DF-8D46-9BFD553C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802F8-CCE1-490A-AFA4-21F48022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40022-6F12-443F-AB0E-84CF95B9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B23DC-BFF3-4006-A271-21EF342B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0D997-9D57-471C-9E25-C2E7171C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0EF95-8EBD-4B02-B5AA-58498033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ECBA1-E870-4BAE-BFC4-430FF7ED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5774-BDB7-4A3E-B8FC-6CD3DE7D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242B4-C763-4E62-A967-090F7404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DF368-BE48-40C0-873E-F0C07657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6DC36-7226-4E3F-88A7-6739BD10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21C2F-5451-4C56-B9ED-8BC7F53F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356A6-DBF4-4F48-947B-B5FA1C8D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AE48F-B5B9-4FDF-A0D2-45D2C2CC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614B8-2549-491F-A19E-C1CB91C7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ECB31-AE80-458A-A0AF-A34DF7E3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E69BA-E526-4F83-8A0F-A954B6F5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B08A3-2B5D-45AD-86B9-15CA4A89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9FE7-1D06-4F4A-9006-7DE655BB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842DD-EFEA-4665-B81B-FB3125AB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30FF7-F44C-4816-AE02-1AC3062A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441E1-70A5-4367-A0EA-4C294D55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AF96C-DD4D-453B-B1B5-91E2F0B2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8F885-16A1-46D0-91CC-C52751D5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F6328-6446-42C7-A479-509CAC3A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D9F1D-48DC-4708-A4D9-03710144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1054F-5A18-4CE7-8574-D6608EC8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C6923-F1C0-4768-9171-8B259D29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5BAFA-1FF2-4927-A09A-5237CEB7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EF6-1B79-4C06-91BC-E9F019C9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CD027-9115-4936-8E20-0EDF3B56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23142-890E-4621-B31B-8EB481D4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FEDDB-AA6A-415B-ACB2-910E5EDB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B40D8-8326-48AA-8F2C-B338AE8E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A3695-EBAE-4F4D-981A-2589905C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53F1F-DE4D-432E-9FBD-FD6A6FA7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D6E47-630E-446F-8242-C794773F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D935B-DF09-4AA6-A9F4-2528B7DB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CF1F7-1F6D-4DFA-BD91-C0BA3414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4DC36-34B3-4141-B6D1-442D0039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460B-1B91-4948-83C3-6AB56209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9F767-7276-4A8F-B5C2-C8FD9B03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2A3D0-2AB6-4E90-9224-486E97F4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3F895-01C2-4CCB-884B-1BBF4EB0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84278-0471-44F7-BF71-0910AC01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F8585-E427-4925-A7AB-6F81D973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F34E-77E3-4A9A-A95B-AFE01680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2121-54C8-4A23-9305-FEB8EB372B3D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5EB8-9317-40A0-B54F-D9ECA410A28C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1C13-A341-434F-B8CF-05DA2DAB71E8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8296-0823-416C-9047-22ACFB73CA96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3591-1BA4-4723-BA40-0DBB5A8A655A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2D80-0773-4F4D-92EF-3CE1887D9B07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D987-8379-48E4-8F2C-FEA0126319A8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7120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ndara"/>
              </a:rPr>
              <a:t>新北市立金山高中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103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</a:rPr>
              <a:t>年</a:t>
            </a:r>
            <a:r>
              <a:rPr b="0" lang="zh-TW" sz="4000" spc="-1" strike="noStrike">
                <a:solidFill>
                  <a:srgbClr val="000000"/>
                </a:solidFill>
                <a:latin typeface="Candara"/>
              </a:rPr>
              <a:t>校務會議學務處提案</a:t>
            </a: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1</a:t>
            </a:r>
            <a:r>
              <a:rPr b="0" lang="zh-TW" sz="4000" spc="-1" strike="noStrike">
                <a:solidFill>
                  <a:srgbClr val="000000"/>
                </a:solidFill>
                <a:latin typeface="Candara"/>
              </a:rPr>
              <a:t>─</a:t>
            </a:r>
            <a:r>
              <a:rPr b="1" lang="zh-TW" sz="4000" spc="-1" strike="noStrike">
                <a:solidFill>
                  <a:srgbClr val="000000"/>
                </a:solidFill>
                <a:latin typeface="Candara"/>
              </a:rPr>
              <a:t>學生獎懲實施規定</a:t>
            </a: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〈</a:t>
            </a:r>
            <a:r>
              <a:rPr b="1" lang="zh-TW" sz="4000" spc="-1" strike="noStrike">
                <a:solidFill>
                  <a:srgbClr val="000000"/>
                </a:solidFill>
                <a:latin typeface="Candara"/>
              </a:rPr>
              <a:t>草案</a:t>
            </a: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〉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95280" y="2565000"/>
            <a:ext cx="856944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一、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本規定依新北市國民中學及高級中等學校學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獎懲實施要點第五點第七項規定訂定之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二、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新北市立金山高級中等學校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以下簡稱本校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為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鼓勵學校學生優良表現，得採取下列獎勵措施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79280" y="260280"/>
            <a:ext cx="88567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4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發現同學衝突，未立即向師長報告，現場圍觀鼓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者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15.</a:t>
            </a:r>
            <a:r>
              <a:rPr b="0" lang="zh-TW" sz="2800" spc="-1" strike="noStrike">
                <a:solidFill>
                  <a:srgbClr val="073e87"/>
                </a:solidFill>
                <a:latin typeface="Candara"/>
              </a:rPr>
              <a:t>具有相當於以上各目不良行為之一，合於記小過者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三）大過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定期考試或重大試場考試舞弊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參加幫派等不良組織或出入賭場等違法或不當場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所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無照駕駛汽機車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入侵學校或公共網路進行資料竊取、竄改或刪改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破壞，情節重大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以肢體暴力傷害他人或以強暴、脅迫、恐嚇等手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段勒索他人財物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50920" y="333000"/>
            <a:ext cx="8642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對師長或他人有惡意侮辱、謾罵等言語上攻擊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情節重大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7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違反網路使用或智慧財產權相關法令規定，影響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校譽情節重大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8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對師長或他人為性騷擾行為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9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偷竊行為情節重大，且不知悔悟者。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0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酗酒、賭博、吸菸、吸食或注射麻醉品，屢誡不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改且影響校園安全或環境衛生者。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1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住宿生就寢後不假外出或未經許可異性寢室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23640" y="260280"/>
            <a:ext cx="85690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2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具有相當於以上各款之不良行為之一，合於記大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23560" indent="-2235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過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23560" indent="-2235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四）輔導管教目的所為之其他適當懲罰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23560" indent="-2235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23560" indent="-2235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簡  報  完  畢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  <a:p>
            <a:pPr marL="223560" indent="-2235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敬  請  指  教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     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0" y="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一）口頭嘉勉或公開表揚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二）嘉獎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服裝儀容經常整潔，合於規定，足為同學模範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禮儀周到足為同學模範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生活言行學業較前進步，有事實表現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拾獲有相當價值之財物不昧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與同學互助合作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能主動扶助尊長、老弱婦孺，有具體事蹟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愛護公物有具體事蹟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主動為公服務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9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領導同學為團體服務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0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擔任各級幹部滿一學期，且善盡職責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1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參加體育運動具有運動精神、運動道德，表現優良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50560" y="189000"/>
            <a:ext cx="87850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2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參與校內活動確有成績表現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3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代表學校參加校外活動表現優良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4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具有相當於以上各目之優良行為之一，合於記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獎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三）小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行為誠正，有具體事實表現，增進校譽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倡導正當課餘活動成績優良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見義勇為能維護團體或同學權益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敬老扶弱，有顯著之事實表現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參加各種服務表現優異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熱心公益活動，有具體表現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維護團體秩序表現優異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擔任各級幹部滿一學期，且負責盡職表現優異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0" y="18900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9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代表學校參加政府主管單位主辦市級性以上競賽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成績特優或第一名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0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具有相當於以上各目之優良行為之一，合於記小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功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四）大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愛護學校或同學，確有特殊事實表現，增進校譽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提供優良建議，並能率先力行，增進校譽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參加各項服務，表現卓越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代表學校參加政府主管單位主辦全國性以上競賽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成績特優或第一名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具有相當於以上各目之優良行為之一，合於記大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五）除前項各款之獎勵外，得另給予其他適當獎勵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597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三、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生行為不當且情節輕微者，應予糾正，並採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取適當之輔導與管教措施。學校採取適當之輔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導與管教措施而無效果時，得視學生違規情節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輕重，採取下列懲罰措施：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一）警告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無正當理由，曠課累計達四節課者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  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2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無正當理由，遲到未實施站立反省累計達三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次者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未依規定時間繳交作業，經催繳仍未改善者。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250920" y="26028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未依校園行動電話使用規則違規使用手機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違反交通規則或被無照駕駛同學載乘者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違反服裝儀容規定或內務不整潔，經勸告仍不改正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7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塗改或冒用師長名義於點名簿、請假單、成績單或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其他資料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8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團體清潔工作不盡職，經勸告仍不改正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9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擔任班級幹部敷衍塞責，嚴重影響工作推展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0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攜帶或公開刀械等違禁物品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如兒童及少年福利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權益保障法第四十三條所 揭禁止行為所列之物品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1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集會無故不參加或中途離開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2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欺騙師長，有具體事實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53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3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破壞環境衛生情節輕微者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4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因過失造成公物毀損，未能主動報告尋求解決者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5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對他人不當侵犯隱私、言語或態度上騷擾有具體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事實者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6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未經同意借取或占有他人財物，有明確事實者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7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作品抄襲經他人檢舉，有具體事實者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8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在走廊、樓梯、教室內從事奔跑、球類運動或其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他行為危及他人安全者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9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上課、團體活動或集會時不當行為影響秩序者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0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在公共場所或乘坐大眾運輸工具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含校車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影響秩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序，不遵守團體規範者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0" y="260280"/>
            <a:ext cx="88200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21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禮貌不周，經勸導後仍不知改正者。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22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不聽班級幹部勸告者。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3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具有相當於以上各目之不良行為之一，合於記警告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二）小過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同一學期中再犯前款之規定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不假離校外出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課堂平時考試舞弊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冒用他人名義致損及他人隱私或權益，有具體事實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提供自己或他人使用兒童及少年福利與權益保障法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第四十三條所揭禁止行為所列之物品。</a:t>
            </a:r>
            <a:r>
              <a:rPr b="0" lang="zh-TW" sz="2800" spc="-1" strike="noStrike">
                <a:solidFill>
                  <a:srgbClr val="073e87"/>
                </a:solidFill>
                <a:latin typeface="Candara"/>
              </a:rPr>
              <a:t>  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破壞公物或公告物品，影響校園工作推展或安全維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護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7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以肢體行為侵犯他人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8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於公開場域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含網路公共空間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張貼散布不實言論或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不雅字眼，攻擊或毀謗他人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9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竊取他人財物，有具體事實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0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蓄意聚眾，對師長或他人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同儕、校外人士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有不當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侵犯隱私、言語或態度上騷擾之具體事實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1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不服從糾察交通服務隊或經班級幹部糾正不聽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2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師長同意私自進入學校管制處所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3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住宿生違反宿舍規定者。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0:18:24Z</dcterms:created>
  <dc:creator>ai1467</dc:creator>
  <dc:description/>
  <dc:language>en-US</dc:language>
  <cp:lastModifiedBy>User</cp:lastModifiedBy>
  <dcterms:modified xsi:type="dcterms:W3CDTF">2014-06-27T04:30:06Z</dcterms:modified>
  <cp:revision>33</cp:revision>
  <dc:subject/>
  <dc:title>新北市立金山高中101年校務會議學務處提案1─教師輔導與管教學生辦法</dc:title>
</cp:coreProperties>
</file>