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92D9-95B6-44CE-9663-AC20E3636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02BC-68CF-47C9-A5C8-541DF56E9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9F5CC1-890D-4574-94E7-777890CB6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168747-4369-487C-89B7-A3CEC2092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1198A2-95E0-4F25-B9AF-6AAC974F0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042652-E95A-49E7-B334-580438304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E2B126-B69D-4E24-B144-FF1C35D88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D494AF-4A26-40A5-9470-6F1F8113D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3E7F2A-603A-46C2-84BB-6E292AB24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9E826D-C8F0-4984-9C36-25CC5B6B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8BADE1-A678-4832-AD90-4CBE7F5783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FF8BD25-4BA2-4EB6-8132-CEB03E60A2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7521-97F1-462B-B039-601ADFB5A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C38DA50-1E3A-4D3C-A164-94FAC2621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E34B835-B6B6-4E6F-8D0A-C8715A7C2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441F81A-53F5-4606-A66A-E9F6BA0F8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8D0C08D-5D7E-4137-A135-80A326967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AF03FFF-BC8C-4414-B3F3-A1CDFD288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90E1CE7-6A67-492F-9172-C2E7C7A5F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EC05CF7-87DC-4B0A-8D86-607A3859A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842F45E-9B78-46EB-B1E8-E0A16EE2E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B88B9EC-4847-4341-B757-76AEE7FC0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AAB39A5-B671-442C-87D3-9E2B9D68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87CA-3408-4192-B9F1-8B32E883C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B67D671-5B86-459B-A7D5-6872A88A91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D3AB43-943F-430A-83B1-93D5A6D1AA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0EE893-FD70-42AC-A7A1-AF3FA73B8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609D86-A33F-4B8C-9319-40531BFBD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2AF5AD-9A68-4092-9F10-56E02D54D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B047E0-BB31-4D12-8EDC-A0E00C770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BFF291-044C-4B5A-8662-5A27C4564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76B3E3-9D0F-48FD-88C5-E0E1EEAD3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680006-0159-4230-9334-A0E13A17E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D45A08-FC28-4DB4-9E70-0966B8759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349FD9-F5BC-4BDA-BE09-B6E12021A9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1E07AE-5C79-4211-8BF8-44BE49118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6A8A35-A5F0-4425-A363-BA23AD77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3CC6D1-7F1C-4406-92BA-A1C500AD3E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2684F2-520C-4250-84A2-484FF88E6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A2A0F3-2BBF-4676-A024-509488858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A4113F-C159-429A-96D8-38035ECA1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440376-8A0A-44A3-8E30-66954DC5A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BE9523-3C48-44DE-B1DD-7CD925D27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DCEEF3-D9D4-4868-B2A4-AE03ADA00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4D21-557B-4509-BC82-30B001F1B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F9E966-2926-4F45-961F-F106D054D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7E5FC9-02BD-4337-9EEA-7439772EE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2195F8-62F9-43DB-95C1-6D599464A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D42121-466D-4129-B0D2-5EBDED1D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62AEB6-F32B-4B32-BDA1-9371222776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E58EC7-727C-48A1-B962-7840647FCE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539656-52C5-47DA-8E76-C5869EFC2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CF8FF0-BFD5-444D-BEBC-34D455623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919C8D-DCA2-433F-AB3D-6741B91E3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639D41-44A2-46F2-BD08-3CF60E72B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9CCB-8F13-4262-AE8C-1CEEA0A60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2133AC-69B4-4D9E-B5A5-C56604A17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8FD9B7-C55B-445F-A70E-30075E235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302942-9155-4CC0-B0AA-F4FEDB17A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A6A09B-3A79-4640-BACC-37610CE7F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F2D463-DDAE-418F-9AC4-3A2F3764C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3DDFE5-C612-4C4C-A702-96989D06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03B903-AD09-4D5F-8259-04983E8F88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76B20E-9F37-4F9D-B330-116C8E86C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7E312E-79CC-490D-B1EE-786636365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E9208F-493A-4629-B2A4-3C9C4B43A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E330-045C-477F-8BCA-7735E3C13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0AD9E7-B351-4572-9909-BA70F8C9C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4FCE09-97D9-41A2-AC25-34C557362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9250C7-C8CA-4090-B9D0-1B995C21B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BA97A1-8A2F-4F71-A772-19AE1311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EC17C4-477D-49C9-8A0F-9693751D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6BA65E-043F-46F2-8ED0-D6B62684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42BBC2-31D0-4A35-AE66-6D2AACD51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CB4AC6-001B-46F4-AF71-4B04AE038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6467AA-FCFF-48C9-A351-496FA6A7D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F23D2-69BC-4BB4-86B6-7AED8779DC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1650-182F-4D38-A1F5-152F7FD7D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1FDBF-2357-4899-8413-948FE3D83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57938-3965-46D7-A367-3662EC1AB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226D7-EC66-4767-BCAD-2B430112D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F8EB0-DBF8-4CA3-BE97-90961693C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FF498-6D57-40B2-B05E-47F669C78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92B0C-5C29-48B5-BF69-B6CBD0418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F94B3-FA14-4378-AAA7-4DB3F4A82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8AEBF-CDF8-437A-B536-DC9896FAA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BA712-D0D0-420D-AEB5-162016207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C9C46-BB80-40DB-A6D4-9294D157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DFAE-1DA2-4543-ABEB-F54B508E7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2DD1F-CD96-4578-B789-7F78D2C1F0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2D38962-5A00-4A41-970D-F4943FA9A8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15BB79D-A210-48D4-87D8-F523C22E3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927ADA-E7FB-4ACB-A145-B2155E431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568CC4-0659-439D-BC09-65A49B5AA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D3A7C1-1691-4827-B843-74BC06ACC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44514C-216B-4CD1-9B6A-9190D5143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0750DC-DFCC-44F2-BC77-B1FACD786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02E5F8-605D-42F7-B066-B2987F38E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1E5E88D-E5B6-4D86-B6D2-F2697A51E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2FF5-821A-4381-926B-7ADDD2DA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F17810-F757-45CF-8CA1-BA897C11B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A06939-12E9-43DE-A78D-550AB3FB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9826CA-20C8-44BA-B6FD-483065D1FE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4774DEA-462E-4344-9F88-4DCE1A1CA2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6EC82A-AA2A-4A81-8B95-1ADB32A41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7E9370-57BA-4B57-92D2-B6600E5B9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AF0CC3-F117-444F-BEDD-4477FC642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447A7E-62F4-45EB-92D6-869933D6A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118D41-309E-49C4-955B-041DAB894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88A6197-F5B9-4ABB-BF3F-EF3BAF0F0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C4A4-4853-4136-B202-040F923E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997D67C-C542-499E-B7C2-DE4235668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820762-5A56-48F7-97AD-5B4DD0AAD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24183FD-2618-4632-87F7-42EE86467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18A3BA5-AB71-48FA-B8F7-0BC2D8AF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930E95-6F9F-439B-94EC-51BB054CF1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6243A-52D1-4B15-9B07-8F0B741AF0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D0508-AA78-4DAD-8AC1-7C27B7148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1B7E9-A0CC-4F81-93E4-AE29078A4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7B810-E41A-42E6-B378-F148E2081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7AE25D-5DBD-4865-83C7-82C9A5AFA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6213-C7F1-49C9-9C73-CE0E23B8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16DD1-FC80-440D-93C4-2905CB1D3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F8193-3A9A-4362-9E8B-35BABA1B5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6F166-BE99-4C6D-9976-0886A5164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105BB1-5AF5-4BF1-B7C7-82AB4E59A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39E1E-1278-4A5F-B868-AC8C40FA0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26C90-5436-4FA7-B269-4F4FADEA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017FA-7040-4F3A-9C18-CB1A3954E2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D935EC-D54A-4962-8189-2E762757C4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4E1316-B036-46DB-AA57-F9F797DA4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71B5DD-3DF6-4B1D-9784-ACEFE3FD5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efac9"/>
                </a:solidFill>
                <a:latin typeface="Constantia"/>
                <a:ea typeface="標楷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57336-77E4-4007-B4DF-43327EDB12A4}" type="datetime">
              <a:rPr b="0" lang="zh-TW" sz="1200" spc="-1" strike="noStrike">
                <a:solidFill>
                  <a:srgbClr val="fefac9"/>
                </a:solidFill>
                <a:latin typeface="Constantia"/>
                <a:ea typeface="標楷體"/>
              </a:rPr>
              <a:t>115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  <a:ea typeface="標楷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  <a:ea typeface="標楷體"/>
              </a:rPr>
              <a:t>103.06.30 </a:t>
            </a:r>
            <a:r>
              <a:rPr b="0" lang="zh-TW" sz="1200" spc="-1" strike="noStrike">
                <a:solidFill>
                  <a:srgbClr val="fefac9"/>
                </a:solidFill>
                <a:latin typeface="Constantia"/>
                <a:ea typeface="標楷體"/>
              </a:rPr>
              <a:t>總務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600" spc="-1" strike="noStrike">
                <a:solidFill>
                  <a:srgbClr val="fefac9"/>
                </a:solidFill>
                <a:latin typeface="Constantia"/>
                <a:ea typeface="標楷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C854B-52DC-4EA2-B021-597DCBE826EF}" type="slidenum">
              <a:rPr b="0" lang="zh-TW" sz="1600" spc="-1" strike="noStrike">
                <a:solidFill>
                  <a:srgbClr val="fefac9"/>
                </a:solidFill>
                <a:latin typeface="Constantia"/>
                <a:ea typeface="標楷體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2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efac9"/>
                </a:solidFill>
                <a:latin typeface="Constantia"/>
                <a:ea typeface="標楷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550F2-DD47-4238-8781-112AFF105689}" type="datetime">
              <a:rPr b="0" lang="zh-TW" sz="1200" spc="-1" strike="noStrike">
                <a:solidFill>
                  <a:srgbClr val="fefac9"/>
                </a:solidFill>
                <a:latin typeface="Constantia"/>
                <a:ea typeface="標楷體"/>
              </a:rPr>
              <a:t>115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sldNum" idx="22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600" spc="-1" strike="noStrike">
                <a:solidFill>
                  <a:srgbClr val="fefac9"/>
                </a:solidFill>
                <a:latin typeface="Constantia"/>
                <a:ea typeface="標楷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4A2D1-8CDB-4E68-897E-DDC8BE07746C}" type="slidenum">
              <a:rPr b="0" lang="zh-TW" sz="1600" spc="-1" strike="noStrike">
                <a:solidFill>
                  <a:srgbClr val="fefac9"/>
                </a:solidFill>
                <a:latin typeface="Constantia"/>
                <a:ea typeface="標楷體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efac9"/>
                </a:solidFill>
                <a:latin typeface="Constantia"/>
                <a:ea typeface="標楷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C38FF-9D63-4584-BA80-845DDE0A6543}" type="datetime">
              <a:rPr b="0" lang="zh-TW" sz="1200" spc="-1" strike="noStrike">
                <a:solidFill>
                  <a:srgbClr val="fefac9"/>
                </a:solidFill>
                <a:latin typeface="Constantia"/>
                <a:ea typeface="標楷體"/>
              </a:rPr>
              <a:t>115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2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600" spc="-1" strike="noStrike">
                <a:solidFill>
                  <a:srgbClr val="fefac9"/>
                </a:solidFill>
                <a:latin typeface="Constantia"/>
                <a:ea typeface="標楷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9CA2-62F2-4223-8B87-CA1F12F3806D}" type="slidenum">
              <a:rPr b="0" lang="zh-TW" sz="1600" spc="-1" strike="noStrike">
                <a:solidFill>
                  <a:srgbClr val="fefac9"/>
                </a:solidFill>
                <a:latin typeface="Constantia"/>
                <a:ea typeface="標楷體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直線接點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直線接點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橢圓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1660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000" spc="-1" strike="noStrike">
                <a:solidFill>
                  <a:srgbClr val="fefac9"/>
                </a:solidFill>
                <a:latin typeface="標楷體"/>
                <a:ea typeface="標楷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C3220-23B9-41C0-A69D-33150726AE2B}" type="datetime">
              <a:rPr b="0" lang="zh-TW" sz="2000" spc="-1" strike="noStrike">
                <a:solidFill>
                  <a:srgbClr val="fefac9"/>
                </a:solidFill>
                <a:latin typeface="標楷體"/>
                <a:ea typeface="標楷體"/>
              </a:rPr>
              <a:t>115/07/30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7812000" y="6165720"/>
            <a:ext cx="992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000" spc="-1" strike="noStrike">
                <a:solidFill>
                  <a:srgbClr val="fefac9"/>
                </a:solidFill>
                <a:latin typeface="標楷體"/>
                <a:ea typeface="標楷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efac9"/>
                </a:solidFill>
                <a:latin typeface="標楷體"/>
                <a:ea typeface="標楷體"/>
              </a:rPr>
              <a:t>第</a:t>
            </a:r>
            <a:fld id="{3126A277-7B45-475C-AC4A-666E0844C00C}" type="slidenum">
              <a:rPr b="0" lang="zh-TW" sz="2000" spc="-1" strike="noStrike">
                <a:solidFill>
                  <a:srgbClr val="fefac9"/>
                </a:solidFill>
                <a:latin typeface="標楷體"/>
                <a:ea typeface="標楷體"/>
              </a:rPr>
              <a:t>&lt;number&gt;</a:t>
            </a:fld>
            <a:r>
              <a:rPr b="0" lang="zh-TW" sz="2000" spc="-1" strike="noStrike">
                <a:solidFill>
                  <a:srgbClr val="fefac9"/>
                </a:solidFill>
                <a:latin typeface="標楷體"/>
                <a:ea typeface="標楷體"/>
              </a:rPr>
              <a:t>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6"/>
          </p:nvPr>
        </p:nvSpPr>
        <p:spPr>
          <a:xfrm>
            <a:off x="5791320" y="6203520"/>
            <a:ext cx="1876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000" spc="-1" strike="noStrike">
                <a:solidFill>
                  <a:srgbClr val="fefac9"/>
                </a:solidFill>
                <a:latin typeface="Constantia"/>
                <a:ea typeface="標楷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FEB2C-2797-4D8E-87BA-4612AC2813A2}" type="datetime">
              <a:rPr b="0" lang="zh-TW" sz="2000" spc="-1" strike="noStrike">
                <a:solidFill>
                  <a:srgbClr val="fefac9"/>
                </a:solidFill>
                <a:latin typeface="Constantia"/>
                <a:ea typeface="標楷體"/>
              </a:rPr>
              <a:t>115/07/30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7"/>
          </p:nvPr>
        </p:nvSpPr>
        <p:spPr>
          <a:xfrm>
            <a:off x="7884720" y="6181560"/>
            <a:ext cx="1135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000" spc="-1" strike="noStrike">
                <a:solidFill>
                  <a:srgbClr val="fefac9"/>
                </a:solidFill>
                <a:latin typeface="Constantia"/>
                <a:ea typeface="標楷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efac9"/>
                </a:solidFill>
                <a:latin typeface="Constantia"/>
                <a:ea typeface="標楷體"/>
              </a:rPr>
              <a:t>第</a:t>
            </a:r>
            <a:fld id="{F08DC0E8-491F-4ED4-AC64-8C5800D7D518}" type="slidenum">
              <a:rPr b="0" lang="zh-TW" sz="2000" spc="-1" strike="noStrike">
                <a:solidFill>
                  <a:srgbClr val="fefac9"/>
                </a:solidFill>
                <a:latin typeface="Constantia"/>
                <a:ea typeface="標楷體"/>
              </a:rPr>
              <a:t>&lt;number&gt;</a:t>
            </a:fld>
            <a:r>
              <a:rPr b="0" lang="zh-TW" sz="2000" spc="-1" strike="noStrike">
                <a:solidFill>
                  <a:srgbClr val="fefac9"/>
                </a:solidFill>
                <a:latin typeface="Constantia"/>
                <a:ea typeface="標楷體"/>
              </a:rPr>
              <a:t>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直線接點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8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efac9"/>
                </a:solidFill>
                <a:latin typeface="Constantia"/>
                <a:ea typeface="標楷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AB52C-CBBC-47C2-AEC5-9B54095685FF}" type="datetime">
              <a:rPr b="0" lang="zh-TW" sz="1200" spc="-1" strike="noStrike">
                <a:solidFill>
                  <a:srgbClr val="fefac9"/>
                </a:solidFill>
                <a:latin typeface="Constantia"/>
                <a:ea typeface="標楷體"/>
              </a:rPr>
              <a:t>115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9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  <a:ea typeface="標楷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  <a:ea typeface="標楷體"/>
              </a:rPr>
              <a:t>103.06.30 </a:t>
            </a:r>
            <a:r>
              <a:rPr b="0" lang="zh-TW" sz="1200" spc="-1" strike="noStrike">
                <a:solidFill>
                  <a:srgbClr val="fefac9"/>
                </a:solidFill>
                <a:latin typeface="Constantia"/>
                <a:ea typeface="標楷體"/>
              </a:rPr>
              <a:t>總務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600" spc="-1" strike="noStrike">
                <a:solidFill>
                  <a:srgbClr val="fefac9"/>
                </a:solidFill>
                <a:latin typeface="Constantia"/>
                <a:ea typeface="標楷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ED210-F1BB-4BC3-952D-3593FC838166}" type="slidenum">
              <a:rPr b="0" lang="zh-TW" sz="1600" spc="-1" strike="noStrike">
                <a:solidFill>
                  <a:srgbClr val="fefac9"/>
                </a:solidFill>
                <a:latin typeface="Constantia"/>
                <a:ea typeface="標楷體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efac9"/>
                </a:solidFill>
                <a:latin typeface="Constantia"/>
                <a:ea typeface="標楷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715D9-97C7-4B53-9E52-BA10E179863D}" type="datetime">
              <a:rPr b="0" lang="zh-TW" sz="1200" spc="-1" strike="noStrike">
                <a:solidFill>
                  <a:srgbClr val="fefac9"/>
                </a:solidFill>
                <a:latin typeface="Constantia"/>
                <a:ea typeface="標楷體"/>
              </a:rPr>
              <a:t>115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sldNum" idx="12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600" spc="-1" strike="noStrike">
                <a:solidFill>
                  <a:srgbClr val="fefac9"/>
                </a:solidFill>
                <a:latin typeface="Constantia"/>
                <a:ea typeface="標楷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E9988-1271-4EDB-90A4-09588F3F91F1}" type="slidenum">
              <a:rPr b="0" lang="zh-TW" sz="1600" spc="-1" strike="noStrike">
                <a:solidFill>
                  <a:srgbClr val="fefac9"/>
                </a:solidFill>
                <a:latin typeface="Constantia"/>
                <a:ea typeface="標楷體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直線接點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直線接點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Num" idx="1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600" spc="-1" strike="noStrike">
                <a:solidFill>
                  <a:srgbClr val="fefac9"/>
                </a:solidFill>
                <a:latin typeface="Constantia"/>
                <a:ea typeface="標楷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B0CBA-40AF-4B87-9075-D92802D7AAE3}" type="slidenum">
              <a:rPr b="0" lang="zh-TW" sz="1600" spc="-1" strike="noStrike">
                <a:solidFill>
                  <a:srgbClr val="fefac9"/>
                </a:solidFill>
                <a:latin typeface="Constantia"/>
                <a:ea typeface="標楷體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dt" idx="1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efac9"/>
                </a:solidFill>
                <a:latin typeface="Constantia"/>
                <a:ea typeface="標楷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92397-0644-4937-9597-6115CEFD11F6}" type="datetime">
              <a:rPr b="0" lang="zh-TW" sz="1200" spc="-1" strike="noStrike">
                <a:solidFill>
                  <a:srgbClr val="fefac9"/>
                </a:solidFill>
                <a:latin typeface="Constantia"/>
                <a:ea typeface="標楷體"/>
              </a:rPr>
              <a:t>115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5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efac9"/>
                </a:solidFill>
                <a:latin typeface="Constantia"/>
                <a:ea typeface="標楷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3DBF4-C81B-4528-92F0-5C27503333D3}" type="datetime">
              <a:rPr b="0" lang="zh-TW" sz="1200" spc="-1" strike="noStrike">
                <a:solidFill>
                  <a:srgbClr val="fefac9"/>
                </a:solidFill>
                <a:latin typeface="Constantia"/>
                <a:ea typeface="標楷體"/>
              </a:rPr>
              <a:t>115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sldNum" idx="16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600" spc="-1" strike="noStrike">
                <a:solidFill>
                  <a:srgbClr val="fefac9"/>
                </a:solidFill>
                <a:latin typeface="Constantia"/>
                <a:ea typeface="標楷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BA9A4-44A9-4F92-9AF9-CCC7555AA86A}" type="slidenum">
              <a:rPr b="0" lang="zh-TW" sz="1600" spc="-1" strike="noStrike">
                <a:solidFill>
                  <a:srgbClr val="fefac9"/>
                </a:solidFill>
                <a:latin typeface="Constantia"/>
                <a:ea typeface="標楷體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efac9"/>
                </a:solidFill>
                <a:latin typeface="Constantia"/>
                <a:ea typeface="標楷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495FD-633E-473F-8CE9-FFE8EF5F25BF}" type="datetime">
              <a:rPr b="0" lang="zh-TW" sz="1200" spc="-1" strike="noStrike">
                <a:solidFill>
                  <a:srgbClr val="fefac9"/>
                </a:solidFill>
                <a:latin typeface="Constantia"/>
                <a:ea typeface="標楷體"/>
              </a:rPr>
              <a:t>115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sldNum" idx="18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600" spc="-1" strike="noStrike">
                <a:solidFill>
                  <a:srgbClr val="fefac9"/>
                </a:solidFill>
                <a:latin typeface="Constantia"/>
                <a:ea typeface="標楷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C7781-E441-4144-9023-9A3540437C1B}" type="slidenum">
              <a:rPr b="0" lang="zh-TW" sz="1600" spc="-1" strike="noStrike">
                <a:solidFill>
                  <a:srgbClr val="fefac9"/>
                </a:solidFill>
                <a:latin typeface="Constantia"/>
                <a:ea typeface="標楷體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19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efac9"/>
                </a:solidFill>
                <a:latin typeface="Constantia"/>
                <a:ea typeface="標楷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5D92B-7384-4FE1-9151-AEE6EFF89A1B}" type="datetime">
              <a:rPr b="0" lang="zh-TW" sz="1200" spc="-1" strike="noStrike">
                <a:solidFill>
                  <a:srgbClr val="fefac9"/>
                </a:solidFill>
                <a:latin typeface="Constantia"/>
                <a:ea typeface="標楷體"/>
              </a:rPr>
              <a:t>115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sldNum" idx="2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600" spc="-1" strike="noStrike">
                <a:solidFill>
                  <a:srgbClr val="fefac9"/>
                </a:solidFill>
                <a:latin typeface="Constantia"/>
                <a:ea typeface="標楷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478B6-91D4-440E-88B9-CFB57D61FC4A}" type="slidenum">
              <a:rPr b="0" lang="zh-TW" sz="1600" spc="-1" strike="noStrike">
                <a:solidFill>
                  <a:srgbClr val="fefac9"/>
                </a:solidFill>
                <a:latin typeface="Constantia"/>
                <a:ea typeface="標楷體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d0d0d"/>
                </a:solidFill>
                <a:latin typeface="標楷體"/>
              </a:rPr>
              <a:t>【總務處】　報告人：許錦芳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49" name="標題 1" descr=""/>
          <p:cNvPicPr/>
          <p:nvPr/>
        </p:nvPicPr>
        <p:blipFill>
          <a:blip r:embed="rId1"/>
          <a:stretch/>
        </p:blipFill>
        <p:spPr>
          <a:xfrm>
            <a:off x="457200" y="1432080"/>
            <a:ext cx="8308800" cy="2304720"/>
          </a:xfrm>
          <a:prstGeom prst="rect">
            <a:avLst/>
          </a:prstGeom>
          <a:ln w="0">
            <a:noFill/>
          </a:ln>
        </p:spPr>
      </p:pic>
      <p:sp>
        <p:nvSpPr>
          <p:cNvPr id="450" name="投影片編號版面配置區 3"/>
          <p:cNvSpPr/>
          <p:nvPr/>
        </p:nvSpPr>
        <p:spPr>
          <a:xfrm>
            <a:off x="7812000" y="6165720"/>
            <a:ext cx="99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efac9"/>
                </a:solidFill>
                <a:latin typeface="標楷體"/>
                <a:ea typeface="標楷體"/>
              </a:rPr>
              <a:t>第</a:t>
            </a:r>
            <a:fld id="{E6D02D0A-D215-47D0-8019-FAF13278E3CD}" type="slidenum">
              <a:rPr b="0" lang="zh-TW" sz="2000" spc="-1" strike="noStrike">
                <a:solidFill>
                  <a:srgbClr val="fefac9"/>
                </a:solidFill>
                <a:latin typeface="標楷體"/>
                <a:ea typeface="標楷體"/>
              </a:rPr>
              <a:t>&lt;number&gt;</a:t>
            </a:fld>
            <a:r>
              <a:rPr b="0" lang="zh-TW" sz="2000" spc="-1" strike="noStrike">
                <a:solidFill>
                  <a:srgbClr val="fefac9"/>
                </a:solidFill>
                <a:latin typeface="標楷體"/>
                <a:ea typeface="標楷體"/>
              </a:rPr>
              <a:t>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(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一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)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暑輔午餐供應：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7/28(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一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)-8/22(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五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)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除班級外，搭餐同仁取餐地點另行公告或以電郵告知。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(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二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)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暑輔晚餐供應：配合學生住宿情形辦理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(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三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)103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學年度午、晚餐供應：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9/1(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一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)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起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(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四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)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利用暑期執行各項設備檢修維護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4" name="投影片編號版面配置區 2"/>
          <p:cNvSpPr/>
          <p:nvPr/>
        </p:nvSpPr>
        <p:spPr>
          <a:xfrm>
            <a:off x="7885080" y="6181560"/>
            <a:ext cx="113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CFB72-04A4-4FFF-8BA0-114B97B089D8}" type="slidenum">
              <a:rPr b="0" lang="zh-TW" sz="2000" spc="-1" strike="noStrike">
                <a:solidFill>
                  <a:srgbClr val="fefac9"/>
                </a:solidFill>
                <a:latin typeface="Constantia"/>
                <a:ea typeface="標楷體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頁尾版面配置區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  <a:ea typeface="標楷體"/>
              </a:rPr>
              <a:t>103.06.30 </a:t>
            </a:r>
            <a:r>
              <a:rPr b="0" lang="zh-TW" sz="1200" spc="-1" strike="noStrike">
                <a:solidFill>
                  <a:srgbClr val="fefac9"/>
                </a:solidFill>
                <a:latin typeface="Constantia"/>
                <a:ea typeface="標楷體"/>
              </a:rPr>
              <a:t>總務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6" name="標題 4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投影片編號版面配置區 2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3B394-5C64-4F91-9575-369B58395F44}" type="slidenum">
              <a:rPr b="0" lang="zh-TW" sz="1600" spc="-1" strike="noStrike">
                <a:solidFill>
                  <a:srgbClr val="fefac9"/>
                </a:solidFill>
                <a:latin typeface="Constantia"/>
                <a:ea typeface="標楷體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8" name="標題 4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49400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 txBox="1"/>
          <p:nvPr/>
        </p:nvSpPr>
        <p:spPr>
          <a:xfrm>
            <a:off x="4647960" y="1523880"/>
            <a:ext cx="4059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感謝同仁共同留意學校各項硬體設施的安全維護，協助推動各項業務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祝福大家暑期愉快！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90" name="Picture 2" descr="C:\Users\Shie\AppData\Local\Microsoft\Windows\Temporary Internet Files\Content.IE5\KEPFETZ2\MC900440456[1].wmf"/>
          <p:cNvPicPr/>
          <p:nvPr/>
        </p:nvPicPr>
        <p:blipFill>
          <a:blip r:embed="rId2"/>
          <a:stretch/>
        </p:blipFill>
        <p:spPr>
          <a:xfrm>
            <a:off x="755640" y="2421000"/>
            <a:ext cx="333072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(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一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)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管理員王寳能小姐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3/28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到職，原職務代理人鐘毓修小姐同日離職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(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二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) 103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學年度空間配置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已調整部分應修正位置標示，例如：高中部教官室。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c354d"/>
                </a:solidFill>
                <a:latin typeface="Constantia"/>
              </a:rPr>
              <a:t>6/17(</a:t>
            </a: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二</a:t>
            </a:r>
            <a:r>
              <a:rPr b="0" lang="en-US" sz="2400" spc="-1" strike="noStrike">
                <a:solidFill>
                  <a:srgbClr val="7c354d"/>
                </a:solidFill>
                <a:latin typeface="Constantia"/>
              </a:rPr>
              <a:t>)</a:t>
            </a: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主管會報確認明確位置，並將新平面圖以電郵寄送予全校同仁，另於首頁</a:t>
            </a:r>
            <a:r>
              <a:rPr b="0" lang="en-US" sz="2400" spc="-1" strike="noStrike">
                <a:solidFill>
                  <a:srgbClr val="7c354d"/>
                </a:solidFill>
                <a:latin typeface="Constantia"/>
              </a:rPr>
              <a:t>/</a:t>
            </a: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各單位網頁</a:t>
            </a:r>
            <a:r>
              <a:rPr b="0" lang="en-US" sz="2400" spc="-1" strike="noStrike">
                <a:solidFill>
                  <a:srgbClr val="7c354d"/>
                </a:solidFill>
                <a:latin typeface="Constantia"/>
              </a:rPr>
              <a:t>/</a:t>
            </a: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總務處</a:t>
            </a:r>
            <a:r>
              <a:rPr b="0" lang="en-US" sz="2400" spc="-1" strike="noStrike">
                <a:solidFill>
                  <a:srgbClr val="7c354d"/>
                </a:solidFill>
                <a:latin typeface="Constantia"/>
              </a:rPr>
              <a:t>/</a:t>
            </a: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相關資料下載公告。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c354d"/>
                </a:solidFill>
                <a:latin typeface="Constantia"/>
              </a:rPr>
              <a:t>7</a:t>
            </a: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月底調整各班級牌、辦公室名牌，另調整分機、廣播設定。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452" name="投影片編號版面配置區 2"/>
          <p:cNvSpPr/>
          <p:nvPr/>
        </p:nvSpPr>
        <p:spPr>
          <a:xfrm>
            <a:off x="7885080" y="6181560"/>
            <a:ext cx="113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E8F3F-6949-460A-AED9-4531A3D9C476}" type="slidenum">
              <a:rPr b="0" lang="zh-TW" sz="2000" spc="-1" strike="noStrike">
                <a:solidFill>
                  <a:srgbClr val="fefac9"/>
                </a:solidFill>
                <a:latin typeface="Constantia"/>
                <a:ea typeface="標楷體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頁尾版面配置區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  <a:ea typeface="標楷體"/>
              </a:rPr>
              <a:t>103.06.30 </a:t>
            </a:r>
            <a:r>
              <a:rPr b="0" lang="zh-TW" sz="1200" spc="-1" strike="noStrike">
                <a:solidFill>
                  <a:srgbClr val="fefac9"/>
                </a:solidFill>
                <a:latin typeface="Constantia"/>
                <a:ea typeface="標楷體"/>
              </a:rPr>
              <a:t>總務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4" name="標題 4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(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三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)</a:t>
            </a:r>
            <a:r>
              <a:rPr b="1" lang="zh-TW" sz="2600" spc="-1" strike="noStrike">
                <a:solidFill>
                  <a:srgbClr val="ffffff"/>
                </a:solidFill>
                <a:latin typeface="Constantia"/>
              </a:rPr>
              <a:t>依法辦理教職員工離校程序，檢視要項包含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事務組：財產設備、影印卡、電梯卡、借用物品等歸還，借用宿舍者辦妥退宿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文書組：公文完成歸檔或移交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出納組：應繳交費用與後續薪資、發放聯繫資訊確認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營養師：餐費繳清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6" name="投影片編號版面配置區 2"/>
          <p:cNvSpPr/>
          <p:nvPr/>
        </p:nvSpPr>
        <p:spPr>
          <a:xfrm>
            <a:off x="7885080" y="6181560"/>
            <a:ext cx="113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1DACA-A042-4D34-9E2A-3B6F1EB99300}" type="slidenum">
              <a:rPr b="0" lang="zh-TW" sz="2000" spc="-1" strike="noStrike">
                <a:solidFill>
                  <a:srgbClr val="fefac9"/>
                </a:solidFill>
                <a:latin typeface="Constantia"/>
                <a:ea typeface="標楷體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7" name="標題 3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  <p:sp>
        <p:nvSpPr>
          <p:cNvPr id="458" name="頁尾版面配置區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  <a:ea typeface="標楷體"/>
              </a:rPr>
              <a:t>103.06.30 </a:t>
            </a:r>
            <a:r>
              <a:rPr b="0" lang="zh-TW" sz="1200" spc="-1" strike="noStrike">
                <a:solidFill>
                  <a:srgbClr val="fefac9"/>
                </a:solidFill>
                <a:latin typeface="Constantia"/>
                <a:ea typeface="標楷體"/>
              </a:rPr>
              <a:t>總務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(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一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)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高中部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自</a:t>
            </a:r>
            <a:r>
              <a:rPr b="0" lang="en-US" sz="2400" spc="-1" strike="noStrike">
                <a:solidFill>
                  <a:srgbClr val="7c354d"/>
                </a:solidFill>
                <a:latin typeface="Constantia"/>
              </a:rPr>
              <a:t>103</a:t>
            </a: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學年度起依教育局</a:t>
            </a:r>
            <a:r>
              <a:rPr b="0" lang="en-US" sz="2400" spc="-1" strike="noStrike">
                <a:solidFill>
                  <a:srgbClr val="7c354d"/>
                </a:solidFill>
                <a:latin typeface="Constantia"/>
              </a:rPr>
              <a:t>101.07.25</a:t>
            </a: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北府教中字第</a:t>
            </a:r>
            <a:r>
              <a:rPr b="0" lang="en-US" sz="2400" spc="-1" strike="noStrike">
                <a:solidFill>
                  <a:srgbClr val="7c354d"/>
                </a:solidFill>
                <a:latin typeface="Constantia"/>
              </a:rPr>
              <a:t>1012017767</a:t>
            </a: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號函代收代辦費支用規定，針對一般教室使用冷氣者，收取每生每學期</a:t>
            </a:r>
            <a:r>
              <a:rPr b="0" lang="en-US" sz="2400" spc="-1" strike="noStrike">
                <a:solidFill>
                  <a:srgbClr val="7c354d"/>
                </a:solidFill>
                <a:latin typeface="Constantia"/>
              </a:rPr>
              <a:t>200</a:t>
            </a: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元「冷氣機維護及汰換費」。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規劃支用前項經費，安裝新的高二教室電錶，以利同學使用冷氣，另針對高三教室冷氣執行檢修維護。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(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二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)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「國高中化糞池改善」、「教學區門窗改善」工程預定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6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月底、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7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月初完成發包，暑假期間執行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(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三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)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活動中心：音控室經常因操作不當，損害麥克風、單槍，</a:t>
            </a:r>
            <a:r>
              <a:rPr b="1" lang="zh-TW" sz="2600" spc="-1" strike="noStrike">
                <a:solidFill>
                  <a:srgbClr val="ffffff"/>
                </a:solidFill>
                <a:latin typeface="Constantia"/>
              </a:rPr>
              <a:t>需要各借用單位務必熟悉掌握才使用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0" name="投影片編號版面配置區 2"/>
          <p:cNvSpPr/>
          <p:nvPr/>
        </p:nvSpPr>
        <p:spPr>
          <a:xfrm>
            <a:off x="7885080" y="6181560"/>
            <a:ext cx="113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E60E4-54D9-40D8-8F7C-FA8D0E4CF908}" type="slidenum">
              <a:rPr b="0" lang="zh-TW" sz="2000" spc="-1" strike="noStrike">
                <a:solidFill>
                  <a:srgbClr val="fefac9"/>
                </a:solidFill>
                <a:latin typeface="Constantia"/>
                <a:ea typeface="標楷體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頁尾版面配置區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  <a:ea typeface="標楷體"/>
              </a:rPr>
              <a:t>103.06.30 </a:t>
            </a:r>
            <a:r>
              <a:rPr b="0" lang="zh-TW" sz="1200" spc="-1" strike="noStrike">
                <a:solidFill>
                  <a:srgbClr val="fefac9"/>
                </a:solidFill>
                <a:latin typeface="Constantia"/>
                <a:ea typeface="標楷體"/>
              </a:rPr>
              <a:t>總務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2" name="標題 4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(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四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)</a:t>
            </a:r>
            <a:r>
              <a:rPr b="1" lang="zh-TW" sz="2600" spc="-1" strike="noStrike">
                <a:solidFill>
                  <a:srgbClr val="ffffff"/>
                </a:solidFill>
                <a:latin typeface="Constantia"/>
              </a:rPr>
              <a:t>同仁平日如需借用會議室或公共空間，務必提早上網登錄，以免場地衝突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專科教室委由設備組全權管理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其他鑰匙有分別放置教務處設備組、總務處事務組，請配合各管控人員確認已完成場地借用再登記取用鑰匙。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(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五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)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暑輔</a:t>
            </a:r>
            <a:r>
              <a:rPr b="1" lang="zh-TW" sz="2600" spc="-1" strike="noStrike">
                <a:solidFill>
                  <a:srgbClr val="ffffff"/>
                </a:solidFill>
                <a:latin typeface="Constantia"/>
              </a:rPr>
              <a:t>上課期間學生如需外出務必完成請假或外出證，或緊急時由老師陪同，其他概不放行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(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六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)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密切辦理各項自設廚房食材、瓦斯招標作業中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4" name="投影片編號版面配置區 2"/>
          <p:cNvSpPr/>
          <p:nvPr/>
        </p:nvSpPr>
        <p:spPr>
          <a:xfrm>
            <a:off x="7885080" y="6181560"/>
            <a:ext cx="113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CF50C-DB59-4FA5-A80A-63566AB5A9E9}" type="slidenum">
              <a:rPr b="0" lang="zh-TW" sz="2000" spc="-1" strike="noStrike">
                <a:solidFill>
                  <a:srgbClr val="fefac9"/>
                </a:solidFill>
                <a:latin typeface="Constantia"/>
                <a:ea typeface="標楷體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頁尾版面配置區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  <a:ea typeface="標楷體"/>
              </a:rPr>
              <a:t>103.06.30 </a:t>
            </a:r>
            <a:r>
              <a:rPr b="0" lang="zh-TW" sz="1200" spc="-1" strike="noStrike">
                <a:solidFill>
                  <a:srgbClr val="fefac9"/>
                </a:solidFill>
                <a:latin typeface="Constantia"/>
                <a:ea typeface="標楷體"/>
              </a:rPr>
              <a:t>總務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6" name="標題 4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(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七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)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配合教育局作業中：國中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、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棟及高中班級教室等建築物耐震初評，全校消防安檢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(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八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)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暑假期間一般校園開放時段比照學期間上班上課辦理，唯因課輔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15:00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結束，配合教職員上班時間，分別開放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上午</a:t>
            </a:r>
            <a:r>
              <a:rPr b="0" lang="en-US" sz="2400" spc="-1" strike="noStrike">
                <a:solidFill>
                  <a:srgbClr val="7c354d"/>
                </a:solidFill>
                <a:latin typeface="Constantia"/>
              </a:rPr>
              <a:t>5:00-7:00</a:t>
            </a: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，下午</a:t>
            </a:r>
            <a:r>
              <a:rPr b="0" lang="en-US" sz="2400" spc="-1" strike="noStrike">
                <a:solidFill>
                  <a:srgbClr val="7c354d"/>
                </a:solidFill>
                <a:latin typeface="Constantia"/>
              </a:rPr>
              <a:t>16:00-18:30</a:t>
            </a: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。如遇特殊狀況，另行公告辦理。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468" name="投影片編號版面配置區 2"/>
          <p:cNvSpPr/>
          <p:nvPr/>
        </p:nvSpPr>
        <p:spPr>
          <a:xfrm>
            <a:off x="7885080" y="6181560"/>
            <a:ext cx="113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789BD-BD9E-43F1-921F-B245B55C1891}" type="slidenum">
              <a:rPr b="0" lang="zh-TW" sz="2000" spc="-1" strike="noStrike">
                <a:solidFill>
                  <a:srgbClr val="fefac9"/>
                </a:solidFill>
                <a:latin typeface="Constantia"/>
                <a:ea typeface="標楷體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頁尾版面配置區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  <a:ea typeface="標楷體"/>
              </a:rPr>
              <a:t>103.06.30 </a:t>
            </a:r>
            <a:r>
              <a:rPr b="0" lang="zh-TW" sz="1200" spc="-1" strike="noStrike">
                <a:solidFill>
                  <a:srgbClr val="fefac9"/>
                </a:solidFill>
                <a:latin typeface="Constantia"/>
                <a:ea typeface="標楷體"/>
              </a:rPr>
              <a:t>總務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0" name="標題 4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(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一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)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學校收發以公務為主，同仁的私人物品應儘量自行與快遞、貨運聯繫點收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(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二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)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期末校務會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假學生宿舍餐廳辦理</a:t>
            </a:r>
            <a:r>
              <a:rPr b="0" lang="en-US" sz="2400" spc="-1" strike="noStrike">
                <a:solidFill>
                  <a:srgbClr val="7c354d"/>
                </a:solidFill>
                <a:latin typeface="Constantia"/>
              </a:rPr>
              <a:t>(</a:t>
            </a: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緊接於期末餐敘後</a:t>
            </a:r>
            <a:r>
              <a:rPr b="0" lang="en-US" sz="2400" spc="-1" strike="noStrike">
                <a:solidFill>
                  <a:srgbClr val="7c354d"/>
                </a:solidFill>
                <a:latin typeface="Constantia"/>
              </a:rPr>
              <a:t>)</a:t>
            </a: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，預定</a:t>
            </a:r>
            <a:r>
              <a:rPr b="0" lang="en-US" sz="2400" spc="-1" strike="noStrike">
                <a:solidFill>
                  <a:srgbClr val="7c354d"/>
                </a:solidFill>
                <a:latin typeface="Constantia"/>
              </a:rPr>
              <a:t>6/30(</a:t>
            </a: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一</a:t>
            </a:r>
            <a:r>
              <a:rPr b="0" lang="en-US" sz="2400" spc="-1" strike="noStrike">
                <a:solidFill>
                  <a:srgbClr val="7c354d"/>
                </a:solidFill>
                <a:latin typeface="Constantia"/>
              </a:rPr>
              <a:t>)14:00</a:t>
            </a: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開始。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配合餐敘即開始辦理簽到，請各處室互相提醒儘早到場就位。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考量現場不易檢視單槍投影，請先參閱電郵所寄之會議程序、提案單、各業務單位報告內容，以利會議順利進行。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472" name="投影片編號版面配置區 2"/>
          <p:cNvSpPr/>
          <p:nvPr/>
        </p:nvSpPr>
        <p:spPr>
          <a:xfrm>
            <a:off x="7885080" y="6181560"/>
            <a:ext cx="113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C1A7C-4703-40F4-869D-8A1CE245DE6D}" type="slidenum">
              <a:rPr b="0" lang="zh-TW" sz="2000" spc="-1" strike="noStrike">
                <a:solidFill>
                  <a:srgbClr val="fefac9"/>
                </a:solidFill>
                <a:latin typeface="Constantia"/>
                <a:ea typeface="標楷體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頁尾版面配置區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  <a:ea typeface="標楷體"/>
              </a:rPr>
              <a:t>103.06.30 </a:t>
            </a:r>
            <a:r>
              <a:rPr b="0" lang="zh-TW" sz="1200" spc="-1" strike="noStrike">
                <a:solidFill>
                  <a:srgbClr val="fefac9"/>
                </a:solidFill>
                <a:latin typeface="Constantia"/>
                <a:ea typeface="標楷體"/>
              </a:rPr>
              <a:t>總務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4" name="標題 4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(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一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)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請各業務單位依規申請學生收費三聯單印製請示，並檢齊附件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相關規範可參閱學校首頁</a:t>
            </a:r>
            <a:r>
              <a:rPr b="0" lang="en-US" sz="2400" spc="-1" strike="noStrike">
                <a:solidFill>
                  <a:srgbClr val="7c354d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7c354d"/>
                </a:solidFill>
                <a:latin typeface="Constantia"/>
              </a:rPr>
              <a:t>/ </a:t>
            </a: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各單位網頁</a:t>
            </a:r>
            <a:r>
              <a:rPr b="0" lang="en-US" sz="2400" spc="-1" strike="noStrike">
                <a:solidFill>
                  <a:srgbClr val="7c354d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7c354d"/>
                </a:solidFill>
                <a:latin typeface="Constantia"/>
              </a:rPr>
              <a:t>/ </a:t>
            </a: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總務處</a:t>
            </a:r>
            <a:r>
              <a:rPr b="0" lang="en-US" sz="2400" spc="-1" strike="noStrike">
                <a:solidFill>
                  <a:srgbClr val="7c354d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7c354d"/>
                </a:solidFill>
                <a:latin typeface="Constantia"/>
              </a:rPr>
              <a:t>/ </a:t>
            </a: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相關資料下載。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性質隸屬專案</a:t>
            </a:r>
            <a:r>
              <a:rPr b="0" lang="en-US" sz="2400" spc="-1" strike="noStrike">
                <a:solidFill>
                  <a:srgbClr val="7c354d"/>
                </a:solidFill>
                <a:latin typeface="Constantia"/>
              </a:rPr>
              <a:t>(</a:t>
            </a: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當學期結清</a:t>
            </a:r>
            <a:r>
              <a:rPr b="0" lang="en-US" sz="2400" spc="-1" strike="noStrike">
                <a:solidFill>
                  <a:srgbClr val="7c354d"/>
                </a:solidFill>
                <a:latin typeface="Constantia"/>
              </a:rPr>
              <a:t>)</a:t>
            </a: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者，如學生照、重修及自學輔導費、教科書費、校外教學、畢業紀念冊、打靶費等，請於廠商請款</a:t>
            </a:r>
            <a:r>
              <a:rPr b="0" lang="en-US" sz="2400" spc="-1" strike="noStrike">
                <a:solidFill>
                  <a:srgbClr val="7c354d"/>
                </a:solidFill>
                <a:latin typeface="Constantia"/>
              </a:rPr>
              <a:t>(</a:t>
            </a: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學期結束</a:t>
            </a:r>
            <a:r>
              <a:rPr b="0" lang="en-US" sz="2400" spc="-1" strike="noStrike">
                <a:solidFill>
                  <a:srgbClr val="7c354d"/>
                </a:solidFill>
                <a:latin typeface="Constantia"/>
              </a:rPr>
              <a:t>)</a:t>
            </a: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時，與出納組確認是否仍有未繳名單，如因故未參加、無須收費，應簽註敘明理由，以利修改收費單為</a:t>
            </a:r>
            <a:r>
              <a:rPr b="0" lang="en-US" sz="2400" spc="-1" strike="noStrike">
                <a:solidFill>
                  <a:srgbClr val="7c354d"/>
                </a:solidFill>
                <a:latin typeface="Constantia"/>
              </a:rPr>
              <a:t>0</a:t>
            </a: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元，積極維護學生權益</a:t>
            </a:r>
            <a:r>
              <a:rPr b="0" lang="en-US" sz="2400" spc="-1" strike="noStrike">
                <a:solidFill>
                  <a:srgbClr val="7c354d"/>
                </a:solidFill>
                <a:latin typeface="Constantia"/>
              </a:rPr>
              <a:t>(</a:t>
            </a: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避免未來影響學生畢業</a:t>
            </a:r>
            <a:r>
              <a:rPr b="0" lang="en-US" sz="2400" spc="-1" strike="noStrike">
                <a:solidFill>
                  <a:srgbClr val="7c354d"/>
                </a:solidFill>
                <a:latin typeface="Constantia"/>
              </a:rPr>
              <a:t>)</a:t>
            </a: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。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476" name="投影片編號版面配置區 2"/>
          <p:cNvSpPr/>
          <p:nvPr/>
        </p:nvSpPr>
        <p:spPr>
          <a:xfrm>
            <a:off x="7885080" y="6181560"/>
            <a:ext cx="113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7A1E1-092E-45F6-85BD-FAE0AF60B7A2}" type="slidenum">
              <a:rPr b="0" lang="zh-TW" sz="2000" spc="-1" strike="noStrike">
                <a:solidFill>
                  <a:srgbClr val="fefac9"/>
                </a:solidFill>
                <a:latin typeface="Constantia"/>
                <a:ea typeface="標楷體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頁尾版面配置區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  <a:ea typeface="標楷體"/>
              </a:rPr>
              <a:t>103.06.30 </a:t>
            </a:r>
            <a:r>
              <a:rPr b="0" lang="zh-TW" sz="1200" spc="-1" strike="noStrike">
                <a:solidFill>
                  <a:srgbClr val="fefac9"/>
                </a:solidFill>
                <a:latin typeface="Constantia"/>
                <a:ea typeface="標楷體"/>
              </a:rPr>
              <a:t>總務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8" name="標題 4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(</a:t>
            </a:r>
            <a:r>
              <a:rPr b="0" lang="zh-TW" sz="2400" spc="-1" strike="noStrike">
                <a:solidFill>
                  <a:srgbClr val="ffffff"/>
                </a:solidFill>
                <a:latin typeface="Constantia"/>
              </a:rPr>
              <a:t>二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)</a:t>
            </a:r>
            <a:r>
              <a:rPr b="0" lang="zh-TW" sz="2400" spc="-1" strike="noStrike">
                <a:solidFill>
                  <a:srgbClr val="ffffff"/>
                </a:solidFill>
                <a:latin typeface="Constantia"/>
              </a:rPr>
              <a:t>經費核銷之付款方式請與出納組聯繫研議並簽註於黏存單左下方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7c354d"/>
                </a:solidFill>
                <a:latin typeface="Constantia"/>
              </a:rPr>
              <a:t>採購案件：由事務組及組員簽註</a:t>
            </a: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7c354d"/>
                </a:solidFill>
                <a:latin typeface="Constantia"/>
              </a:rPr>
              <a:t>鐘點費：由業務承辦單位簽註</a:t>
            </a: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7c354d"/>
                </a:solidFill>
                <a:latin typeface="Constantia"/>
              </a:rPr>
              <a:t>獎助學金或退費：由業務承辦單位簽註</a:t>
            </a: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  <a:p>
            <a:pPr lvl="2" marL="1004760" indent="-22860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5,000</a:t>
            </a:r>
            <a:r>
              <a:rPr b="0" lang="zh-TW" sz="1900" spc="-1" strike="noStrike">
                <a:solidFill>
                  <a:srgbClr val="ffffff"/>
                </a:solidFill>
                <a:latin typeface="Constantia"/>
              </a:rPr>
              <a:t>元以上應檢附學生或家長之金融帳戶封面影本，並建議以金山地區農會</a:t>
            </a: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(</a:t>
            </a:r>
            <a:r>
              <a:rPr b="0" lang="zh-TW" sz="1900" spc="-1" strike="noStrike">
                <a:solidFill>
                  <a:srgbClr val="ffffff"/>
                </a:solidFill>
                <a:latin typeface="Constantia"/>
              </a:rPr>
              <a:t>及其支會</a:t>
            </a: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)</a:t>
            </a:r>
            <a:r>
              <a:rPr b="0" lang="zh-TW" sz="1900" spc="-1" strike="noStrike">
                <a:solidFill>
                  <a:srgbClr val="ffffff"/>
                </a:solidFill>
                <a:latin typeface="Constantia"/>
              </a:rPr>
              <a:t>或郵局存簿為宜</a:t>
            </a: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(</a:t>
            </a:r>
            <a:r>
              <a:rPr b="0" lang="zh-TW" sz="1900" spc="-1" strike="noStrike">
                <a:solidFill>
                  <a:srgbClr val="ffffff"/>
                </a:solidFill>
                <a:latin typeface="Constantia"/>
              </a:rPr>
              <a:t>無匯款手續費用之損失</a:t>
            </a: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)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c376b"/>
                </a:solidFill>
                <a:latin typeface="Constantia"/>
              </a:rPr>
              <a:t>如欲劃帳給家長，另須附註關係證明</a:t>
            </a:r>
            <a:r>
              <a:rPr b="0" lang="en-US" sz="1800" spc="-1" strike="noStrike">
                <a:solidFill>
                  <a:srgbClr val="4c376b"/>
                </a:solidFill>
                <a:latin typeface="Constantia"/>
              </a:rPr>
              <a:t>(</a:t>
            </a:r>
            <a:r>
              <a:rPr b="0" lang="zh-TW" sz="1800" spc="-1" strike="noStrike">
                <a:solidFill>
                  <a:srgbClr val="4c376b"/>
                </a:solidFill>
                <a:latin typeface="Constantia"/>
              </a:rPr>
              <a:t>如戶籍謄本、身分證等可確認其關係之影本</a:t>
            </a:r>
            <a:r>
              <a:rPr b="0" lang="en-US" sz="1800" spc="-1" strike="noStrike">
                <a:solidFill>
                  <a:srgbClr val="4c376b"/>
                </a:solidFill>
                <a:latin typeface="Constanti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c376b"/>
                </a:solidFill>
                <a:latin typeface="Constantia"/>
              </a:rPr>
              <a:t>確無金融帳戶者，請家長簡書簽章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5,000</a:t>
            </a:r>
            <a:r>
              <a:rPr b="0" lang="zh-TW" sz="1900" spc="-1" strike="noStrike">
                <a:solidFill>
                  <a:srgbClr val="ffffff"/>
                </a:solidFill>
                <a:latin typeface="Constantia"/>
              </a:rPr>
              <a:t>元以下如須出納轉發，對象應為在校生，清冊應有其班級、座號、姓名</a:t>
            </a: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(</a:t>
            </a:r>
            <a:r>
              <a:rPr b="0" lang="zh-TW" sz="1900" spc="-1" strike="noStrike">
                <a:solidFill>
                  <a:srgbClr val="ffffff"/>
                </a:solidFill>
                <a:latin typeface="Constantia"/>
              </a:rPr>
              <a:t>避免誤發</a:t>
            </a: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)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0" name="投影片編號版面配置區 2"/>
          <p:cNvSpPr/>
          <p:nvPr/>
        </p:nvSpPr>
        <p:spPr>
          <a:xfrm>
            <a:off x="7885080" y="6181560"/>
            <a:ext cx="113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968E6-9DEC-4E96-B106-B70121599123}" type="slidenum">
              <a:rPr b="0" lang="zh-TW" sz="2000" spc="-1" strike="noStrike">
                <a:solidFill>
                  <a:srgbClr val="fefac9"/>
                </a:solidFill>
                <a:latin typeface="Constantia"/>
                <a:ea typeface="標楷體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頁尾版面配置區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  <a:ea typeface="標楷體"/>
              </a:rPr>
              <a:t>103.06.30 </a:t>
            </a:r>
            <a:r>
              <a:rPr b="0" lang="zh-TW" sz="1200" spc="-1" strike="noStrike">
                <a:solidFill>
                  <a:srgbClr val="fefac9"/>
                </a:solidFill>
                <a:latin typeface="Constantia"/>
                <a:ea typeface="標楷體"/>
              </a:rPr>
              <a:t>總務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2" name="標題 4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5T14:10:18Z</dcterms:created>
  <dc:creator>Shie</dc:creator>
  <dc:description/>
  <dc:language>en-US</dc:language>
  <cp:lastModifiedBy>User</cp:lastModifiedBy>
  <dcterms:modified xsi:type="dcterms:W3CDTF">2014-06-27T06:47:37Z</dcterms:modified>
  <cp:revision>18</cp:revision>
  <dc:subject/>
  <dc:title>101學年度第2學期校務會議</dc:title>
</cp:coreProperties>
</file>