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3CBC-1520-4B44-AE8E-FCDFCE8D39DE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8A75-34DD-4A05-896B-EE880AAB0AA0}" type="slidenum">
              <a:rPr b="1" lang="zh-TW" sz="1200" spc="-1" strike="noStrike">
                <a:solidFill>
                  <a:srgbClr val="ffffff"/>
                </a:solidFill>
                <a:latin typeface="Verdana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A1D-D787-4243-9A40-A48E5966EEFE}" type="slidenum">
              <a:rPr b="1" lang="zh-TW" sz="1200" spc="-1" strike="noStrike">
                <a:solidFill>
                  <a:srgbClr val="ffffff"/>
                </a:solidFill>
                <a:latin typeface="Verdana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141B-3ABA-43DD-9065-0A052DA6BF48}" type="slidenum">
              <a:rPr b="1" lang="zh-TW" sz="1200" spc="-1" strike="noStrike">
                <a:solidFill>
                  <a:srgbClr val="ffffff"/>
                </a:solidFill>
                <a:latin typeface="Verdana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349-C95C-4BC3-AFA3-197BCED8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7C2-9D4C-4193-8BD5-9AC1588C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7130B-99B5-404B-BBA7-E299D5BA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60344-CA5C-49CE-A974-5B9D3A47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BB228-9EEC-4586-B755-7D2B939A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F050F-A37A-440B-8CD4-214AA10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ACC56-A075-4284-94D2-1DFDBCC5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6806A-87C7-423B-9346-B9A4810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AF2C0-B915-44D6-A6B2-AB7D5259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D58EE-672B-4429-9F1B-6FBE29B9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05C7B-0810-4848-BBD3-3779D4EA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D5ACC-768C-4318-91F4-5AC6D4E6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5C2-445B-401A-9B98-758519A8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60E54-F03D-414E-8BF8-5437B610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C3457-A17B-4785-A374-74B51516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1ACBA-2346-4A00-B360-E1B5E57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D58C6-C5DF-4BCE-8F47-8EA3D778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9105D-065E-4140-8683-7816F266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33375-4104-4FE1-BB93-CDA9A5BD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AC2EB-6E39-46B1-B141-18C8B44A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2F033-3401-4ABC-AFF3-B38CAFA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5D7EB-389C-462A-B9CA-F27B488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26A9C-BB8E-4208-9A75-EFEEBCF7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7C6-B3EA-4A42-B6D6-DC642BC0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6A1EB-BD6A-4D6A-A5DB-9A062313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57271-26B0-431A-A73E-60EBCB25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4B6AE-3794-4E12-B64B-12D4D790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4DED0-6EC0-4342-8A35-0F0116F9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4B038-D890-48EA-8E9E-6546F06E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AFED0-A8F0-4123-8EC8-075AAB29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EADF-18A4-46F8-BCF2-AAE459E1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1E50A-0313-4FBE-9ADD-5231F584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97399-761B-4677-BF38-707558E5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23077-F87B-43E1-9F26-0781BA63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C2A9-3BCE-4AC4-9DE3-D1FD5E23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CDD3-F6CC-4320-B283-6BE00AE2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1D417-99DC-4EA1-8054-7C1A15BA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99229-32DD-4444-8D52-04DDCEFC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3807-DDD6-4830-AD01-FE957ED5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C98D-9BBA-48F6-B8C8-9ECBF98E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D8A2-00E6-482B-BC1E-5C3F4867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48EA-7832-46CA-9B52-82D1B85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B84F-BA0B-4B68-A861-4BDA7EDC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757C-E52A-44FC-BC1A-AB986B7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B23-60C5-406D-A2F4-E72F821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C5D8-A83A-4BA7-8BF0-9DE15967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1078-17B8-4DDA-9C78-430D82AE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A0E9-0887-49CD-8118-5E7E098C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4DC6-00C4-4D03-9A79-7EF94EA8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3D12-040E-45EE-BD2C-5E8B059F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FABF4-FF1C-4717-9C7C-63A0745C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99C4-63F5-4E6B-B64E-AAD67D32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3B3A-8CD5-47C6-825C-1A63AC71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0BA4-AA43-497A-B13F-1CAB6DDB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5580-F8E6-4AEE-852E-07E1882C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EAC-A8FC-451C-A5C6-7759530E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82D0-48A5-429B-B67C-735F8F4C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7E6C-56EC-4F75-B278-C3F2901B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F856E-297A-49DB-A04D-54E2D5E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CB42-E394-4983-9898-0110DCF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03F9-037A-4669-9D7C-11A16A76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D336-DD91-430F-B09F-16F46084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9731-B960-46F9-9D71-84854E2E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305A0-4FE1-473F-B690-C9D98CD3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DE583-6B74-447B-9202-20EF6AFF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60DC-0577-4A15-82D8-1889EB8C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090-72F0-4B2B-95F2-090638EE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68D6-2974-40EE-850E-EFDBFE52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863E-9BED-4E5C-A9D2-9B54208D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619F-2136-4793-B6F1-983BC978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A7C55-6579-4E24-BB56-89966A2A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9C05-DDCA-4239-8DDE-B7DC412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1E5A-8A92-4788-B98A-1C5A2D2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6E86-F72A-4C52-863A-4EE612C1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0100-CE49-4414-9C8D-6AF2BBA7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DC1A-9546-4BA0-9282-213A1A40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2F7F-1933-4549-BB2C-670DF36D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150-C584-4339-A021-39A3558E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C725-C013-40DC-8349-393AB3D5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7F86C-0381-40F7-81B5-4E985F35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F1A4-355C-4186-A60F-0D6668A2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5B84E-E491-4AA3-994A-375DC223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AE1E1-56DF-4C74-B280-85A3AF3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46444-8AFE-402E-B605-AD10814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95003-8789-4295-A86F-D7D25715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72FD-8F8E-424E-8258-D166575E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2BB5-9761-4C7B-8DE6-555F35C9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9EE4D-B595-4282-82F2-9C5AB25F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041-D6F9-49A4-A977-2F5141E8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3F0B6-2A98-4FC2-B5BE-A66997A3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09F4A-9A84-4B46-904B-C4F2C283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21599-1692-49CA-9459-AFF4EB86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5DDB7-1ABE-4B1C-8DC1-B444742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FC89B-8213-459F-916A-85C2B4A9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B49D2-8259-4ED2-962A-38F36AA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2978C-919F-405E-B5B8-72032A10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B7CD7-9AFC-4B46-A563-A34D6D97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31682-A816-400E-A376-BBE68FA6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77A84-B49A-4FE7-BC9C-FE50730F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AC1-A153-48D1-8156-AF0CD57E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C5FB-EF21-4D06-B877-429FA456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90ACE-6E11-41E1-9CF7-FECC5296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45D5-BE88-4596-8EE5-82106A8E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A8F4B-1106-4A48-931B-124B1DF0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87566-5991-4143-82AB-DC43FF7F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53748-84EC-4EBF-B237-ED8DFE3C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5266E-9E6F-47D4-BBDD-6B874026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3E2D0-9DD2-4969-9494-7E40EA62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01F5-D27E-48D7-9287-D01FB032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77975-FBA6-4838-A652-D9271A3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F44-1E1E-43D0-A55D-CC66B4AA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12DB-76D6-46E1-A45E-98D17595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F80DD-206C-4979-A41E-C8D87163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34C7-9CC0-45A0-8C88-904BB2EE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38C75-D88F-46B1-AC51-8714E1CC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A6004-773C-4217-BF5C-50175880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8D314-4BBB-40CB-A442-22D61464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A036A-DED5-459C-9624-B34EEE09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D3D7-C22C-4F13-8FEE-B320F8E0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9D96F-6C5A-4C3A-B51F-B19B0FCB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B0F52-557D-49F3-9E64-4BBA1A5E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2AE-5F94-4B9D-A4EC-0835A5A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C319D-BADD-4F41-8F4F-2E1C047F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D7A80-CCA6-4A34-A438-E79F10F3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013FD-1BBF-48AE-9565-48E0C8E8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D5AE-430C-4F0D-9C1F-F50236CB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0B524-2659-43B1-BDDF-6582462E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8E647-ACA0-42C6-AC76-0D514C4F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D41B-00CB-4C96-B25B-57826BF5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92DA7-FEFC-45B6-B81A-66A2548D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09E43-DF87-4B05-BA42-F2F34883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8B50F-085D-4E52-9E25-25FEEE7C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2765-D57E-4917-BC17-B962C1D68DA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9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1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A0F7-441A-44D9-BA32-1F690B0C16E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7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9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143C-557B-4E0F-84DF-BA8B35B743A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67C6-042B-4E78-A3DF-20C77965EBE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108000" y="566100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103A-4D1D-4950-8924-9A4A9F6872FB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6764400" y="866880"/>
            <a:ext cx="2302920" cy="588960"/>
            <a:chOff x="6764400" y="866880"/>
            <a:chExt cx="2302920" cy="588960"/>
          </a:xfrm>
        </p:grpSpPr>
        <p:pic>
          <p:nvPicPr>
            <p:cNvPr id="89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6764400" y="866880"/>
              <a:ext cx="228456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0"/>
            <p:cNvSpPr/>
            <p:nvPr/>
          </p:nvSpPr>
          <p:spPr>
            <a:xfrm>
              <a:off x="7286040" y="1148760"/>
              <a:ext cx="17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標楷體"/>
                </a:rPr>
                <a:t>健康  關懷  多元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91" name="Picture 11" descr="MC900428235[1]"/>
          <p:cNvPicPr/>
          <p:nvPr/>
        </p:nvPicPr>
        <p:blipFill>
          <a:blip r:embed="rId4"/>
          <a:stretch/>
        </p:blipFill>
        <p:spPr>
          <a:xfrm flipH="1" rot="21472800">
            <a:off x="169560" y="533160"/>
            <a:ext cx="515880" cy="73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MC900072902[1]"/>
          <p:cNvPicPr/>
          <p:nvPr/>
        </p:nvPicPr>
        <p:blipFill>
          <a:blip r:embed="rId5"/>
          <a:stretch/>
        </p:blipFill>
        <p:spPr>
          <a:xfrm>
            <a:off x="395280" y="1197000"/>
            <a:ext cx="6840720" cy="7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0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3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7911-D100-41CC-8D29-13B0CFCEAB0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D226-601B-4F59-8588-52949D0AF0B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2D22-6903-4C44-B0D6-E8A7830C51A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3D47-2B76-458E-9819-C603CBCA385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8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6D65-5625-4951-BA39-5F94C574D22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圖片3"/>
          <p:cNvPicPr/>
          <p:nvPr/>
        </p:nvPicPr>
        <p:blipFill>
          <a:blip r:embed="rId2"/>
          <a:srcRect l="3308" t="36246" r="2399" b="7499"/>
          <a:stretch/>
        </p:blipFill>
        <p:spPr>
          <a:xfrm>
            <a:off x="468360" y="4799160"/>
            <a:ext cx="82090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52" name="Group 8"/>
          <p:cNvGrpSpPr/>
          <p:nvPr/>
        </p:nvGrpSpPr>
        <p:grpSpPr>
          <a:xfrm>
            <a:off x="5869080" y="333360"/>
            <a:ext cx="2950920" cy="813600"/>
            <a:chOff x="5869080" y="333360"/>
            <a:chExt cx="2950920" cy="813600"/>
          </a:xfrm>
        </p:grpSpPr>
        <p:pic>
          <p:nvPicPr>
            <p:cNvPr id="453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5869080" y="333360"/>
              <a:ext cx="29271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10"/>
            <p:cNvSpPr/>
            <p:nvPr/>
          </p:nvSpPr>
          <p:spPr>
            <a:xfrm>
              <a:off x="6537240" y="839880"/>
              <a:ext cx="22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標楷體"/>
                </a:rPr>
                <a:t>健康  關懷  多元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78D8-B45B-4E4C-A5C9-8C06CB5C22B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7636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金山高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標楷體"/>
              </a:rPr>
              <a:t>102</a:t>
            </a: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學年度第</a:t>
            </a:r>
            <a:r>
              <a:rPr b="1" lang="en-US" sz="6000" spc="-1" strike="noStrike">
                <a:solidFill>
                  <a:srgbClr val="cc3300"/>
                </a:solidFill>
                <a:latin typeface="標楷體"/>
              </a:rPr>
              <a:t>2</a:t>
            </a: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學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期末校務會議</a:t>
            </a:r>
            <a:r>
              <a:rPr b="1" lang="zh-TW" sz="6000" spc="-1" strike="noStrike">
                <a:solidFill>
                  <a:srgbClr val="0000ff"/>
                </a:solidFill>
                <a:latin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輔導處報告</a:t>
            </a:r>
            <a:r>
              <a:rPr b="1" lang="zh-TW" sz="60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標楷體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103/6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表填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表請導師於學期結束前完成相關記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配合無紙化政策及資料調閱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表將逐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年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改為線上填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家長日時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中部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期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:00-1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國中部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期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晚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:30-21: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056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Arial"/>
              </a:rPr>
              <a:t>謝謝大家的配合與協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32000" y="2130120"/>
            <a:ext cx="46785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cc3300"/>
                </a:solidFill>
                <a:latin typeface="Arial"/>
              </a:rPr>
              <a:t>暑假快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8:37:48Z</dcterms:created>
  <dc:creator>Administrator</dc:creator>
  <dc:description/>
  <dc:language>en-US</dc:language>
  <cp:lastModifiedBy>User</cp:lastModifiedBy>
  <cp:lastPrinted>2013-01-16T04:51:42Z</cp:lastPrinted>
  <dcterms:modified xsi:type="dcterms:W3CDTF">2014-06-27T06:49:08Z</dcterms:modified>
  <cp:revision>140</cp:revision>
  <dc:subject/>
  <dc:title>96學年度第1學期期末教務會議</dc:title>
</cp:coreProperties>
</file>