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476-DFE0-4246-9371-66E7092B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CBA-3235-4392-8189-90C1CF3F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EC0B-EA0F-4557-AF50-FBE06284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4F42-C7C6-48F5-A5FA-F49B33E2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862-83CB-4C14-84B3-6C20D04F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124-FE9F-49B2-B13C-C93B2A58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A1D-2E05-43DC-A379-C9201C2D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8B1-DBFD-4252-893D-F13E0FEB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39F-6367-42CC-AD82-1863C85B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6F5E-FB43-429D-8772-0C5F125D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38D-541A-4FB7-B67D-03C907D3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4AE-1F98-4653-9A4A-13D055A8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BCE0-D95D-499F-B53B-8B3748834ED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標楷體"/>
                <a:ea typeface="標楷體"/>
              </a:rPr>
              <a:t>教務處頒獎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圖片 3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251640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分組合作學習  </a:t>
            </a:r>
            <a:r>
              <a:rPr b="1" lang="zh-TW" sz="4800" spc="-1" strike="noStrike">
                <a:solidFill>
                  <a:srgbClr val="000000"/>
                </a:solidFill>
                <a:latin typeface="Calibri"/>
              </a:rPr>
              <a:t>專業社群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alibri"/>
              </a:rPr>
              <a:t>張沛檥 老師</a:t>
            </a: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、林順裕 老師、吳建璿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70c0"/>
                </a:solidFill>
                <a:latin typeface="標楷體"/>
                <a:ea typeface="標楷體"/>
              </a:rPr>
              <a:t>國際教育  </a:t>
            </a:r>
            <a:r>
              <a:rPr b="1" lang="zh-TW" sz="4800" spc="-1" strike="noStrike">
                <a:solidFill>
                  <a:srgbClr val="000000"/>
                </a:solidFill>
                <a:latin typeface="Calibri"/>
              </a:rPr>
              <a:t>推動小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alibri"/>
              </a:rPr>
              <a:t>鄭敬儀 主任</a:t>
            </a: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、林文杰 老師、王怡文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謝依萍  老師、余玥琳 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謝佳琪  老師、陳昭宏 老師、李政學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金中</a:t>
            </a:r>
            <a:r>
              <a:rPr b="1" lang="en-US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i</a:t>
            </a:r>
            <a:r>
              <a:rPr b="1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探索課程發展 </a:t>
            </a:r>
            <a:r>
              <a:rPr b="1" lang="zh-TW" sz="4800" spc="-1" strike="noStrike">
                <a:solidFill>
                  <a:srgbClr val="000000"/>
                </a:solidFill>
                <a:latin typeface="Calibri"/>
              </a:rPr>
              <a:t>專業社群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吳建璿 </a:t>
            </a:r>
            <a:r>
              <a:rPr b="0" lang="zh-TW" sz="3500" spc="-1" strike="noStrike">
                <a:solidFill>
                  <a:srgbClr val="000000"/>
                </a:solidFill>
                <a:latin typeface="Calibri"/>
              </a:rPr>
              <a:t>老師</a:t>
            </a: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、李宜芬 老師、蔡佳樺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李政學 老師、施佩吟 老師、徐紹青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龔偉遜  老師、李清波 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70c0"/>
                </a:solidFill>
                <a:latin typeface="標楷體"/>
                <a:ea typeface="標楷體"/>
              </a:rPr>
              <a:t>高中部   </a:t>
            </a: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各領域召集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李佳樺  老師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、謝佳琪  老師、林恩宇  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林文杰  老師、陳琬晴  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譚雅婷  老師、汪麗鈴  老師、陳淑芬  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國中部</a:t>
            </a:r>
            <a:r>
              <a:rPr b="1" lang="zh-TW" sz="4800" spc="-1" strike="noStrike">
                <a:solidFill>
                  <a:srgbClr val="0070c0"/>
                </a:solidFill>
                <a:latin typeface="標楷體"/>
                <a:ea typeface="標楷體"/>
              </a:rPr>
              <a:t>   </a:t>
            </a: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各領域召集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陳佳伶  老師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、黃政榕  老師、王莉婷  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林順裕  老師、陳顗安  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陳怡蒨  老師、呂榮輝  老師、鍾育倫  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01:09:01Z</dcterms:created>
  <dc:creator>User</dc:creator>
  <dc:description/>
  <dc:language>en-US</dc:language>
  <cp:lastModifiedBy>User</cp:lastModifiedBy>
  <dcterms:modified xsi:type="dcterms:W3CDTF">2014-06-30T01:37:19Z</dcterms:modified>
  <cp:revision>3</cp:revision>
  <dc:subject/>
  <dc:title>PowerPoint 簡報</dc:title>
</cp:coreProperties>
</file>