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8913-F6D0-4F36-BAFB-54284BAA799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2F08-46C2-4920-AC26-DEFD5225A2E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C36F-26FC-4931-B33F-297428B617A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6156-6B90-4E8F-B374-A17E90DB938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709-5125-447B-89E5-AA49FFA2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C07-AEE5-42DF-8295-DAD7D523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A39-882D-48E1-990B-7B745CD9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025-B9CD-4CB7-A96C-6C934D14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440-8DB7-4799-AF3F-29254AB0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495-64F6-4DBE-9116-03CA1FBB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F31-D8EC-411E-B509-1571C43D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381-1214-446F-B483-DDB06A25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BF2-3DE9-4E0B-AFE9-29C54164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D6E-51CC-48F5-930D-2DA7638C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0F2-A1C2-443D-8F89-01747859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A95-468C-4D9F-8576-24B2C749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E946-FD1F-4E9B-A7E9-505FDF287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圖檔\20130704金山荷花田.jpg"/>
          <p:cNvPicPr/>
          <p:nvPr/>
        </p:nvPicPr>
        <p:blipFill>
          <a:blip r:embed="rId1"/>
          <a:srcRect l="11362" t="0" r="0" b="0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文字方塊 1"/>
          <p:cNvSpPr/>
          <p:nvPr/>
        </p:nvSpPr>
        <p:spPr>
          <a:xfrm>
            <a:off x="901800" y="5842080"/>
            <a:ext cx="24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14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夏荷讀書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字方塊 1"/>
          <p:cNvSpPr/>
          <p:nvPr/>
        </p:nvSpPr>
        <p:spPr>
          <a:xfrm>
            <a:off x="3355920" y="838080"/>
            <a:ext cx="22381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圖書館報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140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163.20.181.11/Picture/%2F%AD%EC%A6%ED%A5%C1%C3%C0%AF%E0%AFZ%2F0990705%A4%E5%A4%C6%B0%D1%B3X--%A9_%AC%FC%B3%A1%B8%A8%A4%E5%A4%C6%A5%CD%AC%A1%C5%E9%C5%E7%C0%E7%A4%40/images/fullsize/990706109.JPG.JPG"/>
          <p:cNvPicPr/>
          <p:nvPr/>
        </p:nvPicPr>
        <p:blipFill>
          <a:blip r:embed="rId1"/>
          <a:srcRect l="8045" t="0" r="30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文字方塊 1"/>
          <p:cNvSpPr/>
          <p:nvPr/>
        </p:nvSpPr>
        <p:spPr>
          <a:xfrm>
            <a:off x="1097280" y="457200"/>
            <a:ext cx="20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奇美部落體驗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7/1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～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7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2388" t="0" r="71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文字方塊 1"/>
          <p:cNvSpPr/>
          <p:nvPr/>
        </p:nvSpPr>
        <p:spPr>
          <a:xfrm>
            <a:off x="1981080" y="5778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秋季新書準備中 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8/1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上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D:\圖檔\豐子愷.gif"/>
          <p:cNvPicPr/>
          <p:nvPr/>
        </p:nvPicPr>
        <p:blipFill>
          <a:blip r:embed="rId1"/>
          <a:stretch/>
        </p:blipFill>
        <p:spPr>
          <a:xfrm>
            <a:off x="2133720" y="11160"/>
            <a:ext cx="496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Users\圖書館主任\Desktop\01030610 教師人文讀書會--櫻梅--玫瑰的名字\DSC05051.JPG"/>
          <p:cNvPicPr/>
          <p:nvPr/>
        </p:nvPicPr>
        <p:blipFill>
          <a:blip r:embed="rId1"/>
          <a:srcRect l="2841" t="0" r="0" b="0"/>
          <a:stretch/>
        </p:blipFill>
        <p:spPr>
          <a:xfrm>
            <a:off x="0" y="1563840"/>
            <a:ext cx="9144000" cy="5294160"/>
          </a:xfrm>
          <a:prstGeom prst="rect">
            <a:avLst/>
          </a:prstGeom>
          <a:ln w="0">
            <a:noFill/>
          </a:ln>
        </p:spPr>
      </p:pic>
      <p:sp>
        <p:nvSpPr>
          <p:cNvPr id="57" name="文字方塊 1"/>
          <p:cNvSpPr/>
          <p:nvPr/>
        </p:nvSpPr>
        <p:spPr>
          <a:xfrm>
            <a:off x="2774520" y="380880"/>
            <a:ext cx="35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親愛的夥伴，我們不是分離，而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更開闊的方式手牽手，繼續愛我們的孩子與家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\Desktop\first_day_of_summer_2013-1536005-hp.gif"/>
          <p:cNvPicPr/>
          <p:nvPr/>
        </p:nvPicPr>
        <p:blipFill>
          <a:blip r:embed="rId1"/>
          <a:stretch/>
        </p:blipFill>
        <p:spPr>
          <a:xfrm>
            <a:off x="325440" y="1998720"/>
            <a:ext cx="8534520" cy="3917880"/>
          </a:xfrm>
          <a:prstGeom prst="rect">
            <a:avLst/>
          </a:prstGeom>
          <a:ln w="0">
            <a:noFill/>
          </a:ln>
        </p:spPr>
      </p:pic>
      <p:sp>
        <p:nvSpPr>
          <p:cNvPr id="59" name="文字方塊 1"/>
          <p:cNvSpPr/>
          <p:nvPr/>
        </p:nvSpPr>
        <p:spPr>
          <a:xfrm>
            <a:off x="3567240" y="9144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99"/>
                </a:solidFill>
                <a:latin typeface="標楷體"/>
                <a:ea typeface="標楷體"/>
              </a:rPr>
              <a:t>敬祝暑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06-26T00:59:44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