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0B41-1F52-42C7-B49E-413D0F985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AA23-1CF5-40FF-B0FF-EE214251B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F7F-B44F-4593-AE6A-C4A949F0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F2A-3E92-408C-AAFE-0F60B6BF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B31-8909-4257-A655-E75261D6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031-98C1-4024-9990-BFF5425E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3C8-DDC7-4C2E-B1C3-3FA7B473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6C8-4386-4F87-BFD8-D89DBEA2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FE5-67C4-426F-952E-75335D0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762-4764-485F-879F-8F1786A8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FC5-9204-4BF2-8581-3D1C02F0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5D7-8AA4-4D76-B493-0C0B2FF4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31A-7F25-43CF-8417-979E16C6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D20-2C8F-4B38-9C75-BCA4A44D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DCC-E137-4B6D-80D4-6CDACFED81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5AEE-90EB-4008-9BB1-105FA3BE9D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102</a:t>
            </a: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學年度第二學期期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校務會議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林美真校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0306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809280"/>
            <a:ext cx="7775640" cy="5715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2</a:t>
            </a:r>
            <a:r>
              <a:rPr b="1" lang="zh-TW" sz="40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</a:t>
            </a:r>
            <a:r>
              <a:rPr b="1" lang="zh-TW" sz="4000" spc="-1" strike="noStrike" u="sng">
                <a:solidFill>
                  <a:srgbClr val="0000cc"/>
                </a:solidFill>
                <a:uFillTx/>
                <a:latin typeface="超研澤中圓"/>
                <a:ea typeface="超研澤中圓"/>
              </a:rPr>
              <a:t>第二學期期初</a:t>
            </a:r>
            <a:r>
              <a:rPr b="1" lang="zh-TW" sz="40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校務研討重點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 </a:t>
            </a:r>
            <a:r>
              <a:rPr b="1" lang="zh-TW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1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優高國際教育課程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高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2. i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探索服務學習課程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國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 </a:t>
            </a:r>
            <a:r>
              <a:rPr b="1" lang="zh-TW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3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扶弱拔尖補救教學實施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國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4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多元適性學群實施研擬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高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 </a:t>
            </a:r>
            <a:r>
              <a:rPr b="1" lang="zh-TW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5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閱讀推動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6.12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年國教推動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—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生涯輔導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x</a:t>
            </a: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7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教師專業社群發展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8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閒置空間運用</a:t>
            </a:r>
            <a:br>
              <a:rPr sz="3600"/>
            </a:br>
            <a:br>
              <a:rPr sz="3200"/>
            </a:b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23640" y="1773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發揮集體智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共創美好金中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~~</a:t>
            </a:r>
            <a:r>
              <a:rPr b="0" lang="zh-TW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感謝有你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~~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4DEA-1B64-4460-B355-05AD3B2188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cshs-pcp</cp:lastModifiedBy>
  <dcterms:modified xsi:type="dcterms:W3CDTF">2014-06-30T00:50:13Z</dcterms:modified>
  <cp:revision>511</cp:revision>
  <dc:subject/>
  <dc:title>初級資訊種子學校 第三次執行情形研討會</dc:title>
</cp:coreProperties>
</file>